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EB7-4E4B-4290-9F3A-89308110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59F-0ADA-454A-B494-D150CAA8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726-43F7-4367-8E64-FE67ADCF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1A1-1B28-4D6C-A0F5-2CFD93B2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02D-E041-477B-AFD4-217D297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1E4-49E3-4A5C-8D28-CFAD91EC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467-1557-461A-B7F4-4A4055F2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28A-A754-4AB4-B20A-C1D4ED4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69A-8E5E-49BA-8F52-609C9B34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B92-A1DD-45F5-9740-CDF226D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6A9-ED16-442F-83E5-5BAFD5B6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122-1B2F-4894-B92B-59EC89C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EE4-57D5-4641-994E-1E492CBF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108080"/>
            <a:ext cx="820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760" y="1598760"/>
            <a:ext cx="736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679400"/>
            <a:ext cx="8496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000" y="866880"/>
            <a:ext cx="90345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14:55Z</dcterms:created>
  <dc:creator>Familia García López</dc:creator>
  <dc:description/>
  <dc:language>en-US</dc:language>
  <cp:lastModifiedBy>Familia García López</cp:lastModifiedBy>
  <dcterms:modified xsi:type="dcterms:W3CDTF">2010-05-31T21:29:39Z</dcterms:modified>
  <cp:revision>2</cp:revision>
  <dc:subject/>
  <dc:title>Diapositiva 1</dc:title>
</cp:coreProperties>
</file>