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D65-23A6-4FF4-AFEE-1A2A88A6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29F-776B-4D08-AFB2-0F210436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D2C-37CE-4890-A968-C6E3DED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2E0-CA6E-4024-93BE-388DE0F4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1D6-207F-450A-BE94-DC12520E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B432-C727-492F-A67A-B0CF86D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465-B730-4FFD-8BD4-12A64E0F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F89-B496-447A-A386-53A4212B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AFE-FB85-4B94-B51C-6F0F9D6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11F-88E0-44A4-928E-F75FF04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B5C-180B-4079-9A01-054283E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CBB-C7B5-48FB-98AD-77B47306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B4C-C486-43E8-BAFB-EE374674C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1108080"/>
            <a:ext cx="82090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82760" y="1598760"/>
            <a:ext cx="7365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1679400"/>
            <a:ext cx="8496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000" y="866880"/>
            <a:ext cx="90345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1:14:55Z</dcterms:created>
  <dc:creator>Familia García López</dc:creator>
  <dc:description/>
  <dc:language>en-US</dc:language>
  <cp:lastModifiedBy>Familia García López</cp:lastModifiedBy>
  <dcterms:modified xsi:type="dcterms:W3CDTF">2010-05-31T21:29:39Z</dcterms:modified>
  <cp:revision>2</cp:revision>
  <dc:subject/>
  <dc:title>Diapositiva 1</dc:title>
</cp:coreProperties>
</file>