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8482-92F3-4628-BF16-A185E882D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7D35-DAEB-41E8-A5B6-09A0B025A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AAB0-B710-4876-83D2-96199864C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596D-BD4D-4653-8795-D0E926AD7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9950-2C2F-40A7-B5A7-6942E5D6E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883C-9D39-493B-93E2-B16B356D5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5C44-9644-4C28-8466-BE84B5B89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6238-0A7A-418B-A383-63EC6A87E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2E01-0F88-48DD-8D70-61CB2E10E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8D35-9D2C-4D56-B5B1-F8F1DA4D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087F-E7A5-4C39-99EC-5C96140EA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A028-8EAD-408D-BE3D-23878E3A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039B5-74E0-4297-BDD3-DE7F121F14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95280" y="1108080"/>
            <a:ext cx="8209080" cy="45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82760" y="1598760"/>
            <a:ext cx="7365960" cy="32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24000" y="1679400"/>
            <a:ext cx="8496000" cy="39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4000" y="866880"/>
            <a:ext cx="903456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31T21:14:55Z</dcterms:created>
  <dc:creator>Familia García López</dc:creator>
  <dc:description/>
  <dc:language>en-US</dc:language>
  <cp:lastModifiedBy>Familia García López</cp:lastModifiedBy>
  <dcterms:modified xsi:type="dcterms:W3CDTF">2010-05-31T21:29:39Z</dcterms:modified>
  <cp:revision>2</cp:revision>
  <dc:subject/>
  <dc:title>Diapositiva 1</dc:title>
</cp:coreProperties>
</file>