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017-6FA7-4337-998A-DF501FE4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399-0AE2-4E85-A23E-697AA23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C6F-7A72-4B77-86B0-6108D943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8F9-D5D6-4467-85A2-F9D86869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491-3A96-49E2-AF69-12BB556B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AE6-4AC8-4258-AB7E-80E5C5E1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871-1218-4A77-971B-D1DC1BB0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38F-3CE6-49EE-861F-0C0B3949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CC7-E269-4BD7-93A2-38A249CA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AB7-49E8-4770-9772-5B046E11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94A-7E71-4965-9807-00A4A0E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A06-C2F6-42A0-BB8B-4A5AF15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6B55-B431-491A-BEB1-86BF626D4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108080"/>
            <a:ext cx="820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760" y="1598760"/>
            <a:ext cx="7365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679400"/>
            <a:ext cx="8496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000" y="866880"/>
            <a:ext cx="90345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14:55Z</dcterms:created>
  <dc:creator>Familia García López</dc:creator>
  <dc:description/>
  <dc:language>en-US</dc:language>
  <cp:lastModifiedBy>Familia García López</cp:lastModifiedBy>
  <dcterms:modified xsi:type="dcterms:W3CDTF">2010-05-31T21:29:39Z</dcterms:modified>
  <cp:revision>2</cp:revision>
  <dc:subject/>
  <dc:title>Diapositiva 1</dc:title>
</cp:coreProperties>
</file>