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F09DCC-3CC1-47B0-B037-4DF4449D6C78}"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2160" y="768240"/>
            <a:ext cx="5114880" cy="3837240"/>
          </a:xfrm>
          <a:prstGeom prst="rect">
            <a:avLst/>
          </a:prstGeom>
          <a:ln w="0">
            <a:noFill/>
          </a:ln>
        </p:spPr>
      </p:sp>
      <p:sp>
        <p:nvSpPr>
          <p:cNvPr id="1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123119-79FB-44A6-9E77-F9CB9AA54A2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BED12-DA98-4D44-A26B-AD5FF8E42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AE02B-A04F-4048-A4D6-D4D3E0934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BFBEA-B15F-43A3-9A11-76E44A17F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EB437-3B22-496E-860A-89DFE3984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11559-89C7-4B0E-B03C-96264BD0C8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1143A-9F24-4CED-ABEE-2D65EEFC4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E98B2-DCD3-4829-B1A0-3468A661F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C0E36-D7A9-48B9-A11A-3B139B291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82A53-DF08-439E-82DD-C1A617ED8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335FB-3ED6-4121-9107-DBEB626F8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145E8-29B2-4CF8-87C3-27A8A7465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9B93F-ECD8-4802-AC03-AF518A795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C3825-14C9-4616-8C7E-72FF26279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22F9F-76C7-465D-8611-04A46A268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78032-0C3E-4895-8ED3-AAE663974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7ED6E-65F1-4F7F-9973-3DD78C0626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E68214-2D44-4D29-94BA-66B8C14BF2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01CDF-E257-4F3E-BFFF-D989A34FF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A7A60-5B4D-4F98-A3C0-E3BDB0A55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2A411-8229-4FD8-A2EB-35C69939A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65BBB-E961-4818-B366-D80DAAE0B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AE84A-BA1C-4A11-9286-63E846C89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B8F66-3682-4C73-985C-B8B436C6B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90A96-668D-48C0-9C33-7200DA6C6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C790-2B2C-4010-A9D2-828B71E86EF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9B3B-10AB-4EEF-A3CF-74DCEB05571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6633"/>
                </a:solidFill>
                <a:latin typeface="Garamond"/>
              </a:rPr>
              <a:t>WACC</a:t>
            </a:r>
            <a:endParaRPr b="0" lang="en-US" sz="48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reto Tamblay</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reto@gmail.com</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130" name=""/>
          <p:cNvSpPr txBox="1"/>
          <p:nvPr/>
        </p:nvSpPr>
        <p:spPr>
          <a:xfrm>
            <a:off x="4857480" y="2714400"/>
            <a:ext cx="3714840" cy="34160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os valores corresponden a t=0…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o varían para los siguientes periodos?</a:t>
            </a:r>
            <a:endParaRPr b="0" lang="en-US" sz="3000" spc="-1" strike="noStrike">
              <a:solidFill>
                <a:srgbClr val="000000"/>
              </a:solidFill>
              <a:latin typeface="Arial"/>
            </a:endParaRPr>
          </a:p>
        </p:txBody>
      </p:sp>
      <p:graphicFrame>
        <p:nvGraphicFramePr>
          <p:cNvPr id="131" name=""/>
          <p:cNvGraphicFramePr/>
          <p:nvPr/>
        </p:nvGraphicFramePr>
        <p:xfrm>
          <a:off x="500040" y="1285920"/>
          <a:ext cx="8072640" cy="1071360"/>
        </p:xfrm>
        <a:graphic>
          <a:graphicData uri="http://schemas.openxmlformats.org/drawingml/2006/table">
            <a:tbl>
              <a:tblPr/>
              <a:tblGrid>
                <a:gridCol w="2228760"/>
                <a:gridCol w="1062000"/>
                <a:gridCol w="944640"/>
                <a:gridCol w="944640"/>
                <a:gridCol w="944640"/>
                <a:gridCol w="944640"/>
                <a:gridCol w="1003320"/>
              </a:tblGrid>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32" name=""/>
          <p:cNvGraphicFramePr/>
          <p:nvPr/>
        </p:nvGraphicFramePr>
        <p:xfrm>
          <a:off x="571680" y="2643120"/>
          <a:ext cx="2714400" cy="3357720"/>
        </p:xfrm>
        <a:graphic>
          <a:graphicData uri="http://schemas.openxmlformats.org/drawingml/2006/table">
            <a:tbl>
              <a:tblPr/>
              <a:tblGrid>
                <a:gridCol w="1428480"/>
                <a:gridCol w="128592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a:noFill/>
                    </a:lnB>
                    <a:no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66</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1</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6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
        <p:nvSpPr>
          <p:cNvPr id="133" name="Oval 17"/>
          <p:cNvSpPr/>
          <p:nvPr/>
        </p:nvSpPr>
        <p:spPr>
          <a:xfrm>
            <a:off x="3286080" y="542916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8"/>
          <p:cNvSpPr/>
          <p:nvPr/>
        </p:nvSpPr>
        <p:spPr>
          <a:xfrm>
            <a:off x="3286080" y="578628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Curved Down Arrow 36"/>
          <p:cNvSpPr/>
          <p:nvPr/>
        </p:nvSpPr>
        <p:spPr>
          <a:xfrm rot="5400000">
            <a:off x="3071520" y="3143520"/>
            <a:ext cx="857160" cy="285480"/>
          </a:xfrm>
          <a:custGeom>
            <a:avLst/>
            <a:gdLst>
              <a:gd name="textAreaLeft" fmla="*/ 187560 w 857160"/>
              <a:gd name="textAreaRight" fmla="*/ 633960 w 857160"/>
              <a:gd name="textAreaTop" fmla="*/ 38160 h 285480"/>
              <a:gd name="textAreaBottom" fmla="*/ 247320 h 285480"/>
            </a:gdLst>
            <a:ahLst/>
            <a:rect l="textAreaLeft" t="textAreaTop" r="textAreaRight" b="textAreaBottom"/>
            <a:pathLst>
              <a:path w="21600" h="21600">
                <a:moveTo>
                  <a:pt x="0" y="21600"/>
                </a:moveTo>
                <a:arcTo wR="9450" hR="21600" stAng="10800000" swAng="5400000"/>
                <a:lnTo>
                  <a:pt x="11250" y="0"/>
                </a:lnTo>
                <a:arcTo wR="9450" hR="21600" stAng="-5400000" swAng="3567133"/>
                <a:lnTo>
                  <a:pt x="21300" y="16200"/>
                </a:lnTo>
                <a:lnTo>
                  <a:pt x="19800" y="21600"/>
                </a:lnTo>
                <a:lnTo>
                  <a:pt x="17700" y="16200"/>
                </a:lnTo>
                <a:lnTo>
                  <a:pt x="18600" y="16200"/>
                </a:lnTo>
                <a:arcTo wR="9450" hR="21600" stAng="-1832867" swAng="-3423323"/>
                <a:lnTo>
                  <a:pt x="10350" y="98"/>
                </a:lnTo>
                <a:arcTo wR="9450" hR="21600" stAng="-5543810" swAng="-5256190"/>
                <a:close/>
              </a:path>
              <a:path fill="darkenLess" w="21600" h="21600">
                <a:moveTo>
                  <a:pt x="0" y="21600"/>
                </a:moveTo>
                <a:arcTo wR="9450" hR="21600" stAng="10800000" swAng="5400000"/>
                <a:lnTo>
                  <a:pt x="9450" y="0"/>
                </a:lnTo>
                <a:arcTo wR="9450" hR="21600" stAng="-5400000" swAng="143810"/>
                <a:lnTo>
                  <a:pt x="10350" y="98"/>
                </a:lnTo>
                <a:arcTo wR="9450" hR="21600" stAng="-5543810" swAng="-5256190"/>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Curved Down Arrow 37"/>
          <p:cNvSpPr/>
          <p:nvPr/>
        </p:nvSpPr>
        <p:spPr>
          <a:xfrm rot="5400000">
            <a:off x="3285720" y="3928680"/>
            <a:ext cx="1000080" cy="428760"/>
          </a:xfrm>
          <a:custGeom>
            <a:avLst/>
            <a:gdLst>
              <a:gd name="textAreaLeft" fmla="*/ 209880 w 1000080"/>
              <a:gd name="textAreaRight" fmla="*/ 736920 w 1000080"/>
              <a:gd name="textAreaTop" fmla="*/ 57240 h 428760"/>
              <a:gd name="textAreaBottom" fmla="*/ 371520 h 428760"/>
            </a:gdLst>
            <a:ahLst/>
            <a:rect l="textAreaLeft" t="textAreaTop" r="textAreaRight" b="textAreaBottom"/>
            <a:pathLst>
              <a:path w="21600" h="21600">
                <a:moveTo>
                  <a:pt x="0" y="21600"/>
                </a:moveTo>
                <a:arcTo wR="9064" hR="21600" stAng="10800000" swAng="5400000"/>
                <a:lnTo>
                  <a:pt x="11379" y="0"/>
                </a:lnTo>
                <a:arcTo wR="9064" hR="21600" stAng="-5400000" swAng="3503756"/>
                <a:lnTo>
                  <a:pt x="21312" y="16200"/>
                </a:lnTo>
                <a:lnTo>
                  <a:pt x="19286" y="21600"/>
                </a:lnTo>
                <a:lnTo>
                  <a:pt x="16683" y="16200"/>
                </a:lnTo>
                <a:lnTo>
                  <a:pt x="17840" y="16200"/>
                </a:lnTo>
                <a:arcTo wR="9064" hR="21600" stAng="-1896244" swAng="-3318194"/>
                <a:lnTo>
                  <a:pt x="10222" y="177"/>
                </a:lnTo>
                <a:arcTo wR="9064" hR="21600" stAng="-5585562" swAng="-5214438"/>
                <a:close/>
              </a:path>
              <a:path fill="darkenLess" w="21600" h="21600">
                <a:moveTo>
                  <a:pt x="0" y="21600"/>
                </a:moveTo>
                <a:arcTo wR="9064" hR="21600" stAng="10800000" swAng="5400000"/>
                <a:lnTo>
                  <a:pt x="9064" y="0"/>
                </a:lnTo>
                <a:arcTo wR="9064" hR="21600" stAng="-5400000" swAng="185562"/>
                <a:lnTo>
                  <a:pt x="10222" y="177"/>
                </a:lnTo>
                <a:arcTo wR="9064" hR="21600" stAng="-5585562" swAng="-5214438"/>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urved Down Arrow 38"/>
          <p:cNvSpPr/>
          <p:nvPr/>
        </p:nvSpPr>
        <p:spPr>
          <a:xfrm rot="5400000">
            <a:off x="3000240" y="4786200"/>
            <a:ext cx="1143000" cy="571680"/>
          </a:xfrm>
          <a:custGeom>
            <a:avLst/>
            <a:gdLst>
              <a:gd name="textAreaLeft" fmla="*/ 232200 w 1143000"/>
              <a:gd name="textAreaRight" fmla="*/ 839520 w 1143000"/>
              <a:gd name="textAreaTop" fmla="*/ 76320 h 571680"/>
              <a:gd name="textAreaBottom" fmla="*/ 495360 h 57168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urved Down Arrow 39"/>
          <p:cNvSpPr/>
          <p:nvPr/>
        </p:nvSpPr>
        <p:spPr>
          <a:xfrm flipV="1" rot="16200000">
            <a:off x="2719080" y="3923640"/>
            <a:ext cx="2847960" cy="857160"/>
          </a:xfrm>
          <a:custGeom>
            <a:avLst/>
            <a:gdLst>
              <a:gd name="textAreaLeft" fmla="*/ 631440 w 2847960"/>
              <a:gd name="textAreaRight" fmla="*/ 2109240 w 2847960"/>
              <a:gd name="textAreaTop" fmla="*/ 114840 h 857160"/>
              <a:gd name="textAreaBottom" fmla="*/ 742320 h 857160"/>
            </a:gdLst>
            <a:ahLst/>
            <a:rect l="textAreaLeft" t="textAreaTop" r="textAreaRight" b="textAreaBottom"/>
            <a:pathLst>
              <a:path w="21600" h="21600">
                <a:moveTo>
                  <a:pt x="0" y="21600"/>
                </a:moveTo>
                <a:arcTo wR="9581" hR="21600" stAng="10800000" swAng="5400000"/>
                <a:lnTo>
                  <a:pt x="11206" y="0"/>
                </a:lnTo>
                <a:arcTo wR="9581" hR="21600" stAng="-5400000" swAng="3587780"/>
                <a:lnTo>
                  <a:pt x="21296" y="16200"/>
                </a:lnTo>
                <a:lnTo>
                  <a:pt x="19975" y="21600"/>
                </a:lnTo>
                <a:lnTo>
                  <a:pt x="18045" y="16200"/>
                </a:lnTo>
                <a:lnTo>
                  <a:pt x="18858" y="16200"/>
                </a:lnTo>
                <a:arcTo wR="9581" hR="21600" stAng="-1812220" swAng="-3458061"/>
                <a:lnTo>
                  <a:pt x="10394" y="78"/>
                </a:lnTo>
                <a:arcTo wR="9581" hR="21600" stAng="-5529719" swAng="-5270281"/>
                <a:close/>
              </a:path>
              <a:path fill="darkenLess" w="21600" h="21600">
                <a:moveTo>
                  <a:pt x="0" y="21600"/>
                </a:moveTo>
                <a:arcTo wR="9581" hR="21600" stAng="10800000" swAng="5400000"/>
                <a:lnTo>
                  <a:pt x="9581" y="0"/>
                </a:lnTo>
                <a:arcTo wR="9581" hR="21600" stAng="-5400000" swAng="129719"/>
                <a:lnTo>
                  <a:pt x="10394" y="78"/>
                </a:lnTo>
                <a:arcTo wR="9581" hR="21600" stAng="-5529719" swAng="-5270281"/>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graphicFrame>
        <p:nvGraphicFramePr>
          <p:cNvPr id="140" name=""/>
          <p:cNvGraphicFramePr/>
          <p:nvPr/>
        </p:nvGraphicFramePr>
        <p:xfrm>
          <a:off x="428760" y="1143000"/>
          <a:ext cx="8286480" cy="1285920"/>
        </p:xfrm>
        <a:graphic>
          <a:graphicData uri="http://schemas.openxmlformats.org/drawingml/2006/table">
            <a:tbl>
              <a:tblPr/>
              <a:tblGrid>
                <a:gridCol w="2300040"/>
                <a:gridCol w="1062000"/>
                <a:gridCol w="944640"/>
                <a:gridCol w="944640"/>
                <a:gridCol w="944640"/>
                <a:gridCol w="944640"/>
                <a:gridCol w="1145880"/>
              </a:tblGrid>
              <a:tr h="428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4284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428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41" name=""/>
          <p:cNvGraphicFramePr/>
          <p:nvPr/>
        </p:nvGraphicFramePr>
        <p:xfrm>
          <a:off x="428760" y="2643120"/>
          <a:ext cx="8286480" cy="3730680"/>
        </p:xfrm>
        <a:graphic>
          <a:graphicData uri="http://schemas.openxmlformats.org/drawingml/2006/table">
            <a:tbl>
              <a:tblPr/>
              <a:tblGrid>
                <a:gridCol w="1506240"/>
                <a:gridCol w="1355760"/>
                <a:gridCol w="1355760"/>
                <a:gridCol w="1357560"/>
                <a:gridCol w="1355400"/>
                <a:gridCol w="135576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0</a:t>
                      </a:r>
                      <a:r>
                        <a:rPr b="1" lang="en-US" sz="2000" spc="-1" strike="noStrike">
                          <a:solidFill>
                            <a:srgbClr val="000000"/>
                          </a:solidFill>
                          <a:latin typeface="Arial"/>
                        </a:rPr>
                        <a:t> </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4</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w="18720">
                      <a:solidFill>
                        <a:srgbClr val="35742a"/>
                      </a:solidFill>
                    </a:lnB>
                    <a:solidFill>
                      <a:srgbClr val="d0eccb"/>
                    </a:solid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18720">
                      <a:solidFill>
                        <a:srgbClr val="35742a"/>
                      </a:solidFill>
                    </a:lnT>
                    <a:lnB>
                      <a:noFill/>
                    </a:lnB>
                    <a:noFill/>
                  </a:tcPr>
                </a:tc>
              </a:tr>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3%</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5%</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66</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9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3</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7</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2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9</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7</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6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5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4</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royecto Puro</a:t>
            </a:r>
            <a:endParaRPr b="0" lang="en-US" sz="4200" spc="-1" strike="noStrike">
              <a:solidFill>
                <a:srgbClr val="006633"/>
              </a:solidFill>
              <a:latin typeface="Garamond"/>
            </a:endParaRPr>
          </a:p>
        </p:txBody>
      </p:sp>
      <p:sp>
        <p:nvSpPr>
          <p:cNvPr id="143" name=""/>
          <p:cNvSpPr txBox="1"/>
          <p:nvPr/>
        </p:nvSpPr>
        <p:spPr>
          <a:xfrm>
            <a:off x="428400" y="1213920"/>
            <a:ext cx="8429400" cy="42876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FC D =0 </a:t>
            </a:r>
            <a:r>
              <a:rPr b="0" lang="es-CL" sz="2200" spc="-1" strike="noStrike">
                <a:solidFill>
                  <a:srgbClr val="000000"/>
                </a:solidFill>
                <a:latin typeface="Wingdings"/>
                <a:ea typeface="Wingdings"/>
              </a:rPr>
              <a:t></a:t>
            </a:r>
            <a:r>
              <a:rPr b="0" lang="es-CL" sz="2200" spc="-1" strike="noStrike">
                <a:solidFill>
                  <a:srgbClr val="000000"/>
                </a:solidFill>
                <a:latin typeface="Arial"/>
              </a:rPr>
              <a:t> FC P = FC V  ¿A que tasa se deben descontar?</a:t>
            </a:r>
            <a:endParaRPr b="0" lang="en-US" sz="2200" spc="-1" strike="noStrike">
              <a:solidFill>
                <a:srgbClr val="000000"/>
              </a:solidFill>
              <a:latin typeface="Arial"/>
            </a:endParaRPr>
          </a:p>
        </p:txBody>
      </p:sp>
      <p:graphicFrame>
        <p:nvGraphicFramePr>
          <p:cNvPr id="144" name=""/>
          <p:cNvGraphicFramePr/>
          <p:nvPr/>
        </p:nvGraphicFramePr>
        <p:xfrm>
          <a:off x="428760" y="1697040"/>
          <a:ext cx="8215200" cy="4782960"/>
        </p:xfrm>
        <a:graphic>
          <a:graphicData uri="http://schemas.openxmlformats.org/drawingml/2006/table">
            <a:tbl>
              <a:tblPr/>
              <a:tblGrid>
                <a:gridCol w="2108160"/>
                <a:gridCol w="1017360"/>
                <a:gridCol w="1017720"/>
                <a:gridCol w="1017720"/>
                <a:gridCol w="1019160"/>
                <a:gridCol w="1017360"/>
                <a:gridCol w="10177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P</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royecto Puro</a:t>
            </a:r>
            <a:endParaRPr b="0" lang="en-US" sz="4200" spc="-1" strike="noStrike">
              <a:solidFill>
                <a:srgbClr val="006633"/>
              </a:solidFill>
              <a:latin typeface="Garamond"/>
            </a:endParaRPr>
          </a:p>
        </p:txBody>
      </p:sp>
      <p:sp>
        <p:nvSpPr>
          <p:cNvPr id="146" name=""/>
          <p:cNvSpPr txBox="1"/>
          <p:nvPr/>
        </p:nvSpPr>
        <p:spPr>
          <a:xfrm>
            <a:off x="457200" y="1599840"/>
            <a:ext cx="8229600" cy="4329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este caso, la tasa de descuento de los activos es igual a la tasa de los accionist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el ejemplo: Rp = 12% + 8%*1= 20%</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uego, el valor del proyecto es el VP de sus flujos futuros = 2.105</a:t>
            </a:r>
            <a:endParaRPr b="0" lang="en-US" sz="3000" spc="-1" strike="noStrike">
              <a:solidFill>
                <a:srgbClr val="000000"/>
              </a:solidFill>
              <a:latin typeface="Arial"/>
            </a:endParaRPr>
          </a:p>
        </p:txBody>
      </p:sp>
      <mc:AlternateContent>
        <mc:Choice xmlns:a14="http://schemas.microsoft.com/office/drawing/2010/main" Requires="a14">
          <p:sp>
            <p:nvSpPr>
              <p:cNvPr id="147" name="Object 3"/>
              <p:cNvSpPr txBox="1"/>
              <p:nvPr/>
            </p:nvSpPr>
            <p:spPr>
              <a:xfrm>
                <a:off x="1071720" y="2786040"/>
                <a:ext cx="4060800" cy="1357200"/>
              </a:xfrm>
              <a:prstGeom prst="rect">
                <a:avLst/>
              </a:prstGeom>
            </p:spPr>
            <p:txBody>
              <a:bodyPr/>
              <a:p>
                <a14:m>
                  <m:oMath xmlns:m="http://schemas.openxmlformats.org/officeDocument/2006/math">
                    <m:eqArr>
                      <m:e>
                        <m:r>
                          <m:rPr>
                            <m:lit/>
                            <m:nor/>
                          </m:rPr>
                          <m:t xml:space="preserve">WACC</m:t>
                        </m:r>
                        <m:r>
                          <m:t xml:space="preserve">=</m:t>
                        </m:r>
                        <m:sSub>
                          <m:e>
                            <m:r>
                              <m:t xml:space="preserve">R</m:t>
                            </m:r>
                          </m:e>
                          <m:sub>
                            <m:r>
                              <m:t xml:space="preserve">p</m:t>
                            </m:r>
                          </m:sub>
                        </m:sSub>
                        <m:f>
                          <m:num>
                            <m:r>
                              <m:t xml:space="preserve">P</m:t>
                            </m:r>
                          </m:num>
                          <m:den>
                            <m:r>
                              <m:t xml:space="preserve">V</m:t>
                            </m:r>
                          </m:den>
                        </m:f>
                        <m:r>
                          <m:t xml:space="preserve">+</m:t>
                        </m:r>
                        <m:sSub>
                          <m:e>
                            <m:r>
                              <m:t xml:space="preserve">R</m:t>
                            </m:r>
                          </m:e>
                          <m:sub>
                            <m:r>
                              <m:t xml:space="preserve">d</m:t>
                            </m:r>
                          </m:sub>
                        </m:sSub>
                        <m:d>
                          <m:dPr>
                            <m:begChr m:val="("/>
                            <m:endChr m:val=")"/>
                          </m:dPr>
                          <m:e>
                            <m:r>
                              <m:t xml:space="preserve">1</m:t>
                            </m:r>
                            <m:r>
                              <m:t xml:space="preserve">−</m:t>
                            </m:r>
                            <m:r>
                              <m:t xml:space="preserve">T</m:t>
                            </m:r>
                          </m:e>
                        </m:d>
                        <m:f>
                          <m:num>
                            <m:r>
                              <m:t xml:space="preserve">D</m:t>
                            </m:r>
                          </m:num>
                          <m:den>
                            <m:r>
                              <m:t xml:space="preserve">V</m:t>
                            </m:r>
                          </m:den>
                        </m:f>
                      </m:e>
                      <m:e>
                        <m:r>
                          <m:rPr>
                            <m:lit/>
                            <m:nor/>
                          </m:rPr>
                          <m:t xml:space="preserve">WACC</m:t>
                        </m:r>
                        <m:r>
                          <m:t xml:space="preserve">=</m:t>
                        </m:r>
                        <m:sSub>
                          <m:e>
                            <m:r>
                              <m:t xml:space="preserve">R</m:t>
                            </m:r>
                          </m:e>
                          <m:sub>
                            <m:r>
                              <m:t xml:space="preserve">p</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49" name=""/>
          <p:cNvSpPr txBox="1"/>
          <p:nvPr/>
        </p:nvSpPr>
        <p:spPr>
          <a:xfrm>
            <a:off x="428760" y="3099960"/>
            <a:ext cx="8229600" cy="297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P V (t=0, 16,8%, con deuda) = 2.367</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P V (t=0, 20%, sin deuda) = 2.10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deuda genera un aumento en el valor del proyecto </a:t>
            </a:r>
            <a:r>
              <a:rPr b="0" lang="es-CL" sz="3000" spc="-1" strike="noStrike">
                <a:solidFill>
                  <a:srgbClr val="000000"/>
                </a:solidFill>
                <a:latin typeface="Wingdings"/>
                <a:ea typeface="Wingdings"/>
              </a:rPr>
              <a:t></a:t>
            </a:r>
            <a:r>
              <a:rPr b="0" lang="es-CL" sz="3000" spc="-1" strike="noStrike">
                <a:solidFill>
                  <a:srgbClr val="000000"/>
                </a:solidFill>
                <a:latin typeface="Arial"/>
              </a:rPr>
              <a:t> Escudo Tributario</a:t>
            </a:r>
            <a:endParaRPr b="0" lang="en-US" sz="3000" spc="-1" strike="noStrike">
              <a:solidFill>
                <a:srgbClr val="000000"/>
              </a:solidFill>
              <a:latin typeface="Arial"/>
            </a:endParaRPr>
          </a:p>
        </p:txBody>
      </p:sp>
      <p:graphicFrame>
        <p:nvGraphicFramePr>
          <p:cNvPr id="150" name=""/>
          <p:cNvGraphicFramePr/>
          <p:nvPr/>
        </p:nvGraphicFramePr>
        <p:xfrm>
          <a:off x="428760" y="1500120"/>
          <a:ext cx="8215200" cy="1482840"/>
        </p:xfrm>
        <a:graphic>
          <a:graphicData uri="http://schemas.openxmlformats.org/drawingml/2006/table">
            <a:tbl>
              <a:tblPr/>
              <a:tblGrid>
                <a:gridCol w="2108160"/>
                <a:gridCol w="1017360"/>
                <a:gridCol w="1017720"/>
                <a:gridCol w="1017720"/>
                <a:gridCol w="1019160"/>
                <a:gridCol w="1017360"/>
                <a:gridCol w="1017720"/>
              </a:tblGrid>
              <a:tr h="3682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a:noFill/>
                    </a:lnL>
                    <a:lnR w="4320">
                      <a:solidFill>
                        <a:srgbClr val="cc9800"/>
                      </a:solidFill>
                    </a:lnR>
                    <a:lnT w="4320">
                      <a:solidFill>
                        <a:srgbClr val="cc9800"/>
                      </a:solidFill>
                    </a:lnT>
                    <a:lnB w="4320">
                      <a:solidFill>
                        <a:srgbClr val="cc9800"/>
                      </a:solidFill>
                    </a:lnB>
                    <a:solidFill>
                      <a:srgbClr val="cc9900"/>
                    </a:solidFill>
                  </a:tcPr>
                </a:tc>
              </a:tr>
              <a:tr h="5583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 con deuda</a:t>
                      </a: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5,5</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6,4</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7,3</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8,2</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9,1</a:t>
                      </a:r>
                      <a:endParaRPr b="0" lang="en-US" sz="1800" spc="-1" strike="noStrike">
                        <a:solidFill>
                          <a:srgbClr val="000000"/>
                        </a:solidFill>
                        <a:latin typeface="Arial"/>
                      </a:endParaRPr>
                    </a:p>
                  </a:txBody>
                  <a:tcPr anchor="b" marL="9360" marR="9360">
                    <a:lnL>
                      <a:noFill/>
                    </a:lnL>
                    <a:lnR w="4320">
                      <a:solidFill>
                        <a:srgbClr val="cc9800"/>
                      </a:solidFill>
                    </a:lnR>
                    <a:lnT w="4320">
                      <a:solidFill>
                        <a:srgbClr val="cc9800"/>
                      </a:solidFill>
                    </a:lnT>
                    <a:lnB w="4320">
                      <a:solidFill>
                        <a:srgbClr val="cc9800"/>
                      </a:solidFill>
                    </a:lnB>
                    <a:noFill/>
                  </a:tcPr>
                </a:tc>
              </a:tr>
              <a:tr h="5583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 sin deuda</a:t>
                      </a: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a:noFill/>
                    </a:lnL>
                    <a:lnR w="4320">
                      <a:solidFill>
                        <a:srgbClr val="cc9800"/>
                      </a:solidFill>
                    </a:lnR>
                    <a:lnT w="4320">
                      <a:solidFill>
                        <a:srgbClr val="cc9800"/>
                      </a:solidFill>
                    </a:lnT>
                    <a:lnB w="4320">
                      <a:solidFill>
                        <a:srgbClr val="cc98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EJERCICIOS</a:t>
            </a:r>
            <a:endParaRPr b="0" lang="en-US" sz="4000" spc="-1" strike="noStrike">
              <a:solidFill>
                <a:srgbClr val="006633"/>
              </a:solidFill>
              <a:latin typeface="Garamond"/>
            </a:endParaRPr>
          </a:p>
        </p:txBody>
      </p:sp>
      <p:sp>
        <p:nvSpPr>
          <p:cNvPr id="15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ha contratado a Ud. para que estime el costo de capital de CODELCO, o equivalentemente la tasa de descuento a utilizar en los proyectos nuevos de CODELC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Como la empresa de cobre no transa en bolsa, Ud. dispone de un conjunto de información la que se presenta a continuación:</a:t>
            </a:r>
            <a:endParaRPr b="0" lang="en-US" sz="2200" spc="-1" strike="noStrike">
              <a:solidFill>
                <a:srgbClr val="000000"/>
              </a:solidFill>
              <a:latin typeface="Arial"/>
            </a:endParaRPr>
          </a:p>
        </p:txBody>
      </p:sp>
      <p:pic>
        <p:nvPicPr>
          <p:cNvPr id="155" name="Picture 2" descr=""/>
          <p:cNvPicPr/>
          <p:nvPr/>
        </p:nvPicPr>
        <p:blipFill>
          <a:blip r:embed="rId1"/>
          <a:srcRect l="0" t="12069" r="0" b="0"/>
          <a:stretch/>
        </p:blipFill>
        <p:spPr>
          <a:xfrm>
            <a:off x="2714760" y="3500280"/>
            <a:ext cx="6116400" cy="285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7"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estima que CODELCO puede acceder a financiamiento internacional en promedio a tasa libre de riesgo más un spread de 231 puntos base, y la composición de deuda y patrimonio son, a valores de mercado, 21,9% y 78,1% respectivamente. Codelco tributa con una tasa del 16%.</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a parte, la estimación del retorno del patrimonio se basa exclusivamente en el modelo CAPM al cual se le debería agregar una prima por riesgo asociado al riesgo país (equivalente al spread de 231 puntos). La prima por riesgo de mercado internacional es de 7,75% nominal anual, y la tasa libre de riesgo en dólares es de un 5% anual nomi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zando la información aquí entregada, estime cuál es el costo de capital de CODELCO, estimando que la tasa de inflación anual esperada en dólares (i.e. internacional) es de 2,2%</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empresa CODELCO ha decidido diversificarse y ha decidido entrar en el negocio del fútbol, comprando la propiedad del Estadio de fútbol Santa Laura de Santiago. Usted sabe además que la tasa de descuento del actual dueño del estadio, el equipo Unión Española, es del 19,77%. Estudie, sin necesidad de calcular su valor, cual sería la tasa de descuento apropiada para analizar el proyect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2:</a:t>
            </a:r>
            <a:endParaRPr b="0" lang="en-US" sz="4200" spc="-1" strike="noStrike">
              <a:solidFill>
                <a:srgbClr val="006633"/>
              </a:solidFill>
              <a:latin typeface="Garamond"/>
            </a:endParaRPr>
          </a:p>
        </p:txBody>
      </p:sp>
      <p:sp>
        <p:nvSpPr>
          <p:cNvPr id="161" name=""/>
          <p:cNvSpPr txBox="1"/>
          <p:nvPr/>
        </p:nvSpPr>
        <p:spPr>
          <a:xfrm>
            <a:off x="457200" y="1500120"/>
            <a:ext cx="8229600" cy="4530960"/>
          </a:xfrm>
          <a:prstGeom prst="rect">
            <a:avLst/>
          </a:prstGeom>
          <a:noFill/>
          <a:ln w="0">
            <a:noFill/>
          </a:ln>
        </p:spPr>
        <p:txBody>
          <a:bodyPr anchor="t">
            <a:normAutofit fontScale="97000"/>
          </a:bodyPr>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 proyecto de inversión en la empresa MultiPasta tiene el siguiente cuadro de flujos de caja </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beta de los activos de esta empresa es de 1,5. Sin embargo, este proyecto es ligeramente más arriesgado que los anteriores y, por tanto, su beta es ligeramente superior: 1,7. El interés efectivo anual de la renta fija a corto plazo es del 4% y la rentabilidad media del mercado el 7%. Escoja la respuesta correcta:</a:t>
            </a:r>
            <a:endParaRPr b="0" lang="en-US" sz="22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hazamos realizar el proyecto pues el PRC es demasiado largo.</a:t>
            </a:r>
            <a:endParaRPr b="0" lang="en-US" sz="18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eptamos realizar esta inversión porque su VAN es positivo.</a:t>
            </a:r>
            <a:endParaRPr b="0" lang="en-US" sz="18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hazamos realizar esta inversión por tener un VAN negativo</a:t>
            </a:r>
            <a:endParaRPr b="0" lang="en-US" sz="1800" spc="-1" strike="noStrike">
              <a:solidFill>
                <a:srgbClr val="000000"/>
              </a:solidFill>
              <a:latin typeface="Arial"/>
            </a:endParaRPr>
          </a:p>
        </p:txBody>
      </p:sp>
      <p:graphicFrame>
        <p:nvGraphicFramePr>
          <p:cNvPr id="162" name=""/>
          <p:cNvGraphicFramePr/>
          <p:nvPr/>
        </p:nvGraphicFramePr>
        <p:xfrm>
          <a:off x="928800" y="2357280"/>
          <a:ext cx="7418160" cy="609840"/>
        </p:xfrm>
        <a:graphic>
          <a:graphicData uri="http://schemas.openxmlformats.org/drawingml/2006/table">
            <a:tbl>
              <a:tblPr/>
              <a:tblGrid>
                <a:gridCol w="1854000"/>
                <a:gridCol w="1854360"/>
                <a:gridCol w="1854000"/>
                <a:gridCol w="1855800"/>
              </a:tblGrid>
              <a:tr h="30528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ños</a:t>
                      </a:r>
                      <a:endParaRPr b="0" lang="en-US" sz="20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a:t>
                      </a:r>
                      <a:endParaRPr b="0" lang="en-US" sz="20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r h="30528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tidades</a:t>
                      </a:r>
                      <a:endParaRPr b="0" lang="en-US" sz="20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0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6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3</a:t>
                      </a:r>
                      <a:endParaRPr b="0" lang="en-US" sz="20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ra evaluar un proyecto…</a:t>
            </a:r>
            <a:endParaRPr b="0" lang="en-US" sz="4200" spc="-1" strike="noStrike">
              <a:solidFill>
                <a:srgbClr val="006633"/>
              </a:solidFill>
              <a:latin typeface="Garamond"/>
            </a:endParaRPr>
          </a:p>
        </p:txBody>
      </p:sp>
      <p:sp>
        <p:nvSpPr>
          <p:cNvPr id="96" name=""/>
          <p:cNvSpPr txBox="1"/>
          <p:nvPr/>
        </p:nvSpPr>
        <p:spPr>
          <a:xfrm>
            <a:off x="457200" y="1600200"/>
            <a:ext cx="8229600" cy="21146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nto el flujo de caja como su correspondiente tasa de descuento, defieren segun para quien se este evaluando un proyecto</a:t>
            </a:r>
            <a:endParaRPr b="0" lang="en-US" sz="3000" spc="-1" strike="noStrike">
              <a:solidFill>
                <a:srgbClr val="000000"/>
              </a:solidFill>
              <a:latin typeface="Arial"/>
            </a:endParaRPr>
          </a:p>
        </p:txBody>
      </p:sp>
      <p:sp>
        <p:nvSpPr>
          <p:cNvPr id="97" name="Rectangle 3"/>
          <p:cNvSpPr/>
          <p:nvPr/>
        </p:nvSpPr>
        <p:spPr>
          <a:xfrm>
            <a:off x="2786040" y="3571920"/>
            <a:ext cx="1785960" cy="2357280"/>
          </a:xfrm>
          <a:prstGeom prst="rect">
            <a:avLst/>
          </a:prstGeom>
          <a:solidFill>
            <a:srgbClr val="ffffff"/>
          </a:solidFill>
          <a:ln w="38160">
            <a:solidFill>
              <a:srgbClr val="cc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ivos: Proyecto / Empresa</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a=WACC</a:t>
            </a:r>
            <a:endParaRPr b="0" lang="en-US" sz="2200" spc="-1" strike="noStrike">
              <a:solidFill>
                <a:srgbClr val="000000"/>
              </a:solidFill>
              <a:latin typeface="Arial"/>
            </a:endParaRPr>
          </a:p>
        </p:txBody>
      </p:sp>
      <p:sp>
        <p:nvSpPr>
          <p:cNvPr id="98" name="Rectangle 4"/>
          <p:cNvSpPr/>
          <p:nvPr/>
        </p:nvSpPr>
        <p:spPr>
          <a:xfrm>
            <a:off x="4572000" y="3571920"/>
            <a:ext cx="1785960" cy="1000080"/>
          </a:xfrm>
          <a:prstGeom prst="rect">
            <a:avLst/>
          </a:prstGeom>
          <a:solidFill>
            <a:srgbClr val="ffffff"/>
          </a:solidFill>
          <a:ln w="38160">
            <a:solidFill>
              <a:srgbClr val="3b81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uda: Acreedore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d</a:t>
            </a:r>
            <a:endParaRPr b="0" lang="en-US" sz="2200" spc="-1" strike="noStrike">
              <a:solidFill>
                <a:srgbClr val="000000"/>
              </a:solidFill>
              <a:latin typeface="Arial"/>
            </a:endParaRPr>
          </a:p>
        </p:txBody>
      </p:sp>
      <p:sp>
        <p:nvSpPr>
          <p:cNvPr id="99" name="Rectangle 5"/>
          <p:cNvSpPr/>
          <p:nvPr/>
        </p:nvSpPr>
        <p:spPr>
          <a:xfrm>
            <a:off x="4572000" y="4572000"/>
            <a:ext cx="1785960" cy="1357200"/>
          </a:xfrm>
          <a:prstGeom prst="rect">
            <a:avLst/>
          </a:prstGeom>
          <a:solidFill>
            <a:srgbClr val="ffffff"/>
          </a:solidFill>
          <a:ln w="38160">
            <a:solidFill>
              <a:srgbClr val="3b81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atrimonio: Accionista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p</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P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3:</a:t>
            </a:r>
            <a:endParaRPr b="0" lang="en-US" sz="4200" spc="-1" strike="noStrike">
              <a:solidFill>
                <a:srgbClr val="006633"/>
              </a:solidFill>
              <a:latin typeface="Garamond"/>
            </a:endParaRPr>
          </a:p>
        </p:txBody>
      </p:sp>
      <p:sp>
        <p:nvSpPr>
          <p:cNvPr id="164" name=""/>
          <p:cNvSpPr txBox="1"/>
          <p:nvPr/>
        </p:nvSpPr>
        <p:spPr>
          <a:xfrm>
            <a:off x="457200" y="1428480"/>
            <a:ext cx="8229600" cy="4786200"/>
          </a:xfrm>
          <a:prstGeom prst="rect">
            <a:avLst/>
          </a:prstGeom>
          <a:noFill/>
          <a:ln w="0">
            <a:noFill/>
          </a:ln>
        </p:spPr>
        <p:txBody>
          <a:bodyPr anchor="t">
            <a:normAutofit fontScale="99000"/>
          </a:bodyPr>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tienen los siguientes datos de una empresa:  </a:t>
            </a:r>
            <a:endParaRPr b="0" lang="en-US" sz="24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β</a:t>
            </a:r>
            <a:r>
              <a:rPr b="0" lang="es-ES" sz="2000" spc="-1" strike="noStrike" baseline="-25000">
                <a:solidFill>
                  <a:srgbClr val="000000"/>
                </a:solidFill>
                <a:latin typeface="Arial"/>
              </a:rPr>
              <a:t>activos</a:t>
            </a:r>
            <a:r>
              <a:rPr b="0" lang="es-ES" sz="2000" spc="-1" strike="noStrike">
                <a:solidFill>
                  <a:srgbClr val="000000"/>
                </a:solidFill>
                <a:latin typeface="Arial"/>
              </a:rPr>
              <a:t> = 1,5,  β</a:t>
            </a:r>
            <a:r>
              <a:rPr b="0" lang="es-ES" sz="2000" spc="-1" strike="noStrike" baseline="-25000">
                <a:solidFill>
                  <a:srgbClr val="000000"/>
                </a:solidFill>
                <a:latin typeface="Arial"/>
              </a:rPr>
              <a:t>deuda </a:t>
            </a:r>
            <a:r>
              <a:rPr b="0" lang="es-ES" sz="2000" spc="-1" strike="noStrike">
                <a:solidFill>
                  <a:srgbClr val="000000"/>
                </a:solidFill>
                <a:latin typeface="Arial"/>
              </a:rPr>
              <a:t> = 1,  T = 15%</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torno promedio mercado = 12%</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torno activo libre de riesgo = 6%</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zón deuda/ activos = 0.7</a:t>
            </a:r>
            <a:endParaRPr b="0" lang="en-US" sz="20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lcular el VPN del siguiente proyecto que tiene en perspectiva esta empresa:</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 es el precio de una acción de esta empresa, si entregará un dividendo anual de 250 durante 3 años, a partir del año 1.</a:t>
            </a:r>
            <a:endParaRPr b="0" lang="en-US" sz="2400" spc="-1" strike="noStrike">
              <a:solidFill>
                <a:srgbClr val="000000"/>
              </a:solidFill>
              <a:latin typeface="Arial"/>
            </a:endParaRPr>
          </a:p>
        </p:txBody>
      </p:sp>
      <p:graphicFrame>
        <p:nvGraphicFramePr>
          <p:cNvPr id="165" name=""/>
          <p:cNvGraphicFramePr/>
          <p:nvPr/>
        </p:nvGraphicFramePr>
        <p:xfrm>
          <a:off x="928800" y="4208400"/>
          <a:ext cx="7786440" cy="669960"/>
        </p:xfrm>
        <a:graphic>
          <a:graphicData uri="http://schemas.openxmlformats.org/drawingml/2006/table">
            <a:tbl>
              <a:tblPr/>
              <a:tblGrid>
                <a:gridCol w="1557360"/>
                <a:gridCol w="1557360"/>
                <a:gridCol w="1557360"/>
                <a:gridCol w="1557000"/>
                <a:gridCol w="1557360"/>
              </a:tblGrid>
              <a:tr h="33552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nversión</a:t>
                      </a:r>
                      <a:endParaRPr b="0" lang="en-US" sz="22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1</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2</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 3 </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 4</a:t>
                      </a:r>
                      <a:endParaRPr b="0" lang="en-US" sz="22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r h="33552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000</a:t>
                      </a:r>
                      <a:endParaRPr b="0" lang="en-US" sz="22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6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4:</a:t>
            </a:r>
            <a:endParaRPr b="0" lang="en-US" sz="4200" spc="-1" strike="noStrike">
              <a:solidFill>
                <a:srgbClr val="006633"/>
              </a:solidFill>
              <a:latin typeface="Garamond"/>
            </a:endParaRPr>
          </a:p>
        </p:txBody>
      </p:sp>
      <p:sp>
        <p:nvSpPr>
          <p:cNvPr id="167"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a persona que posee una empresa de TV Cable en Concepción, y le ha pedido a usted que le determine la tasa de descuento para evaluar un proyecto de ampliación del negocio. </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sted ha averiguado, por medio de internet, que las acciones de las empresas en el negocio de TV Cable en Estados Unidos tiene un coeficiente beta de 1,36 (con efecto deuda), una razón deuda/ patrimonio promedio de 108,29% (en valores de mercado), y una tasa de impuesto efectivo a las utilidades de 3,28%.</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4:</a:t>
            </a:r>
            <a:endParaRPr b="0" lang="en-US" sz="4200" spc="-1" strike="noStrike">
              <a:solidFill>
                <a:srgbClr val="006633"/>
              </a:solidFill>
              <a:latin typeface="Garamond"/>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r otro lado, se sabe que en ese mismo mercado la tasa libre de riesgo es de 5,5%, y el retorno de la cartera de mercado es de 13%.</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razón de deuda/patrimonio promedio de la empresa de su padre es 83%, y tiene acceso a endeudamiento con una tasa de interés del 6% anual. </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remio por riesgo país de Chile es en la actualidad de 2,25%, y la tasa de impuestos es de 15%.</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lcule la tasa de descuento solicitada por su padre mediante el método del costo de capital promedio ponderad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Ejemplo 5:</a:t>
            </a:r>
            <a:endParaRPr b="0" lang="en-US" sz="4200" spc="-1" strike="noStrike">
              <a:solidFill>
                <a:srgbClr val="006633"/>
              </a:solidFill>
              <a:latin typeface="Garamond"/>
            </a:endParaRPr>
          </a:p>
        </p:txBody>
      </p:sp>
      <p:sp>
        <p:nvSpPr>
          <p:cNvPr id="171" name=""/>
          <p:cNvSpPr txBox="1"/>
          <p:nvPr/>
        </p:nvSpPr>
        <p:spPr>
          <a:xfrm>
            <a:off x="457200" y="1071360"/>
            <a:ext cx="8229600" cy="505908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Una compañía tiene una deuda equivalente al 20% de su valor.</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l gerente de finanzas piensa que aun puede endeudarse hasta un equivalente de 35%, sin perder la posibilidad de endeudarse a una tasa de 7%, equivalente a la tasa libre de riesgo.</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compañía enfrenta un tasa impositiva del 50%.</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tasa de rentabilidad esperada del mercado es de 17%.</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l beta leverage de la compañía, en las actuales condiciones, se estima en 0,5.</a:t>
            </a:r>
            <a:endParaRPr b="0" lang="en-US" sz="21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es el actual costo de capital de la compañía?</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es su actual costo de capital de los accionistas?</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seria el costo de capital de la Cia. Si la deuda aumenta al 35% de su valor?</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bería la compañía ejecutar un proyecto con retorno esperado de 9,25% si su riesgo sistemático es igual al de la compañ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1" name=""/>
          <p:cNvSpPr txBox="1"/>
          <p:nvPr/>
        </p:nvSpPr>
        <p:spPr>
          <a:xfrm>
            <a:off x="457200" y="1357200"/>
            <a:ext cx="8229600" cy="9288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pongamos que un grupo de accionistas participa de la siguiente empresa:</a:t>
            </a:r>
            <a:endParaRPr b="0" lang="en-US" sz="2200" spc="-1" strike="noStrike">
              <a:solidFill>
                <a:srgbClr val="000000"/>
              </a:solidFill>
              <a:latin typeface="Arial"/>
            </a:endParaRPr>
          </a:p>
        </p:txBody>
      </p:sp>
      <p:graphicFrame>
        <p:nvGraphicFramePr>
          <p:cNvPr id="102" name=""/>
          <p:cNvGraphicFramePr/>
          <p:nvPr/>
        </p:nvGraphicFramePr>
        <p:xfrm>
          <a:off x="428760" y="2286000"/>
          <a:ext cx="8215200" cy="3708360"/>
        </p:xfrm>
        <a:graphic>
          <a:graphicData uri="http://schemas.openxmlformats.org/drawingml/2006/table">
            <a:tbl>
              <a:tblPr/>
              <a:tblGrid>
                <a:gridCol w="2108160"/>
                <a:gridCol w="1017360"/>
                <a:gridCol w="1017720"/>
                <a:gridCol w="1017720"/>
                <a:gridCol w="1019160"/>
                <a:gridCol w="1017360"/>
                <a:gridCol w="10177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3,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2,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1,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0,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4" name=""/>
          <p:cNvSpPr txBox="1"/>
          <p:nvPr/>
        </p:nvSpPr>
        <p:spPr>
          <a:xfrm>
            <a:off x="457200" y="1356840"/>
            <a:ext cx="8229600" cy="50004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FC de accionistas, acreedores y de los activos son:</a:t>
            </a:r>
            <a:endParaRPr b="0" lang="en-US" sz="2200" spc="-1" strike="noStrike">
              <a:solidFill>
                <a:srgbClr val="000000"/>
              </a:solidFill>
              <a:latin typeface="Arial"/>
            </a:endParaRPr>
          </a:p>
        </p:txBody>
      </p:sp>
      <p:graphicFrame>
        <p:nvGraphicFramePr>
          <p:cNvPr id="105" name=""/>
          <p:cNvGraphicFramePr/>
          <p:nvPr/>
        </p:nvGraphicFramePr>
        <p:xfrm>
          <a:off x="500040" y="1785960"/>
          <a:ext cx="8215200" cy="4875120"/>
        </p:xfrm>
        <a:graphic>
          <a:graphicData uri="http://schemas.openxmlformats.org/drawingml/2006/table">
            <a:tbl>
              <a:tblPr/>
              <a:tblGrid>
                <a:gridCol w="2108160"/>
                <a:gridCol w="1017720"/>
                <a:gridCol w="1017360"/>
                <a:gridCol w="1017720"/>
                <a:gridCol w="1019160"/>
                <a:gridCol w="1017720"/>
                <a:gridCol w="10173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3,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2,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1,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0,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P</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8,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6,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7,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8,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9,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7"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onde:</a:t>
            </a:r>
            <a:endParaRPr b="0" lang="en-US" sz="28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f = 12%</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ima por riesgo = 8%</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d = 13%</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βu=1</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 = 35%</a:t>
            </a:r>
            <a:endParaRPr b="0" lang="en-US" sz="2400" spc="-1" strike="noStrike">
              <a:solidFill>
                <a:srgbClr val="000000"/>
              </a:solidFill>
              <a:latin typeface="Arial"/>
            </a:endParaRPr>
          </a:p>
          <a:p>
            <a:pPr marL="339480" indent="-3394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en el periodo t=0 se evalúa un proyecto para:</a:t>
            </a:r>
            <a:endParaRPr b="0" lang="en-US" sz="28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reedores: descontar FC D a Rd</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cionistas: descontar FC P a Rp</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mpresa: descontar FC V a WACC</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9" name=""/>
          <p:cNvSpPr txBox="1"/>
          <p:nvPr/>
        </p:nvSpPr>
        <p:spPr>
          <a:xfrm>
            <a:off x="457200" y="1357200"/>
            <a:ext cx="8229600" cy="48578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nd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d=13%</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p=Rf+βL*prima por riesg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se asume beta d = 0</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 D y V son medidos a valor de mercado, es decir, el valor presente de sus flujos futuros descontados a la tasa respectiva</a:t>
            </a:r>
            <a:endParaRPr b="0" lang="en-US" sz="3000" spc="-1" strike="noStrike">
              <a:solidFill>
                <a:srgbClr val="000000"/>
              </a:solidFill>
              <a:latin typeface="Arial"/>
            </a:endParaRPr>
          </a:p>
        </p:txBody>
      </p:sp>
      <mc:AlternateContent>
        <mc:Choice xmlns:a14="http://schemas.microsoft.com/office/drawing/2010/main" Requires="a14">
          <p:sp>
            <p:nvSpPr>
              <p:cNvPr id="110" name="Object 2"/>
              <p:cNvSpPr txBox="1"/>
              <p:nvPr/>
            </p:nvSpPr>
            <p:spPr>
              <a:xfrm>
                <a:off x="1857240" y="2865600"/>
                <a:ext cx="4429440" cy="803160"/>
              </a:xfrm>
              <a:prstGeom prst="rect">
                <a:avLst/>
              </a:prstGeom>
            </p:spPr>
            <p:txBody>
              <a:bodyPr/>
              <a:p>
                <a14:m>
                  <m:oMath xmlns:m="http://schemas.openxmlformats.org/officeDocument/2006/math">
                    <m:sSub>
                      <m:e>
                        <m:r>
                          <m:t xml:space="preserve">β</m:t>
                        </m:r>
                      </m:e>
                      <m:sub>
                        <m:r>
                          <m:t xml:space="preserve">L</m:t>
                        </m:r>
                      </m:sub>
                    </m:sSub>
                    <m:r>
                      <m:t xml:space="preserve">=</m:t>
                    </m:r>
                    <m:f>
                      <m:num>
                        <m:r>
                          <m:t xml:space="preserve">P</m:t>
                        </m:r>
                        <m:r>
                          <m:t xml:space="preserve">+</m:t>
                        </m:r>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U</m:t>
                        </m:r>
                      </m:sub>
                    </m:sSub>
                    <m:r>
                      <m:t xml:space="preserve">−</m:t>
                    </m:r>
                    <m:f>
                      <m:num>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D</m:t>
                        </m:r>
                      </m:sub>
                    </m:sSub>
                  </m:oMath>
                </a14:m>
              </a:p>
            </p:txBody>
          </p:sp>
        </mc:Choice>
        <mc:Fallback/>
      </mc:AlternateContent>
      <mc:AlternateContent>
        <mc:Choice xmlns:a14="http://schemas.microsoft.com/office/drawing/2010/main" Requires="a14">
          <p:sp>
            <p:nvSpPr>
              <p:cNvPr id="111" name="Object 3"/>
              <p:cNvSpPr txBox="1"/>
              <p:nvPr/>
            </p:nvSpPr>
            <p:spPr>
              <a:xfrm>
                <a:off x="1209600" y="4114800"/>
                <a:ext cx="3719520" cy="765000"/>
              </a:xfrm>
              <a:prstGeom prst="rect">
                <a:avLst/>
              </a:prstGeom>
            </p:spPr>
            <p:txBody>
              <a:bodyPr/>
              <a:p>
                <a14:m>
                  <m:oMath xmlns:m="http://schemas.openxmlformats.org/officeDocument/2006/math">
                    <m:r>
                      <m:rPr>
                        <m:lit/>
                        <m:nor/>
                      </m:rPr>
                      <m:t xml:space="preserve">WACC</m:t>
                    </m:r>
                    <m:r>
                      <m:t xml:space="preserve">=</m:t>
                    </m:r>
                    <m:sSub>
                      <m:e>
                        <m:r>
                          <m:t xml:space="preserve">R</m:t>
                        </m:r>
                      </m:e>
                      <m:sub>
                        <m:r>
                          <m:t xml:space="preserve">p</m:t>
                        </m:r>
                      </m:sub>
                    </m:sSub>
                    <m:f>
                      <m:num>
                        <m:r>
                          <m:t xml:space="preserve">P</m:t>
                        </m:r>
                      </m:num>
                      <m:den>
                        <m:r>
                          <m:t xml:space="preserve">V</m:t>
                        </m:r>
                      </m:den>
                    </m:f>
                    <m:r>
                      <m:t xml:space="preserve">+</m:t>
                    </m:r>
                    <m:sSub>
                      <m:e>
                        <m:r>
                          <m:t xml:space="preserve">R</m:t>
                        </m:r>
                      </m:e>
                      <m:sub>
                        <m:r>
                          <m:t xml:space="preserve">d</m:t>
                        </m:r>
                      </m:sub>
                    </m:sSub>
                    <m:d>
                      <m:dPr>
                        <m:begChr m:val="("/>
                        <m:endChr m:val=")"/>
                      </m:dPr>
                      <m:e>
                        <m:r>
                          <m:t xml:space="preserve">1</m:t>
                        </m:r>
                        <m:r>
                          <m:t xml:space="preserve">−</m:t>
                        </m:r>
                        <m:r>
                          <m:t xml:space="preserve">T</m:t>
                        </m:r>
                      </m:e>
                    </m:d>
                    <m:f>
                      <m:num>
                        <m:r>
                          <m:t xml:space="preserve">D</m:t>
                        </m:r>
                      </m:num>
                      <m:den>
                        <m:r>
                          <m:t xml:space="preserve">V</m:t>
                        </m:r>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13"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ud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o el proyecto se evalúa el periodo 0, los periodos relevantes para determinar el valor de mercado de los flujos de los acreedores son de 1 a 5</a:t>
            </a:r>
            <a:endParaRPr b="0" lang="en-US" sz="22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 = VPN (13%) = 1.000</a:t>
            </a:r>
            <a:endParaRPr b="0" lang="en-US" sz="2000" spc="-1" strike="noStrike">
              <a:solidFill>
                <a:srgbClr val="000000"/>
              </a:solidFill>
              <a:latin typeface="Arial"/>
            </a:endParaRPr>
          </a:p>
        </p:txBody>
      </p:sp>
      <p:graphicFrame>
        <p:nvGraphicFramePr>
          <p:cNvPr id="114" name=""/>
          <p:cNvGraphicFramePr/>
          <p:nvPr/>
        </p:nvGraphicFramePr>
        <p:xfrm>
          <a:off x="571680" y="2146320"/>
          <a:ext cx="8215200" cy="925560"/>
        </p:xfrm>
        <a:graphic>
          <a:graphicData uri="http://schemas.openxmlformats.org/drawingml/2006/table">
            <a:tbl>
              <a:tblPr/>
              <a:tblGrid>
                <a:gridCol w="2108160"/>
                <a:gridCol w="1017360"/>
                <a:gridCol w="1017720"/>
                <a:gridCol w="1017720"/>
                <a:gridCol w="1019160"/>
                <a:gridCol w="1017360"/>
                <a:gridCol w="1017720"/>
              </a:tblGrid>
              <a:tr h="4618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1</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2</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3</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4</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5</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r>
              <a:tr h="4636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30,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4,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78,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52,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26,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16" name=""/>
          <p:cNvSpPr txBox="1"/>
          <p:nvPr/>
        </p:nvSpPr>
        <p:spPr>
          <a:xfrm>
            <a:off x="457200" y="1213920"/>
            <a:ext cx="8229600" cy="500076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atrimoni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valor de mercado de P corresponde al valor presente de los flujos futuros de los accionistas descontado a la tasa de descuento:</a:t>
            </a:r>
            <a:endParaRPr b="0" lang="en-US" sz="22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p = Rf + βL*prima por riesgo = 12%+ βL*8%</a:t>
            </a:r>
            <a:endParaRPr b="0" lang="en-US" sz="20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βd se obtiene de CAPM: Rd = Rf + βd*PPR = 12% + βd*8% </a:t>
            </a:r>
            <a:r>
              <a:rPr b="0" lang="es-CL" sz="2000" spc="-1" strike="noStrike">
                <a:solidFill>
                  <a:srgbClr val="000000"/>
                </a:solidFill>
                <a:latin typeface="Wingdings"/>
                <a:ea typeface="Wingdings"/>
              </a:rPr>
              <a:t></a:t>
            </a:r>
            <a:r>
              <a:rPr b="0" lang="es-CL" sz="2000" spc="-1" strike="noStrike">
                <a:solidFill>
                  <a:srgbClr val="000000"/>
                </a:solidFill>
                <a:latin typeface="Arial"/>
              </a:rPr>
              <a:t>βd=0,125 </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o no se conoce el valor de P (es lo que estamos calculando) </a:t>
            </a:r>
            <a:r>
              <a:rPr b="0" lang="es-CL" sz="2000" spc="-1" strike="noStrike">
                <a:solidFill>
                  <a:srgbClr val="000000"/>
                </a:solidFill>
                <a:latin typeface="Wingdings"/>
                <a:ea typeface="Wingdings"/>
              </a:rPr>
              <a:t></a:t>
            </a:r>
            <a:r>
              <a:rPr b="0" lang="es-CL" sz="2000" spc="-1" strike="noStrike">
                <a:solidFill>
                  <a:srgbClr val="000000"/>
                </a:solidFill>
                <a:latin typeface="Arial"/>
              </a:rPr>
              <a:t> modelo de convergencia</a:t>
            </a:r>
            <a:endParaRPr b="0" lang="en-US" sz="2000" spc="-1" strike="noStrike">
              <a:solidFill>
                <a:srgbClr val="000000"/>
              </a:solidFill>
              <a:latin typeface="Arial"/>
            </a:endParaRPr>
          </a:p>
        </p:txBody>
      </p:sp>
      <p:graphicFrame>
        <p:nvGraphicFramePr>
          <p:cNvPr id="117" name=""/>
          <p:cNvGraphicFramePr/>
          <p:nvPr/>
        </p:nvGraphicFramePr>
        <p:xfrm>
          <a:off x="571680" y="1643040"/>
          <a:ext cx="8215200" cy="628560"/>
        </p:xfrm>
        <a:graphic>
          <a:graphicData uri="http://schemas.openxmlformats.org/drawingml/2006/table">
            <a:tbl>
              <a:tblPr/>
              <a:tblGrid>
                <a:gridCol w="2108160"/>
                <a:gridCol w="1017360"/>
                <a:gridCol w="1017720"/>
                <a:gridCol w="1017720"/>
                <a:gridCol w="1019160"/>
                <a:gridCol w="1017360"/>
                <a:gridCol w="1017720"/>
              </a:tblGrid>
              <a:tr h="3146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0</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1</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2</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3</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4</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5</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r>
              <a:tr h="3146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r>
            </a:tbl>
          </a:graphicData>
        </a:graphic>
      </p:graphicFrame>
      <mc:AlternateContent>
        <mc:Choice xmlns:a14="http://schemas.microsoft.com/office/drawing/2010/main" Requires="a14">
          <p:sp>
            <p:nvSpPr>
              <p:cNvPr id="118" name="Object 3"/>
              <p:cNvSpPr txBox="1"/>
              <p:nvPr/>
            </p:nvSpPr>
            <p:spPr>
              <a:xfrm>
                <a:off x="1214280" y="3929040"/>
                <a:ext cx="4332600" cy="785880"/>
              </a:xfrm>
              <a:prstGeom prst="rect">
                <a:avLst/>
              </a:prstGeom>
            </p:spPr>
            <p:txBody>
              <a:bodyPr/>
              <a:p>
                <a14:m>
                  <m:oMath xmlns:m="http://schemas.openxmlformats.org/officeDocument/2006/math">
                    <m:sSub>
                      <m:e>
                        <m:r>
                          <m:t xml:space="preserve">β</m:t>
                        </m:r>
                      </m:e>
                      <m:sub>
                        <m:r>
                          <m:t xml:space="preserve">L</m:t>
                        </m:r>
                      </m:sub>
                    </m:sSub>
                    <m:r>
                      <m:t xml:space="preserve">=</m:t>
                    </m:r>
                    <m:f>
                      <m:num>
                        <m:r>
                          <m:t xml:space="preserve">P</m:t>
                        </m:r>
                        <m:r>
                          <m:t xml:space="preserve">+</m:t>
                        </m:r>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U</m:t>
                        </m:r>
                      </m:sub>
                    </m:sSub>
                    <m:r>
                      <m:t xml:space="preserve">−</m:t>
                    </m:r>
                    <m:f>
                      <m:num>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D</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120" name=""/>
          <p:cNvSpPr txBox="1"/>
          <p:nvPr/>
        </p:nvSpPr>
        <p:spPr>
          <a:xfrm>
            <a:off x="4857480" y="2714400"/>
            <a:ext cx="3714840" cy="34160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que el valor del proyecto, V, es mayor a la suma de P y D??</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udo Tributario</a:t>
            </a:r>
            <a:endParaRPr b="0" lang="en-US" sz="2600" spc="-1" strike="noStrike">
              <a:solidFill>
                <a:srgbClr val="000000"/>
              </a:solidFill>
              <a:latin typeface="Arial"/>
            </a:endParaRPr>
          </a:p>
        </p:txBody>
      </p:sp>
      <p:graphicFrame>
        <p:nvGraphicFramePr>
          <p:cNvPr id="121" name=""/>
          <p:cNvGraphicFramePr/>
          <p:nvPr/>
        </p:nvGraphicFramePr>
        <p:xfrm>
          <a:off x="500040" y="1285920"/>
          <a:ext cx="8072640" cy="1071360"/>
        </p:xfrm>
        <a:graphic>
          <a:graphicData uri="http://schemas.openxmlformats.org/drawingml/2006/table">
            <a:tbl>
              <a:tblPr/>
              <a:tblGrid>
                <a:gridCol w="2228760"/>
                <a:gridCol w="1062000"/>
                <a:gridCol w="944640"/>
                <a:gridCol w="944640"/>
                <a:gridCol w="944640"/>
                <a:gridCol w="944640"/>
                <a:gridCol w="1003320"/>
              </a:tblGrid>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22" name=""/>
          <p:cNvGraphicFramePr/>
          <p:nvPr/>
        </p:nvGraphicFramePr>
        <p:xfrm>
          <a:off x="571680" y="2643120"/>
          <a:ext cx="2714400" cy="3357720"/>
        </p:xfrm>
        <a:graphic>
          <a:graphicData uri="http://schemas.openxmlformats.org/drawingml/2006/table">
            <a:tbl>
              <a:tblPr/>
              <a:tblGrid>
                <a:gridCol w="1428480"/>
                <a:gridCol w="128592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a:noFill/>
                    </a:lnB>
                    <a:no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66</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1</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6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
        <p:nvSpPr>
          <p:cNvPr id="123" name="Oval 17"/>
          <p:cNvSpPr/>
          <p:nvPr/>
        </p:nvSpPr>
        <p:spPr>
          <a:xfrm>
            <a:off x="3286080" y="542916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8"/>
          <p:cNvSpPr/>
          <p:nvPr/>
        </p:nvSpPr>
        <p:spPr>
          <a:xfrm>
            <a:off x="3286080" y="578628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Curved Down Arrow 36"/>
          <p:cNvSpPr/>
          <p:nvPr/>
        </p:nvSpPr>
        <p:spPr>
          <a:xfrm rot="5400000">
            <a:off x="3071520" y="3143520"/>
            <a:ext cx="857160" cy="285480"/>
          </a:xfrm>
          <a:custGeom>
            <a:avLst/>
            <a:gdLst>
              <a:gd name="textAreaLeft" fmla="*/ 187560 w 857160"/>
              <a:gd name="textAreaRight" fmla="*/ 633960 w 857160"/>
              <a:gd name="textAreaTop" fmla="*/ 38160 h 285480"/>
              <a:gd name="textAreaBottom" fmla="*/ 247320 h 285480"/>
            </a:gdLst>
            <a:ahLst/>
            <a:rect l="textAreaLeft" t="textAreaTop" r="textAreaRight" b="textAreaBottom"/>
            <a:pathLst>
              <a:path w="21600" h="21600">
                <a:moveTo>
                  <a:pt x="0" y="21600"/>
                </a:moveTo>
                <a:arcTo wR="9450" hR="21600" stAng="10800000" swAng="5400000"/>
                <a:lnTo>
                  <a:pt x="11250" y="0"/>
                </a:lnTo>
                <a:arcTo wR="9450" hR="21600" stAng="-5400000" swAng="3567133"/>
                <a:lnTo>
                  <a:pt x="21300" y="16200"/>
                </a:lnTo>
                <a:lnTo>
                  <a:pt x="19800" y="21600"/>
                </a:lnTo>
                <a:lnTo>
                  <a:pt x="17700" y="16200"/>
                </a:lnTo>
                <a:lnTo>
                  <a:pt x="18600" y="16200"/>
                </a:lnTo>
                <a:arcTo wR="9450" hR="21600" stAng="-1832867" swAng="-3423323"/>
                <a:lnTo>
                  <a:pt x="10350" y="98"/>
                </a:lnTo>
                <a:arcTo wR="9450" hR="21600" stAng="-5543810" swAng="-5256190"/>
                <a:close/>
              </a:path>
              <a:path fill="darkenLess" w="21600" h="21600">
                <a:moveTo>
                  <a:pt x="0" y="21600"/>
                </a:moveTo>
                <a:arcTo wR="9450" hR="21600" stAng="10800000" swAng="5400000"/>
                <a:lnTo>
                  <a:pt x="9450" y="0"/>
                </a:lnTo>
                <a:arcTo wR="9450" hR="21600" stAng="-5400000" swAng="143810"/>
                <a:lnTo>
                  <a:pt x="10350" y="98"/>
                </a:lnTo>
                <a:arcTo wR="9450" hR="21600" stAng="-5543810" swAng="-5256190"/>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Curved Down Arrow 37"/>
          <p:cNvSpPr/>
          <p:nvPr/>
        </p:nvSpPr>
        <p:spPr>
          <a:xfrm rot="5400000">
            <a:off x="3285720" y="3928680"/>
            <a:ext cx="1000080" cy="428760"/>
          </a:xfrm>
          <a:custGeom>
            <a:avLst/>
            <a:gdLst>
              <a:gd name="textAreaLeft" fmla="*/ 209880 w 1000080"/>
              <a:gd name="textAreaRight" fmla="*/ 736920 w 1000080"/>
              <a:gd name="textAreaTop" fmla="*/ 57240 h 428760"/>
              <a:gd name="textAreaBottom" fmla="*/ 371520 h 428760"/>
            </a:gdLst>
            <a:ahLst/>
            <a:rect l="textAreaLeft" t="textAreaTop" r="textAreaRight" b="textAreaBottom"/>
            <a:pathLst>
              <a:path w="21600" h="21600">
                <a:moveTo>
                  <a:pt x="0" y="21600"/>
                </a:moveTo>
                <a:arcTo wR="9064" hR="21600" stAng="10800000" swAng="5400000"/>
                <a:lnTo>
                  <a:pt x="11379" y="0"/>
                </a:lnTo>
                <a:arcTo wR="9064" hR="21600" stAng="-5400000" swAng="3503756"/>
                <a:lnTo>
                  <a:pt x="21312" y="16200"/>
                </a:lnTo>
                <a:lnTo>
                  <a:pt x="19286" y="21600"/>
                </a:lnTo>
                <a:lnTo>
                  <a:pt x="16683" y="16200"/>
                </a:lnTo>
                <a:lnTo>
                  <a:pt x="17840" y="16200"/>
                </a:lnTo>
                <a:arcTo wR="9064" hR="21600" stAng="-1896244" swAng="-3318194"/>
                <a:lnTo>
                  <a:pt x="10222" y="177"/>
                </a:lnTo>
                <a:arcTo wR="9064" hR="21600" stAng="-5585562" swAng="-5214438"/>
                <a:close/>
              </a:path>
              <a:path fill="darkenLess" w="21600" h="21600">
                <a:moveTo>
                  <a:pt x="0" y="21600"/>
                </a:moveTo>
                <a:arcTo wR="9064" hR="21600" stAng="10800000" swAng="5400000"/>
                <a:lnTo>
                  <a:pt x="9064" y="0"/>
                </a:lnTo>
                <a:arcTo wR="9064" hR="21600" stAng="-5400000" swAng="185562"/>
                <a:lnTo>
                  <a:pt x="10222" y="177"/>
                </a:lnTo>
                <a:arcTo wR="9064" hR="21600" stAng="-5585562" swAng="-5214438"/>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Curved Down Arrow 38"/>
          <p:cNvSpPr/>
          <p:nvPr/>
        </p:nvSpPr>
        <p:spPr>
          <a:xfrm rot="5400000">
            <a:off x="3000240" y="4786200"/>
            <a:ext cx="1143000" cy="571680"/>
          </a:xfrm>
          <a:custGeom>
            <a:avLst/>
            <a:gdLst>
              <a:gd name="textAreaLeft" fmla="*/ 232200 w 1143000"/>
              <a:gd name="textAreaRight" fmla="*/ 839520 w 1143000"/>
              <a:gd name="textAreaTop" fmla="*/ 76320 h 571680"/>
              <a:gd name="textAreaBottom" fmla="*/ 495360 h 57168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Curved Down Arrow 39"/>
          <p:cNvSpPr/>
          <p:nvPr/>
        </p:nvSpPr>
        <p:spPr>
          <a:xfrm flipV="1" rot="16200000">
            <a:off x="2719080" y="3923640"/>
            <a:ext cx="2847960" cy="857160"/>
          </a:xfrm>
          <a:custGeom>
            <a:avLst/>
            <a:gdLst>
              <a:gd name="textAreaLeft" fmla="*/ 631440 w 2847960"/>
              <a:gd name="textAreaRight" fmla="*/ 2109240 w 2847960"/>
              <a:gd name="textAreaTop" fmla="*/ 114840 h 857160"/>
              <a:gd name="textAreaBottom" fmla="*/ 742320 h 857160"/>
            </a:gdLst>
            <a:ahLst/>
            <a:rect l="textAreaLeft" t="textAreaTop" r="textAreaRight" b="textAreaBottom"/>
            <a:pathLst>
              <a:path w="21600" h="21600">
                <a:moveTo>
                  <a:pt x="0" y="21600"/>
                </a:moveTo>
                <a:arcTo wR="9581" hR="21600" stAng="10800000" swAng="5400000"/>
                <a:lnTo>
                  <a:pt x="11206" y="0"/>
                </a:lnTo>
                <a:arcTo wR="9581" hR="21600" stAng="-5400000" swAng="3587780"/>
                <a:lnTo>
                  <a:pt x="21296" y="16200"/>
                </a:lnTo>
                <a:lnTo>
                  <a:pt x="19975" y="21600"/>
                </a:lnTo>
                <a:lnTo>
                  <a:pt x="18045" y="16200"/>
                </a:lnTo>
                <a:lnTo>
                  <a:pt x="18858" y="16200"/>
                </a:lnTo>
                <a:arcTo wR="9581" hR="21600" stAng="-1812220" swAng="-3458061"/>
                <a:lnTo>
                  <a:pt x="10394" y="78"/>
                </a:lnTo>
                <a:arcTo wR="9581" hR="21600" stAng="-5529719" swAng="-5270281"/>
                <a:close/>
              </a:path>
              <a:path fill="darkenLess" w="21600" h="21600">
                <a:moveTo>
                  <a:pt x="0" y="21600"/>
                </a:moveTo>
                <a:arcTo wR="9581" hR="21600" stAng="10800000" swAng="5400000"/>
                <a:lnTo>
                  <a:pt x="9581" y="0"/>
                </a:lnTo>
                <a:arcTo wR="9581" hR="21600" stAng="-5400000" swAng="129719"/>
                <a:lnTo>
                  <a:pt x="10394" y="78"/>
                </a:lnTo>
                <a:arcTo wR="9581" hR="21600" stAng="-5529719" swAng="-5270281"/>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22:51:27Z</dcterms:created>
  <dc:creator>HMTO</dc:creator>
  <dc:description/>
  <dc:language>en-US</dc:language>
  <cp:lastModifiedBy>Valued Acer Customer</cp:lastModifiedBy>
  <dcterms:modified xsi:type="dcterms:W3CDTF">2010-01-12T01:34:05Z</dcterms:modified>
  <cp:revision>134</cp:revision>
  <dc:subject/>
  <dc:title>EVALUACIÓN DE PROYECTOS IN42A</dc:title>
</cp:coreProperties>
</file>