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76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2920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760" y="862920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48C9297-A2A8-45EB-BB2E-27C58CA69F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A665DAE-B92E-40AD-A729-4D19B7587C7E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1FA4F9-4224-40AE-A897-391CB911FAE8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4F99BE-C188-428C-A5C5-D893C9375DC6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942BB0-67EC-4DE3-8256-1E6E85EE840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3F5768-CFDC-4CBD-B06A-76EDCC163E2D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DC1D3A-9CB7-47AD-8565-BD9BA1368C02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6C870-F3F3-4EBE-8A4A-17C39C8C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F5B71-B360-4485-8D3C-D5989204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1EE92-197B-4D7A-BDC9-2CF3C3B3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EFFF1-1E11-41FE-889F-F252ED5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5C7E4-6448-4D98-87E3-14A7092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C17FD-19BB-4629-AD8B-35DDD0A4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A2738-C763-4FF1-93E7-D55218B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4FDFF-D45C-48B7-8E86-EFD1084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D24A1-235E-4052-86B1-0E7928B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C3357-4574-4F44-9AE1-8D73DAE2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31645-7F3C-4966-96EC-ACC1DF09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135DF-35C6-4E74-9EE7-DDC02D31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86ABB-B042-4193-8F4F-C6BB9A0B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8D720-73DE-4685-BDF1-3A03426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152DB-108E-4BEA-BBB8-1EAEB8A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E4EF6-4987-4E21-B9AE-09674533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EFD6D-B803-44B4-8A96-8AC5B43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7BA62-EE70-4CE2-822E-193D95C8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3A7FE-8580-40C3-9F26-311C072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C52C7-1CA1-42DB-AC50-02F1137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E6AB6-7276-4F63-8376-390D6B9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12D1B-3F79-4199-B73D-A1ACF3F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E4829-A0BE-44ED-9F87-97338FC0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AE635-287E-4D1E-9126-735DA497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C0D04-CE2A-4596-BFDE-B97FAA4B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5E087-5329-42E5-80AC-AD789E3E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3E670-8D97-4106-A992-862CC5E3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9752E-783D-4358-86FD-329A764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81D96-57B5-48E8-91B1-F2292005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5B291-F887-456F-885D-4147FB66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B43DF-0A91-43C3-8A70-C56F877B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9577F-E9D1-410F-B0EC-EA247AE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455B5-ED0F-46F8-ACC6-DFAA85CA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5A324-7DD4-4365-8E4A-06F2DC2C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A5F69-441A-45D7-A4A8-38A31050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DEBC0-2715-4A0A-9155-8488180C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23B-D953-4355-A919-4B161823F2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E142-51C6-48EF-8184-689D9B972C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40F0-38A2-4F73-8A2F-8F812CFFD4B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4576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se define una lotería Y, con resultados Ya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Yb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entonces para el averso al riesgo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E (U(I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a) +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b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quivalente cierto: Un nivel de riqueza Yec. Tal que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Yec) = E (U(Y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8" name="4 Grupo"/>
          <p:cNvGrpSpPr/>
          <p:nvPr/>
        </p:nvGrpSpPr>
        <p:grpSpPr>
          <a:xfrm>
            <a:off x="4357800" y="3500280"/>
            <a:ext cx="4357440" cy="2863800"/>
            <a:chOff x="4357800" y="3500280"/>
            <a:chExt cx="4357440" cy="2863800"/>
          </a:xfrm>
        </p:grpSpPr>
        <p:cxnSp>
          <p:nvCxnSpPr>
            <p:cNvPr id="309" name="5 Conector recto de flecha"/>
            <p:cNvCxnSpPr/>
            <p:nvPr/>
          </p:nvCxnSpPr>
          <p:spPr>
            <a:xfrm>
              <a:off x="5098680" y="604188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310" name="6 Conector recto de flecha"/>
            <p:cNvCxnSpPr/>
            <p:nvPr/>
          </p:nvCxnSpPr>
          <p:spPr>
            <a:xfrm flipV="1">
              <a:off x="5097960" y="361728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311" name="7 Conector recto"/>
            <p:cNvSpPr/>
            <p:nvPr/>
          </p:nvSpPr>
          <p:spPr>
            <a:xfrm flipV="1">
              <a:off x="5357880" y="386352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8 Forma libre"/>
            <p:cNvSpPr/>
            <p:nvPr/>
          </p:nvSpPr>
          <p:spPr>
            <a:xfrm rot="10800000">
              <a:off x="5400360" y="386640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9 Conector recto"/>
            <p:cNvSpPr/>
            <p:nvPr/>
          </p:nvSpPr>
          <p:spPr>
            <a:xfrm>
              <a:off x="5389560" y="576756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10 Conector recto"/>
            <p:cNvSpPr/>
            <p:nvPr/>
          </p:nvSpPr>
          <p:spPr>
            <a:xfrm>
              <a:off x="7585200" y="389232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11 Conector recto"/>
            <p:cNvSpPr/>
            <p:nvPr/>
          </p:nvSpPr>
          <p:spPr>
            <a:xfrm>
              <a:off x="6396120" y="4149360"/>
              <a:ext cx="33120" cy="18576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12 Conector recto"/>
            <p:cNvSpPr/>
            <p:nvPr/>
          </p:nvSpPr>
          <p:spPr>
            <a:xfrm flipH="1" flipV="1">
              <a:off x="5099040" y="576756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13 Conector recto"/>
            <p:cNvSpPr/>
            <p:nvPr/>
          </p:nvSpPr>
          <p:spPr>
            <a:xfrm flipH="1">
              <a:off x="5111280" y="4117680"/>
              <a:ext cx="125892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 flipH="1">
              <a:off x="5111640" y="486324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 flipH="1">
              <a:off x="5098680" y="384624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16 CuadroTexto"/>
            <p:cNvSpPr/>
            <p:nvPr/>
          </p:nvSpPr>
          <p:spPr>
            <a:xfrm>
              <a:off x="7667280" y="57146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Loteria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1" name="17 CuadroTexto"/>
            <p:cNvSpPr/>
            <p:nvPr/>
          </p:nvSpPr>
          <p:spPr>
            <a:xfrm>
              <a:off x="5143320" y="350028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2" name="18 CuadroTexto"/>
            <p:cNvSpPr/>
            <p:nvPr/>
          </p:nvSpPr>
          <p:spPr>
            <a:xfrm>
              <a:off x="5190120" y="607932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1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7373880" y="60836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4" name="20 Conector recto"/>
            <p:cNvSpPr/>
            <p:nvPr/>
          </p:nvSpPr>
          <p:spPr>
            <a:xfrm>
              <a:off x="5614920" y="491004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6153480" y="608760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Y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4371840" y="398088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23 CuadroTexto"/>
            <p:cNvSpPr/>
            <p:nvPr/>
          </p:nvSpPr>
          <p:spPr>
            <a:xfrm>
              <a:off x="4357800" y="4721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4429080" y="565164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4572000" y="3738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5487840" y="60660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ec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01480" y="1197000"/>
            <a:ext cx="81028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uponga que Ud. posee $250.000. Decide comprar una bicicleta que tiene un valor de $200.000, y además invierte la diferencia en un depósito bancario que le reporta un interés anual de 6%. Según un estudio estadístico, existe una probabilidad de 0,1% que su bicicleta sea robada, con lo que el valor económico de ella sería c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i su función de utilidad es U (x) = Ln (x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¿Cuánto estaría dispuesto a pagar para asegurar su bicicleta al principio del año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7120" y="1155240"/>
            <a:ext cx="84628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4d4d4d"/>
                </a:solidFill>
                <a:latin typeface="Verdana"/>
              </a:rPr>
              <a:t>Sol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Tenemos dos posibilidades: comprar la bicicleta y que no me roben, con probabilidad de 0,999, y comprar la bicicleta y que me la roben, con probabilidad de 0,001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l valor esperado de mi beneficio (x) será de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*(200.000+1,06*50.000)+0,001*(0+1,06*50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 * 253.000 + 0,001 * 53.0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252.8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Por otro lado, el valor esperado de mi utilidad será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Ln(253.000) + 0,001 * Ln (53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12,441 + 0,001 * 10,878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12,4396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alculamos el equivalente cierto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U(EC) = E (U(x)) y U(x)=Ln(x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exp(E(U(x))) = exp(12,3496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Finalmente, la disponibilidad a pagar será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E(x) – EC = 252.800 –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190.52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sta disponibilidad a pagar es el premio por riesgo. Esto es lo máximo que se está dispuesto a pagar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11280" y="1413000"/>
            <a:ext cx="77724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 individuo tiene una riqueza actual de $100,000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próximo año puede perder su automóvil valorado en $20,000 con probabilidad 25% como consecuencia de un rob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unción de Utilidad: U(W)=ln(W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llar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) Utilidad Esperad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) Prima Justa (aquella que sólo cubre los costos de indemnizaciones, costos de administración = 0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i) Máxima Prima dispuesto a pagar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v) Prima por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00040" y="981000"/>
            <a:ext cx="7782120" cy="5290200"/>
            <a:chOff x="500040" y="981000"/>
            <a:chExt cx="7782120" cy="5290200"/>
          </a:xfrm>
        </p:grpSpPr>
        <p:sp>
          <p:nvSpPr>
            <p:cNvPr id="345" name="Text Box 4"/>
            <p:cNvSpPr/>
            <p:nvPr/>
          </p:nvSpPr>
          <p:spPr>
            <a:xfrm>
              <a:off x="3683160" y="59288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00"/>
                  </a:solidFill>
                  <a:latin typeface="Arial"/>
                </a:rPr>
                <a:t>94.574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grpSp>
          <p:nvGrpSpPr>
            <p:cNvPr id="346" name="Group 5"/>
            <p:cNvGrpSpPr/>
            <p:nvPr/>
          </p:nvGrpSpPr>
          <p:grpSpPr>
            <a:xfrm>
              <a:off x="500040" y="981000"/>
              <a:ext cx="7782120" cy="5290200"/>
              <a:chOff x="500040" y="981000"/>
              <a:chExt cx="7782120" cy="5290200"/>
            </a:xfrm>
          </p:grpSpPr>
          <p:sp>
            <p:nvSpPr>
              <p:cNvPr id="347" name="Text Box 6"/>
              <p:cNvSpPr/>
              <p:nvPr/>
            </p:nvSpPr>
            <p:spPr>
              <a:xfrm>
                <a:off x="500040" y="2392200"/>
                <a:ext cx="183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E(U(x)=11,457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2743200" y="59338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8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5791320" y="5933880"/>
                <a:ext cx="121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10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4495680" y="5933880"/>
                <a:ext cx="12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95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844560" y="151416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51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844560" y="323028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29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grpSp>
            <p:nvGrpSpPr>
              <p:cNvPr id="353" name="Group 12"/>
              <p:cNvGrpSpPr/>
              <p:nvPr/>
            </p:nvGrpSpPr>
            <p:grpSpPr>
              <a:xfrm>
                <a:off x="2338560" y="981000"/>
                <a:ext cx="5943600" cy="5256720"/>
                <a:chOff x="2338560" y="981000"/>
                <a:chExt cx="5943600" cy="5256720"/>
              </a:xfrm>
            </p:grpSpPr>
            <p:grpSp>
              <p:nvGrpSpPr>
                <p:cNvPr id="354" name="Group 13"/>
                <p:cNvGrpSpPr/>
                <p:nvPr/>
              </p:nvGrpSpPr>
              <p:grpSpPr>
                <a:xfrm>
                  <a:off x="2362320" y="1742400"/>
                  <a:ext cx="4400280" cy="4495320"/>
                  <a:chOff x="2362320" y="1742400"/>
                  <a:chExt cx="4400280" cy="4495320"/>
                </a:xfrm>
              </p:grpSpPr>
              <p:sp>
                <p:nvSpPr>
                  <p:cNvPr id="355" name="Line 14"/>
                  <p:cNvSpPr/>
                  <p:nvPr/>
                </p:nvSpPr>
                <p:spPr>
                  <a:xfrm>
                    <a:off x="2362320" y="219960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15"/>
                  <p:cNvSpPr/>
                  <p:nvPr/>
                </p:nvSpPr>
                <p:spPr>
                  <a:xfrm>
                    <a:off x="2362320" y="3418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16"/>
                  <p:cNvSpPr/>
                  <p:nvPr/>
                </p:nvSpPr>
                <p:spPr>
                  <a:xfrm>
                    <a:off x="2362320" y="258048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17"/>
                  <p:cNvSpPr/>
                  <p:nvPr/>
                </p:nvSpPr>
                <p:spPr>
                  <a:xfrm>
                    <a:off x="4114800" y="2580480"/>
                    <a:ext cx="0" cy="3352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2362320" y="1742400"/>
                    <a:ext cx="4400280" cy="4495320"/>
                    <a:chOff x="2362320" y="1742400"/>
                    <a:chExt cx="4400280" cy="4495320"/>
                  </a:xfrm>
                </p:grpSpPr>
                <p:grpSp>
                  <p:nvGrpSpPr>
                    <p:cNvPr id="360" name="Group 19"/>
                    <p:cNvGrpSpPr/>
                    <p:nvPr/>
                  </p:nvGrpSpPr>
                  <p:grpSpPr>
                    <a:xfrm>
                      <a:off x="2362320" y="1742400"/>
                      <a:ext cx="4400280" cy="4495320"/>
                      <a:chOff x="2362320" y="1742400"/>
                      <a:chExt cx="4400280" cy="4495320"/>
                    </a:xfrm>
                  </p:grpSpPr>
                  <p:sp>
                    <p:nvSpPr>
                      <p:cNvPr id="361" name="Arc 20"/>
                      <p:cNvSpPr/>
                      <p:nvPr/>
                    </p:nvSpPr>
                    <p:spPr>
                      <a:xfrm flipV="1">
                        <a:off x="2362320" y="1741680"/>
                        <a:ext cx="4400280" cy="4495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4d4d4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62" name="Line 21"/>
                      <p:cNvSpPr/>
                      <p:nvPr/>
                    </p:nvSpPr>
                    <p:spPr>
                      <a:xfrm>
                        <a:off x="3276720" y="3418920"/>
                        <a:ext cx="0" cy="251424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63" name="Line 22"/>
                    <p:cNvSpPr/>
                    <p:nvPr/>
                  </p:nvSpPr>
                  <p:spPr>
                    <a:xfrm flipV="1">
                      <a:off x="3276720" y="1742760"/>
                      <a:ext cx="3047760" cy="167616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4" name="Line 23"/>
                    <p:cNvSpPr/>
                    <p:nvPr/>
                  </p:nvSpPr>
                  <p:spPr>
                    <a:xfrm>
                      <a:off x="4876920" y="4028400"/>
                      <a:ext cx="144756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65" name="Line 24"/>
                  <p:cNvSpPr/>
                  <p:nvPr/>
                </p:nvSpPr>
                <p:spPr>
                  <a:xfrm>
                    <a:off x="4267080" y="4942800"/>
                    <a:ext cx="1981440" cy="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6" name="Group 25"/>
                <p:cNvGrpSpPr/>
                <p:nvPr/>
              </p:nvGrpSpPr>
              <p:grpSpPr>
                <a:xfrm>
                  <a:off x="2338560" y="981000"/>
                  <a:ext cx="5943600" cy="4955400"/>
                  <a:chOff x="2338560" y="981000"/>
                  <a:chExt cx="5943600" cy="4955400"/>
                </a:xfrm>
              </p:grpSpPr>
              <p:grpSp>
                <p:nvGrpSpPr>
                  <p:cNvPr id="367" name="Group 26"/>
                  <p:cNvGrpSpPr/>
                  <p:nvPr/>
                </p:nvGrpSpPr>
                <p:grpSpPr>
                  <a:xfrm>
                    <a:off x="2338560" y="981000"/>
                    <a:ext cx="5943600" cy="4955400"/>
                    <a:chOff x="2338560" y="981000"/>
                    <a:chExt cx="5943600" cy="4955400"/>
                  </a:xfrm>
                </p:grpSpPr>
                <p:sp>
                  <p:nvSpPr>
                    <p:cNvPr id="368" name="Line 27"/>
                    <p:cNvSpPr/>
                    <p:nvPr/>
                  </p:nvSpPr>
                  <p:spPr>
                    <a:xfrm>
                      <a:off x="6300720" y="1746000"/>
                      <a:ext cx="0" cy="419040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9" name="Line 28"/>
                    <p:cNvSpPr/>
                    <p:nvPr/>
                  </p:nvSpPr>
                  <p:spPr>
                    <a:xfrm>
                      <a:off x="4776840" y="2199960"/>
                      <a:ext cx="0" cy="373356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0" name="Line 29"/>
                    <p:cNvSpPr/>
                    <p:nvPr/>
                  </p:nvSpPr>
                  <p:spPr>
                    <a:xfrm flipV="1">
                      <a:off x="2338560" y="981000"/>
                      <a:ext cx="0" cy="495288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Line 30"/>
                    <p:cNvSpPr/>
                    <p:nvPr/>
                  </p:nvSpPr>
                  <p:spPr>
                    <a:xfrm>
                      <a:off x="2338560" y="5933880"/>
                      <a:ext cx="594360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72" name="Group 31"/>
                    <p:cNvGrpSpPr/>
                    <p:nvPr/>
                  </p:nvGrpSpPr>
                  <p:grpSpPr>
                    <a:xfrm>
                      <a:off x="2362320" y="1742760"/>
                      <a:ext cx="4952880" cy="2079000"/>
                      <a:chOff x="2362320" y="1742760"/>
                      <a:chExt cx="4952880" cy="2079000"/>
                    </a:xfrm>
                  </p:grpSpPr>
                  <p:sp>
                    <p:nvSpPr>
                      <p:cNvPr id="373" name="Line 32"/>
                      <p:cNvSpPr/>
                      <p:nvPr/>
                    </p:nvSpPr>
                    <p:spPr>
                      <a:xfrm>
                        <a:off x="2362320" y="1742760"/>
                        <a:ext cx="4038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74" name="Text Box 33"/>
                      <p:cNvSpPr/>
                      <p:nvPr/>
                    </p:nvSpPr>
                    <p:spPr>
                      <a:xfrm>
                        <a:off x="4952880" y="3114000"/>
                        <a:ext cx="2362320" cy="707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Prima Justa: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0,25*20.000=5.000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34"/>
                  <p:cNvSpPr/>
                  <p:nvPr/>
                </p:nvSpPr>
                <p:spPr>
                  <a:xfrm>
                    <a:off x="4343400" y="4181040"/>
                    <a:ext cx="31240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Máxima Prima de Seguro: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100.000 – 94.574 = 5.426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28760" y="20001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U(E(x))=11,46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8" name="Line 24"/>
          <p:cNvSpPr/>
          <p:nvPr/>
        </p:nvSpPr>
        <p:spPr>
          <a:xfrm flipV="1">
            <a:off x="4162320" y="5643360"/>
            <a:ext cx="571680" cy="45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4929120" y="5143680"/>
            <a:ext cx="235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95.000 – 94.574 = 426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cc3300"/>
                </a:solidFill>
                <a:latin typeface="Verdana"/>
              </a:rPr>
              <a:t>Ejemplo 2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6280" y="1071360"/>
            <a:ext cx="8077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Un individuo tiene 3 posibilidades de empleo-sueld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1: $500.000/mes </a:t>
            </a:r>
            <a:r>
              <a:rPr b="0" lang="es-ES" sz="1600" spc="-1" strike="noStrike">
                <a:solidFill>
                  <a:srgbClr val="4d4d4d"/>
                </a:solidFill>
                <a:latin typeface="Verdana"/>
              </a:rPr>
              <a:t>en forma segura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2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3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U función de utilidad es: U = I</a:t>
            </a:r>
            <a:r>
              <a:rPr b="0" lang="es-MX" sz="1800" spc="-1" strike="noStrike" baseline="30000">
                <a:solidFill>
                  <a:srgbClr val="4d4d4d"/>
                </a:solidFill>
                <a:latin typeface="Verdana"/>
              </a:rPr>
              <a:t>4/3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Determina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Su disposición al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laboral escogería (costo del juego?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escogería si tuviera un seguro que en caso de cesantía le entregara $300.000 /m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nto esta dispuesto a pagar por el segur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2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357280" y="1857240"/>
          <a:ext cx="3357720" cy="85428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75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357280" y="2857680"/>
          <a:ext cx="3357720" cy="85392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Fundamentos de Financiación Empresarial, R. Brealey y S. Myers, Quinta Edición, Capítulo 7,8,9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17480" y="1197000"/>
            <a:ext cx="7958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análisis de valores históricos refleja qu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ste un relación entre riesgo y rentabilidad  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os activos más rentables son más riesgos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a persona puede  elegir entre dos alternativas de sueldo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Sueldo fijo de $100.000 ó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a  moneda y recibir $200.000 si sale cara y $0 si es sello. ¿Qué escogerá?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Valor esperado de ambas alternativas $100.000.-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oría de la Utilidad Cardin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situaciones obligan a preguntarse cómo se explica  entonces, el proceso de decisión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teoría expuesta ofrece esta explicación (aunque con limitaciones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individuo cuando se enfrenta a situaciones de riesgo, puede asignar un valor a cada una de las alternativas que analiza. Estos son los índices de utilidad cardin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400" spc="-1" strike="noStrike">
                <a:solidFill>
                  <a:srgbClr val="cc3300"/>
                </a:solidFill>
                <a:latin typeface="Verdana"/>
              </a:rPr>
              <a:t>Supuestos en resume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Resumiendo lo anterior, se puede decir que los supuestos de la Teoría de la utilidad de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Von Neuma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y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Morgenster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so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l individuo puede ordenar alternativas o las utilidades asociadas a ell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establecer relaciones de transitividad en su ordenamiento preferenci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determinar pesos </a:t>
            </a:r>
            <a:r>
              <a:rPr b="0" lang="el-GR" sz="2200" spc="-1" strike="noStrike">
                <a:solidFill>
                  <a:srgbClr val="4d4d4d"/>
                </a:solidFill>
                <a:latin typeface="Verdana"/>
                <a:ea typeface="Arial"/>
              </a:rPr>
              <a:t>α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-probabilidades- para comparar alternativas o las utilidades asociad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¿Averso o propenso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ersonas pueden se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ver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ropen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diferente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persona que esté dispuesta a pagar por "jugar" una lotería podrá determinar su actitud al riesgo, según el monto que pagu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diferencia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6280" y="1267920"/>
            <a:ext cx="8148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la persona fuera indiferente al riesgo, pagaría exactamente $5,000 por participar en el jueg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(E(I))=E(U(I)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(I)=I*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1" name="29 Grupo"/>
          <p:cNvGrpSpPr/>
          <p:nvPr/>
        </p:nvGrpSpPr>
        <p:grpSpPr>
          <a:xfrm>
            <a:off x="1928880" y="3429000"/>
            <a:ext cx="5000400" cy="2863440"/>
            <a:chOff x="1928880" y="3429000"/>
            <a:chExt cx="5000400" cy="2863440"/>
          </a:xfrm>
        </p:grpSpPr>
        <p:cxnSp>
          <p:nvCxnSpPr>
            <p:cNvPr id="232" name="6 Conector recto de flecha"/>
            <p:cNvCxnSpPr/>
            <p:nvPr/>
          </p:nvCxnSpPr>
          <p:spPr>
            <a:xfrm>
              <a:off x="3312720" y="59702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33" name="7 Conector recto de flecha"/>
            <p:cNvCxnSpPr/>
            <p:nvPr/>
          </p:nvCxnSpPr>
          <p:spPr>
            <a:xfrm flipV="1">
              <a:off x="3312000" y="354600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34" name="8 Conector recto"/>
            <p:cNvSpPr/>
            <p:nvPr/>
          </p:nvSpPr>
          <p:spPr>
            <a:xfrm flipV="1">
              <a:off x="3571920" y="3791880"/>
              <a:ext cx="2192040" cy="19004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10 Conector recto"/>
            <p:cNvSpPr/>
            <p:nvPr/>
          </p:nvSpPr>
          <p:spPr>
            <a:xfrm>
              <a:off x="3603600" y="569592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11 Conector recto"/>
            <p:cNvSpPr/>
            <p:nvPr/>
          </p:nvSpPr>
          <p:spPr>
            <a:xfrm>
              <a:off x="5799240" y="382104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12 Conector recto"/>
            <p:cNvSpPr/>
            <p:nvPr/>
          </p:nvSpPr>
          <p:spPr>
            <a:xfrm>
              <a:off x="4643280" y="4792680"/>
              <a:ext cx="0" cy="11430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13 Conector recto"/>
            <p:cNvSpPr/>
            <p:nvPr/>
          </p:nvSpPr>
          <p:spPr>
            <a:xfrm flipH="1" flipV="1">
              <a:off x="3313080" y="56959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15 Conector recto"/>
            <p:cNvSpPr/>
            <p:nvPr/>
          </p:nvSpPr>
          <p:spPr>
            <a:xfrm flipH="1">
              <a:off x="3325680" y="479196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16 Conector recto"/>
            <p:cNvSpPr/>
            <p:nvPr/>
          </p:nvSpPr>
          <p:spPr>
            <a:xfrm flipH="1">
              <a:off x="3312720" y="377496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17 CuadroTexto"/>
            <p:cNvSpPr/>
            <p:nvPr/>
          </p:nvSpPr>
          <p:spPr>
            <a:xfrm>
              <a:off x="5881320" y="564336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18 CuadroTexto"/>
            <p:cNvSpPr/>
            <p:nvPr/>
          </p:nvSpPr>
          <p:spPr>
            <a:xfrm>
              <a:off x="3426120" y="342900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19 CuadroTexto"/>
            <p:cNvSpPr/>
            <p:nvPr/>
          </p:nvSpPr>
          <p:spPr>
            <a:xfrm>
              <a:off x="3404160" y="60076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20 CuadroTexto"/>
            <p:cNvSpPr/>
            <p:nvPr/>
          </p:nvSpPr>
          <p:spPr>
            <a:xfrm>
              <a:off x="5587560" y="60120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22 CuadroTexto"/>
            <p:cNvSpPr/>
            <p:nvPr/>
          </p:nvSpPr>
          <p:spPr>
            <a:xfrm>
              <a:off x="4205520" y="6015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=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24 CuadroTexto"/>
            <p:cNvSpPr/>
            <p:nvPr/>
          </p:nvSpPr>
          <p:spPr>
            <a:xfrm>
              <a:off x="1928880" y="4650120"/>
              <a:ext cx="13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=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25 CuadroTexto"/>
            <p:cNvSpPr/>
            <p:nvPr/>
          </p:nvSpPr>
          <p:spPr>
            <a:xfrm>
              <a:off x="2643120" y="558000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26 CuadroTexto"/>
            <p:cNvSpPr/>
            <p:nvPr/>
          </p:nvSpPr>
          <p:spPr>
            <a:xfrm>
              <a:off x="2786040" y="366660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ver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2679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esa misma persona fuera totalmente  aversa al riesgo y se enfrenta a la misma situació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gará menos del valor esperado del juego por participar en él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 sea, pagará menos de $5,000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52" name="37 Grupo"/>
          <p:cNvGrpSpPr/>
          <p:nvPr/>
        </p:nvGrpSpPr>
        <p:grpSpPr>
          <a:xfrm>
            <a:off x="2571840" y="3494160"/>
            <a:ext cx="4357440" cy="2863440"/>
            <a:chOff x="2571840" y="3494160"/>
            <a:chExt cx="4357440" cy="2863440"/>
          </a:xfrm>
        </p:grpSpPr>
        <p:cxnSp>
          <p:nvCxnSpPr>
            <p:cNvPr id="253" name="6 Conector recto de flecha"/>
            <p:cNvCxnSpPr/>
            <p:nvPr/>
          </p:nvCxnSpPr>
          <p:spPr>
            <a:xfrm>
              <a:off x="3312720" y="603540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54" name="7 Conector recto de flecha"/>
            <p:cNvCxnSpPr/>
            <p:nvPr/>
          </p:nvCxnSpPr>
          <p:spPr>
            <a:xfrm flipV="1">
              <a:off x="3312000" y="361116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55" name="8 Conector recto"/>
            <p:cNvSpPr/>
            <p:nvPr/>
          </p:nvSpPr>
          <p:spPr>
            <a:xfrm flipV="1">
              <a:off x="3571920" y="385704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9 Forma libre"/>
            <p:cNvSpPr/>
            <p:nvPr/>
          </p:nvSpPr>
          <p:spPr>
            <a:xfrm rot="10800000">
              <a:off x="3614400" y="3860640"/>
              <a:ext cx="2181240" cy="189072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10 Conector recto"/>
            <p:cNvSpPr/>
            <p:nvPr/>
          </p:nvSpPr>
          <p:spPr>
            <a:xfrm>
              <a:off x="3603600" y="576108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11 Conector recto"/>
            <p:cNvSpPr/>
            <p:nvPr/>
          </p:nvSpPr>
          <p:spPr>
            <a:xfrm>
              <a:off x="5799240" y="388620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12 Conector recto"/>
            <p:cNvSpPr/>
            <p:nvPr/>
          </p:nvSpPr>
          <p:spPr>
            <a:xfrm>
              <a:off x="4610160" y="4143240"/>
              <a:ext cx="33120" cy="18572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13 Conector recto"/>
            <p:cNvSpPr/>
            <p:nvPr/>
          </p:nvSpPr>
          <p:spPr>
            <a:xfrm flipH="1" flipV="1">
              <a:off x="3313080" y="576108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14 Conector recto"/>
            <p:cNvSpPr/>
            <p:nvPr/>
          </p:nvSpPr>
          <p:spPr>
            <a:xfrm flipH="1">
              <a:off x="3325680" y="4111560"/>
              <a:ext cx="12585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15 Conector recto"/>
            <p:cNvSpPr/>
            <p:nvPr/>
          </p:nvSpPr>
          <p:spPr>
            <a:xfrm flipH="1">
              <a:off x="3325680" y="485712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 flipH="1">
              <a:off x="3312720" y="384012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17 CuadroTexto"/>
            <p:cNvSpPr/>
            <p:nvPr/>
          </p:nvSpPr>
          <p:spPr>
            <a:xfrm>
              <a:off x="5881320" y="570852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18 CuadroTexto"/>
            <p:cNvSpPr/>
            <p:nvPr/>
          </p:nvSpPr>
          <p:spPr>
            <a:xfrm>
              <a:off x="3357360" y="349416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19 CuadroTexto"/>
            <p:cNvSpPr/>
            <p:nvPr/>
          </p:nvSpPr>
          <p:spPr>
            <a:xfrm>
              <a:off x="3404160" y="607284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20 CuadroTexto"/>
            <p:cNvSpPr/>
            <p:nvPr/>
          </p:nvSpPr>
          <p:spPr>
            <a:xfrm>
              <a:off x="5587560" y="607716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3828960" y="490392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22 CuadroTexto"/>
            <p:cNvSpPr/>
            <p:nvPr/>
          </p:nvSpPr>
          <p:spPr>
            <a:xfrm>
              <a:off x="4367520" y="608112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23 CuadroTexto"/>
            <p:cNvSpPr/>
            <p:nvPr/>
          </p:nvSpPr>
          <p:spPr>
            <a:xfrm>
              <a:off x="2585880" y="397476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24 CuadroTexto"/>
            <p:cNvSpPr/>
            <p:nvPr/>
          </p:nvSpPr>
          <p:spPr>
            <a:xfrm>
              <a:off x="2571840" y="47152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25 CuadroTexto"/>
            <p:cNvSpPr/>
            <p:nvPr/>
          </p:nvSpPr>
          <p:spPr>
            <a:xfrm>
              <a:off x="2643120" y="56451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26 CuadroTexto"/>
            <p:cNvSpPr/>
            <p:nvPr/>
          </p:nvSpPr>
          <p:spPr>
            <a:xfrm>
              <a:off x="2786040" y="373176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27 CuadroTexto"/>
            <p:cNvSpPr/>
            <p:nvPr/>
          </p:nvSpPr>
          <p:spPr>
            <a:xfrm>
              <a:off x="3701520" y="60598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pen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66280" y="1267920"/>
            <a:ext cx="80010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Una persona totalmente propensa al riesgo, enfrentada ante el siguiente juego: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10,00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4 Marcador de contenido"/>
          <p:cNvSpPr/>
          <p:nvPr/>
        </p:nvSpPr>
        <p:spPr>
          <a:xfrm>
            <a:off x="571680" y="2928960"/>
            <a:ext cx="42861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stará dispuesta a pagar más del valor esperado del resultado del juego por participar en él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 sea, pagará más de $5,000 por participar en este jueg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79" name="30 Grupo"/>
          <p:cNvGrpSpPr/>
          <p:nvPr/>
        </p:nvGrpSpPr>
        <p:grpSpPr>
          <a:xfrm>
            <a:off x="4714920" y="3000240"/>
            <a:ext cx="4429080" cy="2863800"/>
            <a:chOff x="4714920" y="3000240"/>
            <a:chExt cx="4429080" cy="2863800"/>
          </a:xfrm>
        </p:grpSpPr>
        <p:cxnSp>
          <p:nvCxnSpPr>
            <p:cNvPr id="280" name="8 Conector recto de flecha"/>
            <p:cNvCxnSpPr/>
            <p:nvPr/>
          </p:nvCxnSpPr>
          <p:spPr>
            <a:xfrm>
              <a:off x="5527080" y="55418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81" name="9 Conector recto de flecha"/>
            <p:cNvCxnSpPr/>
            <p:nvPr/>
          </p:nvCxnSpPr>
          <p:spPr>
            <a:xfrm flipV="1">
              <a:off x="5526360" y="311724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82" name="10 Conector recto"/>
            <p:cNvSpPr/>
            <p:nvPr/>
          </p:nvSpPr>
          <p:spPr>
            <a:xfrm flipV="1">
              <a:off x="5817960" y="3366360"/>
              <a:ext cx="219240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11 Forma libre"/>
            <p:cNvSpPr/>
            <p:nvPr/>
          </p:nvSpPr>
          <p:spPr>
            <a:xfrm>
              <a:off x="5829120" y="336672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12 Conector recto"/>
            <p:cNvSpPr/>
            <p:nvPr/>
          </p:nvSpPr>
          <p:spPr>
            <a:xfrm>
              <a:off x="5817960" y="526752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13 Conector recto"/>
            <p:cNvSpPr/>
            <p:nvPr/>
          </p:nvSpPr>
          <p:spPr>
            <a:xfrm>
              <a:off x="8013960" y="339228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14 Conector recto"/>
            <p:cNvSpPr/>
            <p:nvPr/>
          </p:nvSpPr>
          <p:spPr>
            <a:xfrm flipH="1">
              <a:off x="693576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15 Conector recto"/>
            <p:cNvSpPr/>
            <p:nvPr/>
          </p:nvSpPr>
          <p:spPr>
            <a:xfrm flipH="1" flipV="1">
              <a:off x="5527440" y="52675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16 Conector recto"/>
            <p:cNvSpPr/>
            <p:nvPr/>
          </p:nvSpPr>
          <p:spPr>
            <a:xfrm flipH="1" flipV="1">
              <a:off x="5527080" y="4307040"/>
              <a:ext cx="219564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17 Conector recto"/>
            <p:cNvSpPr/>
            <p:nvPr/>
          </p:nvSpPr>
          <p:spPr>
            <a:xfrm flipH="1">
              <a:off x="5527080" y="5009760"/>
              <a:ext cx="140796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18 Conector recto"/>
            <p:cNvSpPr/>
            <p:nvPr/>
          </p:nvSpPr>
          <p:spPr>
            <a:xfrm flipH="1">
              <a:off x="5527440" y="3346200"/>
              <a:ext cx="24861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19 CuadroTexto"/>
            <p:cNvSpPr/>
            <p:nvPr/>
          </p:nvSpPr>
          <p:spPr>
            <a:xfrm>
              <a:off x="8096040" y="5214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20 CuadroTexto"/>
            <p:cNvSpPr/>
            <p:nvPr/>
          </p:nvSpPr>
          <p:spPr>
            <a:xfrm>
              <a:off x="5572080" y="300024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21 CuadroTexto"/>
            <p:cNvSpPr/>
            <p:nvPr/>
          </p:nvSpPr>
          <p:spPr>
            <a:xfrm>
              <a:off x="5618520" y="55792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22 CuadroTexto"/>
            <p:cNvSpPr/>
            <p:nvPr/>
          </p:nvSpPr>
          <p:spPr>
            <a:xfrm>
              <a:off x="7802280" y="55836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23 Conector recto"/>
            <p:cNvSpPr/>
            <p:nvPr/>
          </p:nvSpPr>
          <p:spPr>
            <a:xfrm flipH="1">
              <a:off x="772344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24 CuadroTexto"/>
            <p:cNvSpPr/>
            <p:nvPr/>
          </p:nvSpPr>
          <p:spPr>
            <a:xfrm>
              <a:off x="6665760" y="558756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25 CuadroTexto"/>
            <p:cNvSpPr/>
            <p:nvPr/>
          </p:nvSpPr>
          <p:spPr>
            <a:xfrm>
              <a:off x="4714920" y="4922640"/>
              <a:ext cx="77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26 CuadroTexto"/>
            <p:cNvSpPr/>
            <p:nvPr/>
          </p:nvSpPr>
          <p:spPr>
            <a:xfrm>
              <a:off x="4786200" y="419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27 CuadroTexto"/>
            <p:cNvSpPr/>
            <p:nvPr/>
          </p:nvSpPr>
          <p:spPr>
            <a:xfrm>
              <a:off x="4857480" y="51512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28 CuadroTexto"/>
            <p:cNvSpPr/>
            <p:nvPr/>
          </p:nvSpPr>
          <p:spPr>
            <a:xfrm>
              <a:off x="5038560" y="323784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29 CuadroTexto"/>
            <p:cNvSpPr/>
            <p:nvPr/>
          </p:nvSpPr>
          <p:spPr>
            <a:xfrm>
              <a:off x="7547400" y="55792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utilidad depende del nivel de riquez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 = f( W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lt; 0 , el individuo es avers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gt; 0 , el individuo es amante de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= 0 , el individuo es neutr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Familia García López</cp:lastModifiedBy>
  <cp:lastPrinted>2002-11-13T13:47:55Z</cp:lastPrinted>
  <dcterms:modified xsi:type="dcterms:W3CDTF">2010-05-27T21:08:18Z</dcterms:modified>
  <cp:revision>362</cp:revision>
  <dc:subject/>
  <dc:title>Formulación de Proyectos</dc:title>
</cp:coreProperties>
</file>