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760" y="-36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2920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760" y="8629200"/>
            <a:ext cx="29700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F0742A-DF02-4183-A6F2-1484D829C4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144072B-96B6-491D-A2FB-E94D838A6D2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D951D44-DA90-410E-8078-0D5FA0317D09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45E3B1D-D352-4458-AF73-EAF8F841F08B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040" y="4314600"/>
            <a:ext cx="5025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D10BFD-387C-4431-89AC-FCE35729220B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2623594-C11C-4011-8006-8382F5515995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29560"/>
            <a:ext cx="2970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A4ABA8-F4E3-49B2-9656-0EC83BC5B9F8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03911-539D-4CB6-9A7D-BB716483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DA82B-9A0B-487D-904E-9C50E795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BC29C-C0E7-4481-837C-081A1A8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6F9CB-8B0F-4421-81A7-92F79F45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857E9-4217-4F50-84CF-EDC9C1DD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E3AEC-7C72-4F91-8815-86EC637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AC53C-DC15-4882-83A2-467539CA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0DD2E-290E-492E-BEE2-09C389D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3EF1B-3975-4159-93D7-13843D23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69946-D4E4-4F96-B795-1A073C5A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4A798-447B-4061-9182-1E3194F7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31A2-8860-4714-83C9-9C385845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4B2EF-690C-47DD-A903-D801947D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ACB25-3137-493F-924F-15B558DD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BD845-24B7-4C93-9E93-E19E0D7F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300DD-A75D-4D09-8F75-885C4C6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C497B-39F5-48C3-B6E1-E772E5F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02B2C-5B5D-413B-853F-E05D4381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4FB95-7306-408D-8143-CAFAECB4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ED3CC-3988-40FC-8A9C-A5CBB27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8035B-427B-4B1B-88DA-EA2790D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9F0C4-6BFC-4179-A27C-0A7FEF62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3E287-FADF-4544-8993-7F4D681B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39535-0F58-4F27-BC47-67492874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3B348-74CC-499E-BDFB-03AA35AC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0C908-4582-48C3-BE89-AB6410B5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E5BB7-FADE-459E-9EB2-2B3D7580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EEE023-F42C-46C6-8B06-72D2F40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FF2CE-9744-43AA-9651-7D3F59E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8F28A-D611-47A0-A7FD-88FFD49B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6F49BB-D8AB-4F31-A856-486706D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4704D-5F62-486A-B178-1E3F8D2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F4E39-647F-47A8-90AC-4F447D2B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35C96-590C-4C87-B608-976C3A93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E06A37-BD9A-4F49-8D64-CCD66A0B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8C157-6B71-439A-9B92-CD18084E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7C8E-A57F-40FB-AFB4-89BD11BFD5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23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75E-E265-4550-973D-5FFDE5D3B9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166" name="Line 7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AD9-B8A9-4243-A889-918F1A878900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4576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i se define una lotería Y, con resultados Ya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Yb con probabilidad </a:t>
            </a:r>
            <a:r>
              <a:rPr b="0" lang="es-ES" sz="2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, entonces para el averso al riesgo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E (U(I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E(Y)) &gt;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a) + </a:t>
            </a:r>
            <a:r>
              <a:rPr b="0" lang="es-ES" sz="1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 U(Yb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quivalente cierto: Un nivel de riqueza Yec. Tal que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d4d4d"/>
                </a:solidFill>
                <a:latin typeface="Verdana"/>
              </a:rPr>
              <a:t>U(Yec) = E (U(Y)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308" name="4 Grupo"/>
          <p:cNvGrpSpPr/>
          <p:nvPr/>
        </p:nvGrpSpPr>
        <p:grpSpPr>
          <a:xfrm>
            <a:off x="4357800" y="3500280"/>
            <a:ext cx="4357440" cy="2863800"/>
            <a:chOff x="4357800" y="3500280"/>
            <a:chExt cx="4357440" cy="2863800"/>
          </a:xfrm>
        </p:grpSpPr>
        <p:cxnSp>
          <p:nvCxnSpPr>
            <p:cNvPr id="309" name="5 Conector recto de flecha"/>
            <p:cNvCxnSpPr/>
            <p:nvPr/>
          </p:nvCxnSpPr>
          <p:spPr>
            <a:xfrm>
              <a:off x="5098680" y="604188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310" name="6 Conector recto de flecha"/>
            <p:cNvCxnSpPr/>
            <p:nvPr/>
          </p:nvCxnSpPr>
          <p:spPr>
            <a:xfrm flipV="1">
              <a:off x="5097960" y="361728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311" name="7 Conector recto"/>
            <p:cNvSpPr/>
            <p:nvPr/>
          </p:nvSpPr>
          <p:spPr>
            <a:xfrm flipV="1">
              <a:off x="5357880" y="386352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8 Forma libre"/>
            <p:cNvSpPr/>
            <p:nvPr/>
          </p:nvSpPr>
          <p:spPr>
            <a:xfrm rot="10800000">
              <a:off x="5400360" y="386640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9 Conector recto"/>
            <p:cNvSpPr/>
            <p:nvPr/>
          </p:nvSpPr>
          <p:spPr>
            <a:xfrm>
              <a:off x="5389560" y="576756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10 Conector recto"/>
            <p:cNvSpPr/>
            <p:nvPr/>
          </p:nvSpPr>
          <p:spPr>
            <a:xfrm>
              <a:off x="7585200" y="389232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11 Conector recto"/>
            <p:cNvSpPr/>
            <p:nvPr/>
          </p:nvSpPr>
          <p:spPr>
            <a:xfrm>
              <a:off x="6396120" y="4149360"/>
              <a:ext cx="33120" cy="18576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12 Conector recto"/>
            <p:cNvSpPr/>
            <p:nvPr/>
          </p:nvSpPr>
          <p:spPr>
            <a:xfrm flipH="1" flipV="1">
              <a:off x="5099040" y="576756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13 Conector recto"/>
            <p:cNvSpPr/>
            <p:nvPr/>
          </p:nvSpPr>
          <p:spPr>
            <a:xfrm flipH="1">
              <a:off x="5111280" y="4117680"/>
              <a:ext cx="125892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 flipH="1">
              <a:off x="5111640" y="486324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 flipH="1">
              <a:off x="5098680" y="384624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16 CuadroTexto"/>
            <p:cNvSpPr/>
            <p:nvPr/>
          </p:nvSpPr>
          <p:spPr>
            <a:xfrm>
              <a:off x="7667280" y="571464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Loteria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1" name="17 CuadroTexto"/>
            <p:cNvSpPr/>
            <p:nvPr/>
          </p:nvSpPr>
          <p:spPr>
            <a:xfrm>
              <a:off x="5143320" y="350028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2" name="18 CuadroTexto"/>
            <p:cNvSpPr/>
            <p:nvPr/>
          </p:nvSpPr>
          <p:spPr>
            <a:xfrm>
              <a:off x="5190120" y="607932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1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7373880" y="6083640"/>
              <a:ext cx="41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4" name="20 Conector recto"/>
            <p:cNvSpPr/>
            <p:nvPr/>
          </p:nvSpPr>
          <p:spPr>
            <a:xfrm>
              <a:off x="5614920" y="491004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6153480" y="608760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Y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4371840" y="398088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23 CuadroTexto"/>
            <p:cNvSpPr/>
            <p:nvPr/>
          </p:nvSpPr>
          <p:spPr>
            <a:xfrm>
              <a:off x="4357800" y="472140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Y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4429080" y="5651640"/>
              <a:ext cx="62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0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4572000" y="37382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1</a:t>
              </a: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5487840" y="60660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Y</a:t>
              </a:r>
              <a:r>
                <a:rPr b="0" lang="es-MX" sz="1000" spc="-1" strike="noStrike">
                  <a:solidFill>
                    <a:srgbClr val="4d4d4d"/>
                  </a:solidFill>
                  <a:latin typeface="Verdana"/>
                </a:rPr>
                <a:t>ec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501480" y="1197000"/>
            <a:ext cx="81028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uponga que Ud. posee $250.000. Decide comprar una bicicleta que tiene un valor de $200.000, y además invierte la diferencia en un depósito bancario que le reporta un interés anual de 6%. Según un estudio estadístico, existe una probabilidad de 0,1% que su bicicleta sea robada, con lo que el valor económico de ella sería ce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Si su función de utilidad es U (x) = Ln (x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¿Cuánto estaría dispuesto a pagar para asegurar su bicicleta al principio del año?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7120" y="1155240"/>
            <a:ext cx="84628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4d4d4d"/>
                </a:solidFill>
                <a:latin typeface="Verdana"/>
              </a:rPr>
              <a:t>Solució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Tenemos dos posibilidades: comprar la bicicleta y que no me roben, con probabilidad de 0,999, y comprar la bicicleta y que me la roben, con probabilidad de 0,001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3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l valor esperado de mi beneficio (x) será de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*(200.000+1,06*50.000)+0,001*(0+1,06*50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0,999 * 253.000 + 0,001 * 53.0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E(x) = 252.800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Por otro lado, el valor esperado de mi utilidad será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Ln(253.000) + 0,001 * Ln (53.000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0,999 * 12,441 + 0,001 * 10,878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4d4d4d"/>
                </a:solidFill>
                <a:latin typeface="Verdana"/>
              </a:rPr>
              <a:t>E(U(x)) = 12,4396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alculamos el equivalente cierto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U(EC) = E (U(x)) y U(x)=Ln(x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exp(E(U(x))) = exp(12,3496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EC =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Finalmente, la disponibilidad a pagar será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E(x) – EC = 252.800 – 252.609,48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d4d4d"/>
                </a:solidFill>
                <a:latin typeface="Verdana"/>
              </a:rPr>
              <a:t>Disp. a pagar = 190.52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sta disponibilidad a pagar es el premio por riesgo. Esto es lo máximo que se está dispuesto a pagar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611280" y="1413000"/>
            <a:ext cx="77724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 individuo tiene una riqueza actual de $100,000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próximo año puede perder su automóvil valorado en $20,000 con probabilidad 25% como consecuencia de un rob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unción de Utilidad: U(W)=ln(W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Hallar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) Utilidad Esperad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) Prima Justa (aquella que sólo cubre los costos de indemnizaciones, costos de administración = 0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ii) Máxima Prima dispuesto a pagar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80880" indent="-38088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v) Prima por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00040" y="981000"/>
            <a:ext cx="7782120" cy="5290200"/>
            <a:chOff x="500040" y="981000"/>
            <a:chExt cx="7782120" cy="5290200"/>
          </a:xfrm>
        </p:grpSpPr>
        <p:sp>
          <p:nvSpPr>
            <p:cNvPr id="345" name="Text Box 4"/>
            <p:cNvSpPr/>
            <p:nvPr/>
          </p:nvSpPr>
          <p:spPr>
            <a:xfrm>
              <a:off x="3683160" y="59288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0000"/>
                  </a:solidFill>
                  <a:latin typeface="Arial"/>
                </a:rPr>
                <a:t>94.574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grpSp>
          <p:nvGrpSpPr>
            <p:cNvPr id="346" name="Group 5"/>
            <p:cNvGrpSpPr/>
            <p:nvPr/>
          </p:nvGrpSpPr>
          <p:grpSpPr>
            <a:xfrm>
              <a:off x="500040" y="981000"/>
              <a:ext cx="7782120" cy="5290200"/>
              <a:chOff x="500040" y="981000"/>
              <a:chExt cx="7782120" cy="5290200"/>
            </a:xfrm>
          </p:grpSpPr>
          <p:sp>
            <p:nvSpPr>
              <p:cNvPr id="347" name="Text Box 6"/>
              <p:cNvSpPr/>
              <p:nvPr/>
            </p:nvSpPr>
            <p:spPr>
              <a:xfrm>
                <a:off x="500040" y="2392200"/>
                <a:ext cx="1832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E(U(x)=11,457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8" name="Text Box 7"/>
              <p:cNvSpPr/>
              <p:nvPr/>
            </p:nvSpPr>
            <p:spPr>
              <a:xfrm>
                <a:off x="2743200" y="5933880"/>
                <a:ext cx="1066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8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49" name="Text Box 8"/>
              <p:cNvSpPr/>
              <p:nvPr/>
            </p:nvSpPr>
            <p:spPr>
              <a:xfrm>
                <a:off x="5791320" y="5933880"/>
                <a:ext cx="121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100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0" name="Text Box 9"/>
              <p:cNvSpPr/>
              <p:nvPr/>
            </p:nvSpPr>
            <p:spPr>
              <a:xfrm>
                <a:off x="4495680" y="5933880"/>
                <a:ext cx="121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4d4d4d"/>
                    </a:solidFill>
                    <a:latin typeface="Arial"/>
                  </a:rPr>
                  <a:t>95.000</a:t>
                </a:r>
                <a:endParaRPr b="0" lang="en-US" sz="16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1" name="Text Box 10"/>
              <p:cNvSpPr/>
              <p:nvPr/>
            </p:nvSpPr>
            <p:spPr>
              <a:xfrm>
                <a:off x="844560" y="151416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51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sp>
            <p:nvSpPr>
              <p:cNvPr id="352" name="Text Box 11"/>
              <p:cNvSpPr/>
              <p:nvPr/>
            </p:nvSpPr>
            <p:spPr>
              <a:xfrm>
                <a:off x="844560" y="3230280"/>
                <a:ext cx="148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Arial"/>
                  </a:rPr>
                  <a:t>U(x)=11,29</a:t>
                </a:r>
                <a:endParaRPr b="0" lang="en-US" sz="2000" spc="-1" strike="noStrike">
                  <a:solidFill>
                    <a:srgbClr val="4d4d4d"/>
                  </a:solidFill>
                  <a:latin typeface="Verdana"/>
                </a:endParaRPr>
              </a:p>
            </p:txBody>
          </p:sp>
          <p:grpSp>
            <p:nvGrpSpPr>
              <p:cNvPr id="353" name="Group 12"/>
              <p:cNvGrpSpPr/>
              <p:nvPr/>
            </p:nvGrpSpPr>
            <p:grpSpPr>
              <a:xfrm>
                <a:off x="2338560" y="981000"/>
                <a:ext cx="5943600" cy="5256720"/>
                <a:chOff x="2338560" y="981000"/>
                <a:chExt cx="5943600" cy="5256720"/>
              </a:xfrm>
            </p:grpSpPr>
            <p:grpSp>
              <p:nvGrpSpPr>
                <p:cNvPr id="354" name="Group 13"/>
                <p:cNvGrpSpPr/>
                <p:nvPr/>
              </p:nvGrpSpPr>
              <p:grpSpPr>
                <a:xfrm>
                  <a:off x="2362320" y="1742400"/>
                  <a:ext cx="4400280" cy="4495320"/>
                  <a:chOff x="2362320" y="1742400"/>
                  <a:chExt cx="4400280" cy="4495320"/>
                </a:xfrm>
              </p:grpSpPr>
              <p:sp>
                <p:nvSpPr>
                  <p:cNvPr id="355" name="Line 14"/>
                  <p:cNvSpPr/>
                  <p:nvPr/>
                </p:nvSpPr>
                <p:spPr>
                  <a:xfrm>
                    <a:off x="2362320" y="219960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15"/>
                  <p:cNvSpPr/>
                  <p:nvPr/>
                </p:nvSpPr>
                <p:spPr>
                  <a:xfrm>
                    <a:off x="2362320" y="3418920"/>
                    <a:ext cx="91440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16"/>
                  <p:cNvSpPr/>
                  <p:nvPr/>
                </p:nvSpPr>
                <p:spPr>
                  <a:xfrm>
                    <a:off x="2362320" y="2580480"/>
                    <a:ext cx="2438280" cy="0"/>
                  </a:xfrm>
                  <a:prstGeom prst="line">
                    <a:avLst/>
                  </a:prstGeom>
                  <a:ln w="28440">
                    <a:solidFill>
                      <a:srgbClr val="4d4d4d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17"/>
                  <p:cNvSpPr/>
                  <p:nvPr/>
                </p:nvSpPr>
                <p:spPr>
                  <a:xfrm>
                    <a:off x="4114800" y="2580480"/>
                    <a:ext cx="0" cy="3352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2362320" y="1742400"/>
                    <a:ext cx="4400280" cy="4495320"/>
                    <a:chOff x="2362320" y="1742400"/>
                    <a:chExt cx="4400280" cy="4495320"/>
                  </a:xfrm>
                </p:grpSpPr>
                <p:grpSp>
                  <p:nvGrpSpPr>
                    <p:cNvPr id="360" name="Group 19"/>
                    <p:cNvGrpSpPr/>
                    <p:nvPr/>
                  </p:nvGrpSpPr>
                  <p:grpSpPr>
                    <a:xfrm>
                      <a:off x="2362320" y="1742400"/>
                      <a:ext cx="4400280" cy="4495320"/>
                      <a:chOff x="2362320" y="1742400"/>
                      <a:chExt cx="4400280" cy="4495320"/>
                    </a:xfrm>
                  </p:grpSpPr>
                  <p:sp>
                    <p:nvSpPr>
                      <p:cNvPr id="361" name="Arc 20"/>
                      <p:cNvSpPr/>
                      <p:nvPr/>
                    </p:nvSpPr>
                    <p:spPr>
                      <a:xfrm flipV="1">
                        <a:off x="2362320" y="1741680"/>
                        <a:ext cx="4400280" cy="4495320"/>
                      </a:xfrm>
                      <a:prstGeom prst="pie">
                        <a:avLst/>
                      </a:prstGeom>
                      <a:noFill/>
                      <a:ln w="9360">
                        <a:solidFill>
                          <a:srgbClr val="4d4d4d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62" name="Line 21"/>
                      <p:cNvSpPr/>
                      <p:nvPr/>
                    </p:nvSpPr>
                    <p:spPr>
                      <a:xfrm>
                        <a:off x="3276720" y="3418920"/>
                        <a:ext cx="0" cy="251424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63" name="Line 22"/>
                    <p:cNvSpPr/>
                    <p:nvPr/>
                  </p:nvSpPr>
                  <p:spPr>
                    <a:xfrm flipV="1">
                      <a:off x="3276720" y="1742760"/>
                      <a:ext cx="3047760" cy="167616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4" name="Line 23"/>
                    <p:cNvSpPr/>
                    <p:nvPr/>
                  </p:nvSpPr>
                  <p:spPr>
                    <a:xfrm>
                      <a:off x="4876920" y="4028400"/>
                      <a:ext cx="144756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365" name="Line 24"/>
                  <p:cNvSpPr/>
                  <p:nvPr/>
                </p:nvSpPr>
                <p:spPr>
                  <a:xfrm>
                    <a:off x="4267080" y="4942800"/>
                    <a:ext cx="1981440" cy="0"/>
                  </a:xfrm>
                  <a:prstGeom prst="line">
                    <a:avLst/>
                  </a:prstGeom>
                  <a:ln w="9360">
                    <a:solidFill>
                      <a:srgbClr val="cc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6" name="Group 25"/>
                <p:cNvGrpSpPr/>
                <p:nvPr/>
              </p:nvGrpSpPr>
              <p:grpSpPr>
                <a:xfrm>
                  <a:off x="2338560" y="981000"/>
                  <a:ext cx="5943600" cy="4955400"/>
                  <a:chOff x="2338560" y="981000"/>
                  <a:chExt cx="5943600" cy="4955400"/>
                </a:xfrm>
              </p:grpSpPr>
              <p:grpSp>
                <p:nvGrpSpPr>
                  <p:cNvPr id="367" name="Group 26"/>
                  <p:cNvGrpSpPr/>
                  <p:nvPr/>
                </p:nvGrpSpPr>
                <p:grpSpPr>
                  <a:xfrm>
                    <a:off x="2338560" y="981000"/>
                    <a:ext cx="5943600" cy="4955400"/>
                    <a:chOff x="2338560" y="981000"/>
                    <a:chExt cx="5943600" cy="4955400"/>
                  </a:xfrm>
                </p:grpSpPr>
                <p:sp>
                  <p:nvSpPr>
                    <p:cNvPr id="368" name="Line 27"/>
                    <p:cNvSpPr/>
                    <p:nvPr/>
                  </p:nvSpPr>
                  <p:spPr>
                    <a:xfrm>
                      <a:off x="6300720" y="1746000"/>
                      <a:ext cx="0" cy="419040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69" name="Line 28"/>
                    <p:cNvSpPr/>
                    <p:nvPr/>
                  </p:nvSpPr>
                  <p:spPr>
                    <a:xfrm>
                      <a:off x="4776840" y="2199960"/>
                      <a:ext cx="0" cy="3733560"/>
                    </a:xfrm>
                    <a:prstGeom prst="line">
                      <a:avLst/>
                    </a:prstGeom>
                    <a:ln w="28440">
                      <a:solidFill>
                        <a:srgbClr val="4d4d4d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0" name="Line 29"/>
                    <p:cNvSpPr/>
                    <p:nvPr/>
                  </p:nvSpPr>
                  <p:spPr>
                    <a:xfrm flipV="1">
                      <a:off x="2338560" y="981000"/>
                      <a:ext cx="0" cy="495288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1" name="Line 30"/>
                    <p:cNvSpPr/>
                    <p:nvPr/>
                  </p:nvSpPr>
                  <p:spPr>
                    <a:xfrm>
                      <a:off x="2338560" y="5933880"/>
                      <a:ext cx="5943600" cy="0"/>
                    </a:xfrm>
                    <a:prstGeom prst="line">
                      <a:avLst/>
                    </a:prstGeom>
                    <a:ln w="9360">
                      <a:solidFill>
                        <a:srgbClr val="4d4d4d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72" name="Group 31"/>
                    <p:cNvGrpSpPr/>
                    <p:nvPr/>
                  </p:nvGrpSpPr>
                  <p:grpSpPr>
                    <a:xfrm>
                      <a:off x="2362320" y="1742760"/>
                      <a:ext cx="4952880" cy="2079000"/>
                      <a:chOff x="2362320" y="1742760"/>
                      <a:chExt cx="4952880" cy="2079000"/>
                    </a:xfrm>
                  </p:grpSpPr>
                  <p:sp>
                    <p:nvSpPr>
                      <p:cNvPr id="373" name="Line 32"/>
                      <p:cNvSpPr/>
                      <p:nvPr/>
                    </p:nvSpPr>
                    <p:spPr>
                      <a:xfrm>
                        <a:off x="2362320" y="1742760"/>
                        <a:ext cx="403848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4d4d4d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74" name="Text Box 33"/>
                      <p:cNvSpPr/>
                      <p:nvPr/>
                    </p:nvSpPr>
                    <p:spPr>
                      <a:xfrm>
                        <a:off x="4952880" y="3114000"/>
                        <a:ext cx="2362320" cy="707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Prima Justa: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s-ES_tradnl" sz="1600" spc="-1" strike="noStrike">
                            <a:solidFill>
                              <a:srgbClr val="4d4d4d"/>
                            </a:solidFill>
                            <a:latin typeface="Arial"/>
                          </a:rPr>
                          <a:t>0,25*20.000=5.000</a:t>
                        </a:r>
                        <a:endParaRPr b="0" lang="en-US" sz="1600" spc="-1" strike="noStrike">
                          <a:solidFill>
                            <a:srgbClr val="4d4d4d"/>
                          </a:solidFill>
                          <a:latin typeface="Verdana"/>
                        </a:endParaRPr>
                      </a:p>
                    </p:txBody>
                  </p:sp>
                </p:grpSp>
              </p:grpSp>
              <p:sp>
                <p:nvSpPr>
                  <p:cNvPr id="375" name="Text Box 34"/>
                  <p:cNvSpPr/>
                  <p:nvPr/>
                </p:nvSpPr>
                <p:spPr>
                  <a:xfrm>
                    <a:off x="4343400" y="4181040"/>
                    <a:ext cx="31240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Máxima Prima de Seguro: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0000"/>
                        </a:solidFill>
                        <a:latin typeface="Arial"/>
                      </a:rPr>
                      <a:t>100.000 – 94.574 = 5.426</a:t>
                    </a:r>
                    <a:endParaRPr b="0" lang="en-US" sz="1600" spc="-1" strike="noStrike">
                      <a:solidFill>
                        <a:srgbClr val="4d4d4d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jempl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28760" y="2000160"/>
            <a:ext cx="19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Arial"/>
              </a:rPr>
              <a:t>U(E(x))=11,461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8" name="Line 24"/>
          <p:cNvSpPr/>
          <p:nvPr/>
        </p:nvSpPr>
        <p:spPr>
          <a:xfrm flipV="1">
            <a:off x="4162320" y="5643360"/>
            <a:ext cx="571680" cy="45720"/>
          </a:xfrm>
          <a:prstGeom prst="line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Text Box 34"/>
          <p:cNvSpPr/>
          <p:nvPr/>
        </p:nvSpPr>
        <p:spPr>
          <a:xfrm>
            <a:off x="4929120" y="5143680"/>
            <a:ext cx="235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8000"/>
                </a:solidFill>
                <a:latin typeface="Arial"/>
              </a:rPr>
              <a:t>95.000 – 94.574 = 426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400" spc="-1" strike="noStrike">
                <a:solidFill>
                  <a:srgbClr val="cc3300"/>
                </a:solidFill>
                <a:latin typeface="Verdana"/>
              </a:rPr>
              <a:t>Ejemplo 2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66280" y="1071360"/>
            <a:ext cx="80773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Un individuo tiene 3 posibilidades de empleo-sueld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1: $500.000/mes </a:t>
            </a:r>
            <a:r>
              <a:rPr b="0" lang="es-ES" sz="1600" spc="-1" strike="noStrike">
                <a:solidFill>
                  <a:srgbClr val="4d4d4d"/>
                </a:solidFill>
                <a:latin typeface="Verdana"/>
              </a:rPr>
              <a:t>en forma segura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2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Alt 3: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SU función de utilidad es: U = I</a:t>
            </a:r>
            <a:r>
              <a:rPr b="0" lang="es-MX" sz="1800" spc="-1" strike="noStrike" baseline="30000">
                <a:solidFill>
                  <a:srgbClr val="4d4d4d"/>
                </a:solidFill>
                <a:latin typeface="Verdana"/>
              </a:rPr>
              <a:t>4/3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d4d4d"/>
                </a:solidFill>
                <a:latin typeface="Verdana"/>
              </a:rPr>
              <a:t>Determina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Su disposición al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laboral escogería (costo del juego?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Que alternativa escogería si tuviera un seguro que en caso de cesantía le entregara $300.000 /mes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nto esta dispuesto a pagar por el segur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d4d4d"/>
                </a:solidFill>
                <a:latin typeface="Verdana"/>
              </a:rPr>
              <a:t>Cual es la prima por riesg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2" name="2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357280" y="1857240"/>
          <a:ext cx="3357720" cy="85428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8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75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3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357280" y="2857680"/>
          <a:ext cx="3357720" cy="853920"/>
        </p:xfrm>
        <a:graphic>
          <a:graphicData uri="http://schemas.openxmlformats.org/drawingml/2006/table">
            <a:tbl>
              <a:tblPr/>
              <a:tblGrid>
                <a:gridCol w="1679760"/>
                <a:gridCol w="1677960"/>
              </a:tblGrid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babilidad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Ingreso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 w="4320">
                      <a:solidFill>
                        <a:srgbClr val="cc0000"/>
                      </a:solidFill>
                    </a:lnT>
                    <a:lnB>
                      <a:noFill/>
                    </a:lnB>
                    <a:solidFill>
                      <a:srgbClr val="dae0e6"/>
                    </a:solidFill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,5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 w="432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Verdana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4320">
                      <a:solidFill>
                        <a:srgbClr val="cc0000"/>
                      </a:solidFill>
                    </a:lnR>
                    <a:lnT>
                      <a:noFill/>
                    </a:lnT>
                    <a:lnB w="43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Fundamentos de Financiación Empresarial, R. Brealey y S. Myers, Quinta Edición, Capítulo 7,8,9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17480" y="1197000"/>
            <a:ext cx="7958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l análisis de valores históricos refleja qu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ste un relación entre riesgo y rentabilidad  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os activos más rentables son más riesgos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4d4d4d"/>
                </a:solidFill>
                <a:uFillTx/>
                <a:latin typeface="Verdana"/>
              </a:rPr>
              <a:t>Ejemplo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Una persona puede  elegir entre dos alternativas de sueldo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Sueldo fijo de $100.000 ó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a  moneda y recibir $200.000 si sale cara y $0 si es sello. ¿Qué escogerá?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Valor esperado de ambas alternativas $100.000.-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eoría de la Ut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oría de la Utilidad Cardin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situaciones obligan a preguntarse cómo se explica  entonces, el proceso de decisión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teoría expuesta ofrece esta explicación (aunque con limitaciones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individuo cuando se enfrenta a situaciones de riesgo, puede asignar un valor a cada una de las alternativas que analiza. Estos son los índices de utilidad cardin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400" spc="-1" strike="noStrike">
                <a:solidFill>
                  <a:srgbClr val="cc3300"/>
                </a:solidFill>
                <a:latin typeface="Verdana"/>
              </a:rPr>
              <a:t>Supuestos en resume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Resumiendo lo anterior, se puede decir que los supuestos de la Teoría de la utilidad de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Von Neuma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y </a:t>
            </a:r>
            <a:r>
              <a:rPr b="0" i="1" lang="es-ES" sz="2600" spc="-1" strike="noStrike">
                <a:solidFill>
                  <a:srgbClr val="4d4d4d"/>
                </a:solidFill>
                <a:latin typeface="Verdana"/>
              </a:rPr>
              <a:t>Morgenstern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so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l individuo puede ordenar alternativas o las utilidades asociadas a ell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establecer relaciones de transitividad en su ordenamiento preferencial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uede determinar pesos </a:t>
            </a:r>
            <a:r>
              <a:rPr b="0" lang="el-GR" sz="2200" spc="-1" strike="noStrike">
                <a:solidFill>
                  <a:srgbClr val="4d4d4d"/>
                </a:solidFill>
                <a:latin typeface="Verdana"/>
                <a:ea typeface="Arial"/>
              </a:rPr>
              <a:t>α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-probabilidades- para comparar alternativas o las utilidades asociad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¿Averso o propenso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ersonas pueden se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ver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ropensa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81200" indent="-34308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diferentes al riesg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persona que esté dispuesta a pagar por "jugar" una lotería podrá determinar su actitud al riesgo, según el monto que pagu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diferencia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66280" y="1267920"/>
            <a:ext cx="8148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la persona fuera indiferente al riesgo, pagaría exactamente $5,000 por participar en el jueg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(E(I))=E(U(I)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(I)=I*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31" name="29 Grupo"/>
          <p:cNvGrpSpPr/>
          <p:nvPr/>
        </p:nvGrpSpPr>
        <p:grpSpPr>
          <a:xfrm>
            <a:off x="1928880" y="3429000"/>
            <a:ext cx="5000400" cy="2863440"/>
            <a:chOff x="1928880" y="3429000"/>
            <a:chExt cx="5000400" cy="2863440"/>
          </a:xfrm>
        </p:grpSpPr>
        <p:cxnSp>
          <p:nvCxnSpPr>
            <p:cNvPr id="232" name="6 Conector recto de flecha"/>
            <p:cNvCxnSpPr/>
            <p:nvPr/>
          </p:nvCxnSpPr>
          <p:spPr>
            <a:xfrm>
              <a:off x="3312720" y="59702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33" name="7 Conector recto de flecha"/>
            <p:cNvCxnSpPr/>
            <p:nvPr/>
          </p:nvCxnSpPr>
          <p:spPr>
            <a:xfrm flipV="1">
              <a:off x="3312000" y="354600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34" name="8 Conector recto"/>
            <p:cNvSpPr/>
            <p:nvPr/>
          </p:nvSpPr>
          <p:spPr>
            <a:xfrm flipV="1">
              <a:off x="3571920" y="3791880"/>
              <a:ext cx="2192040" cy="190044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10 Conector recto"/>
            <p:cNvSpPr/>
            <p:nvPr/>
          </p:nvSpPr>
          <p:spPr>
            <a:xfrm>
              <a:off x="3603600" y="569592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11 Conector recto"/>
            <p:cNvSpPr/>
            <p:nvPr/>
          </p:nvSpPr>
          <p:spPr>
            <a:xfrm>
              <a:off x="5799240" y="382104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12 Conector recto"/>
            <p:cNvSpPr/>
            <p:nvPr/>
          </p:nvSpPr>
          <p:spPr>
            <a:xfrm>
              <a:off x="4643280" y="4792680"/>
              <a:ext cx="0" cy="11430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13 Conector recto"/>
            <p:cNvSpPr/>
            <p:nvPr/>
          </p:nvSpPr>
          <p:spPr>
            <a:xfrm flipH="1" flipV="1">
              <a:off x="3313080" y="56959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15 Conector recto"/>
            <p:cNvSpPr/>
            <p:nvPr/>
          </p:nvSpPr>
          <p:spPr>
            <a:xfrm flipH="1">
              <a:off x="3325680" y="479196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16 Conector recto"/>
            <p:cNvSpPr/>
            <p:nvPr/>
          </p:nvSpPr>
          <p:spPr>
            <a:xfrm flipH="1">
              <a:off x="3312720" y="377496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17 CuadroTexto"/>
            <p:cNvSpPr/>
            <p:nvPr/>
          </p:nvSpPr>
          <p:spPr>
            <a:xfrm>
              <a:off x="5881320" y="564336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18 CuadroTexto"/>
            <p:cNvSpPr/>
            <p:nvPr/>
          </p:nvSpPr>
          <p:spPr>
            <a:xfrm>
              <a:off x="3426120" y="342900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19 CuadroTexto"/>
            <p:cNvSpPr/>
            <p:nvPr/>
          </p:nvSpPr>
          <p:spPr>
            <a:xfrm>
              <a:off x="3404160" y="60076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20 CuadroTexto"/>
            <p:cNvSpPr/>
            <p:nvPr/>
          </p:nvSpPr>
          <p:spPr>
            <a:xfrm>
              <a:off x="5587560" y="60120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22 CuadroTexto"/>
            <p:cNvSpPr/>
            <p:nvPr/>
          </p:nvSpPr>
          <p:spPr>
            <a:xfrm>
              <a:off x="4205520" y="6015960"/>
              <a:ext cx="86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=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24 CuadroTexto"/>
            <p:cNvSpPr/>
            <p:nvPr/>
          </p:nvSpPr>
          <p:spPr>
            <a:xfrm>
              <a:off x="1928880" y="4650120"/>
              <a:ext cx="133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=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25 CuadroTexto"/>
            <p:cNvSpPr/>
            <p:nvPr/>
          </p:nvSpPr>
          <p:spPr>
            <a:xfrm>
              <a:off x="2643120" y="558000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26 CuadroTexto"/>
            <p:cNvSpPr/>
            <p:nvPr/>
          </p:nvSpPr>
          <p:spPr>
            <a:xfrm>
              <a:off x="2786040" y="366660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ver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66280" y="1267920"/>
            <a:ext cx="80773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 esa misma persona fuera totalmente  aversa al riesgo y se enfrenta a la misma situació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gará menos del valor esperado del juego por participar en él.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 sea, pagará menos de $5,000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52" name="37 Grupo"/>
          <p:cNvGrpSpPr/>
          <p:nvPr/>
        </p:nvGrpSpPr>
        <p:grpSpPr>
          <a:xfrm>
            <a:off x="2571840" y="3494160"/>
            <a:ext cx="4357440" cy="2863440"/>
            <a:chOff x="2571840" y="3494160"/>
            <a:chExt cx="4357440" cy="2863440"/>
          </a:xfrm>
        </p:grpSpPr>
        <p:cxnSp>
          <p:nvCxnSpPr>
            <p:cNvPr id="253" name="6 Conector recto de flecha"/>
            <p:cNvCxnSpPr/>
            <p:nvPr/>
          </p:nvCxnSpPr>
          <p:spPr>
            <a:xfrm>
              <a:off x="3312720" y="603540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54" name="7 Conector recto de flecha"/>
            <p:cNvCxnSpPr/>
            <p:nvPr/>
          </p:nvCxnSpPr>
          <p:spPr>
            <a:xfrm flipV="1">
              <a:off x="3312000" y="361116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55" name="8 Conector recto"/>
            <p:cNvSpPr/>
            <p:nvPr/>
          </p:nvSpPr>
          <p:spPr>
            <a:xfrm flipV="1">
              <a:off x="3571920" y="3857040"/>
              <a:ext cx="219204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9 Forma libre"/>
            <p:cNvSpPr/>
            <p:nvPr/>
          </p:nvSpPr>
          <p:spPr>
            <a:xfrm rot="10800000">
              <a:off x="3614400" y="3860640"/>
              <a:ext cx="2181240" cy="189072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10 Conector recto"/>
            <p:cNvSpPr/>
            <p:nvPr/>
          </p:nvSpPr>
          <p:spPr>
            <a:xfrm>
              <a:off x="3603600" y="5761080"/>
              <a:ext cx="0" cy="2743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11 Conector recto"/>
            <p:cNvSpPr/>
            <p:nvPr/>
          </p:nvSpPr>
          <p:spPr>
            <a:xfrm>
              <a:off x="5799240" y="3886200"/>
              <a:ext cx="0" cy="21495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12 Conector recto"/>
            <p:cNvSpPr/>
            <p:nvPr/>
          </p:nvSpPr>
          <p:spPr>
            <a:xfrm>
              <a:off x="4610160" y="4143240"/>
              <a:ext cx="33120" cy="18572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13 Conector recto"/>
            <p:cNvSpPr/>
            <p:nvPr/>
          </p:nvSpPr>
          <p:spPr>
            <a:xfrm flipH="1" flipV="1">
              <a:off x="3313080" y="576108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14 Conector recto"/>
            <p:cNvSpPr/>
            <p:nvPr/>
          </p:nvSpPr>
          <p:spPr>
            <a:xfrm flipH="1">
              <a:off x="3325680" y="4111560"/>
              <a:ext cx="12585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15 Conector recto"/>
            <p:cNvSpPr/>
            <p:nvPr/>
          </p:nvSpPr>
          <p:spPr>
            <a:xfrm flipH="1">
              <a:off x="3325680" y="4857120"/>
              <a:ext cx="131760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16 Conector recto"/>
            <p:cNvSpPr/>
            <p:nvPr/>
          </p:nvSpPr>
          <p:spPr>
            <a:xfrm flipH="1">
              <a:off x="3312720" y="3840120"/>
              <a:ext cx="248580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17 CuadroTexto"/>
            <p:cNvSpPr/>
            <p:nvPr/>
          </p:nvSpPr>
          <p:spPr>
            <a:xfrm>
              <a:off x="5881320" y="570852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18 CuadroTexto"/>
            <p:cNvSpPr/>
            <p:nvPr/>
          </p:nvSpPr>
          <p:spPr>
            <a:xfrm>
              <a:off x="3357360" y="349416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19 CuadroTexto"/>
            <p:cNvSpPr/>
            <p:nvPr/>
          </p:nvSpPr>
          <p:spPr>
            <a:xfrm>
              <a:off x="3404160" y="607284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20 CuadroTexto"/>
            <p:cNvSpPr/>
            <p:nvPr/>
          </p:nvSpPr>
          <p:spPr>
            <a:xfrm>
              <a:off x="5587560" y="607716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3828960" y="4903920"/>
              <a:ext cx="15840" cy="113040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22 CuadroTexto"/>
            <p:cNvSpPr/>
            <p:nvPr/>
          </p:nvSpPr>
          <p:spPr>
            <a:xfrm>
              <a:off x="4367520" y="608112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23 CuadroTexto"/>
            <p:cNvSpPr/>
            <p:nvPr/>
          </p:nvSpPr>
          <p:spPr>
            <a:xfrm>
              <a:off x="2585880" y="3974760"/>
              <a:ext cx="7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24 CuadroTexto"/>
            <p:cNvSpPr/>
            <p:nvPr/>
          </p:nvSpPr>
          <p:spPr>
            <a:xfrm>
              <a:off x="2571840" y="47152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25 CuadroTexto"/>
            <p:cNvSpPr/>
            <p:nvPr/>
          </p:nvSpPr>
          <p:spPr>
            <a:xfrm>
              <a:off x="2643120" y="564516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26 CuadroTexto"/>
            <p:cNvSpPr/>
            <p:nvPr/>
          </p:nvSpPr>
          <p:spPr>
            <a:xfrm>
              <a:off x="2786040" y="373176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27 CuadroTexto"/>
            <p:cNvSpPr/>
            <p:nvPr/>
          </p:nvSpPr>
          <p:spPr>
            <a:xfrm>
              <a:off x="3701520" y="60598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pensión al riesg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6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66280" y="1267920"/>
            <a:ext cx="80010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Una persona totalmente propensa al riesgo, enfrentada ante el siguiente juego: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$10,000 con probabilidad 0.5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8" name="4 Marcador de contenido"/>
          <p:cNvSpPr/>
          <p:nvPr/>
        </p:nvSpPr>
        <p:spPr>
          <a:xfrm>
            <a:off x="571680" y="2928960"/>
            <a:ext cx="42861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stará dispuesta a pagar más del valor esperado del resultado del juego por participar en él.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O sea, pagará más de $5,000 por participar en este jueg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279" name="30 Grupo"/>
          <p:cNvGrpSpPr/>
          <p:nvPr/>
        </p:nvGrpSpPr>
        <p:grpSpPr>
          <a:xfrm>
            <a:off x="4714920" y="3000240"/>
            <a:ext cx="4429080" cy="2863800"/>
            <a:chOff x="4714920" y="3000240"/>
            <a:chExt cx="4429080" cy="2863800"/>
          </a:xfrm>
        </p:grpSpPr>
        <p:cxnSp>
          <p:nvCxnSpPr>
            <p:cNvPr id="280" name="8 Conector recto de flecha"/>
            <p:cNvCxnSpPr/>
            <p:nvPr/>
          </p:nvCxnSpPr>
          <p:spPr>
            <a:xfrm>
              <a:off x="5527080" y="5541840"/>
              <a:ext cx="3066120" cy="1080"/>
            </a:xfrm>
            <a:prstGeom prst="straightConnector1">
              <a:avLst/>
            </a:prstGeom>
            <a:ln w="25560">
              <a:solidFill>
                <a:srgbClr val="4d4d4d"/>
              </a:solidFill>
              <a:miter/>
              <a:tailEnd len="med" type="arrow" w="med"/>
            </a:ln>
          </p:spPr>
        </p:cxnSp>
        <p:cxnSp>
          <p:nvCxnSpPr>
            <p:cNvPr id="281" name="9 Conector recto de flecha"/>
            <p:cNvCxnSpPr/>
            <p:nvPr/>
          </p:nvCxnSpPr>
          <p:spPr>
            <a:xfrm flipV="1">
              <a:off x="5526360" y="3117240"/>
              <a:ext cx="1080" cy="2424960"/>
            </a:xfrm>
            <a:prstGeom prst="straightConnector1">
              <a:avLst/>
            </a:prstGeom>
            <a:ln w="25560">
              <a:solidFill>
                <a:srgbClr val="404040"/>
              </a:solidFill>
              <a:miter/>
              <a:tailEnd len="med" type="arrow" w="med"/>
            </a:ln>
          </p:spPr>
        </p:cxnSp>
        <p:sp>
          <p:nvSpPr>
            <p:cNvPr id="282" name="10 Conector recto"/>
            <p:cNvSpPr/>
            <p:nvPr/>
          </p:nvSpPr>
          <p:spPr>
            <a:xfrm flipV="1">
              <a:off x="5817960" y="3366360"/>
              <a:ext cx="2192400" cy="1900440"/>
            </a:xfrm>
            <a:prstGeom prst="line">
              <a:avLst/>
            </a:prstGeom>
            <a:ln w="2556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11 Forma libre"/>
            <p:cNvSpPr/>
            <p:nvPr/>
          </p:nvSpPr>
          <p:spPr>
            <a:xfrm>
              <a:off x="5829120" y="3366720"/>
              <a:ext cx="2181240" cy="1891080"/>
            </a:xfrm>
            <a:prstGeom prst="pie">
              <a:avLst/>
            </a:prstGeom>
            <a:noFill/>
            <a:ln w="25560">
              <a:solidFill>
                <a:srgbClr val="cc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12 Conector recto"/>
            <p:cNvSpPr/>
            <p:nvPr/>
          </p:nvSpPr>
          <p:spPr>
            <a:xfrm>
              <a:off x="5817960" y="5267520"/>
              <a:ext cx="0" cy="27468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13 Conector recto"/>
            <p:cNvSpPr/>
            <p:nvPr/>
          </p:nvSpPr>
          <p:spPr>
            <a:xfrm>
              <a:off x="8013960" y="3392280"/>
              <a:ext cx="0" cy="214992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14 Conector recto"/>
            <p:cNvSpPr/>
            <p:nvPr/>
          </p:nvSpPr>
          <p:spPr>
            <a:xfrm flipH="1">
              <a:off x="693576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15 Conector recto"/>
            <p:cNvSpPr/>
            <p:nvPr/>
          </p:nvSpPr>
          <p:spPr>
            <a:xfrm flipH="1" flipV="1">
              <a:off x="5527440" y="5267520"/>
              <a:ext cx="24912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16 Conector recto"/>
            <p:cNvSpPr/>
            <p:nvPr/>
          </p:nvSpPr>
          <p:spPr>
            <a:xfrm flipH="1" flipV="1">
              <a:off x="5527080" y="4307040"/>
              <a:ext cx="2195640" cy="1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17 Conector recto"/>
            <p:cNvSpPr/>
            <p:nvPr/>
          </p:nvSpPr>
          <p:spPr>
            <a:xfrm flipH="1">
              <a:off x="5527080" y="5009760"/>
              <a:ext cx="1407960" cy="2844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18 Conector recto"/>
            <p:cNvSpPr/>
            <p:nvPr/>
          </p:nvSpPr>
          <p:spPr>
            <a:xfrm flipH="1">
              <a:off x="5527440" y="3346200"/>
              <a:ext cx="2486160" cy="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19 CuadroTexto"/>
            <p:cNvSpPr/>
            <p:nvPr/>
          </p:nvSpPr>
          <p:spPr>
            <a:xfrm>
              <a:off x="8096040" y="52146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ngreso ($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20 CuadroTexto"/>
            <p:cNvSpPr/>
            <p:nvPr/>
          </p:nvSpPr>
          <p:spPr>
            <a:xfrm>
              <a:off x="5572080" y="3000240"/>
              <a:ext cx="93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tilidad(U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21 CuadroTexto"/>
            <p:cNvSpPr/>
            <p:nvPr/>
          </p:nvSpPr>
          <p:spPr>
            <a:xfrm>
              <a:off x="5618520" y="5579280"/>
              <a:ext cx="40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0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22 CuadroTexto"/>
            <p:cNvSpPr/>
            <p:nvPr/>
          </p:nvSpPr>
          <p:spPr>
            <a:xfrm>
              <a:off x="7802280" y="5583600"/>
              <a:ext cx="41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1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23 Conector recto"/>
            <p:cNvSpPr/>
            <p:nvPr/>
          </p:nvSpPr>
          <p:spPr>
            <a:xfrm flipH="1">
              <a:off x="7723440" y="4307040"/>
              <a:ext cx="1440" cy="1235160"/>
            </a:xfrm>
            <a:prstGeom prst="line">
              <a:avLst/>
            </a:prstGeom>
            <a:ln w="9360">
              <a:solidFill>
                <a:srgbClr val="3e3e3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24 CuadroTexto"/>
            <p:cNvSpPr/>
            <p:nvPr/>
          </p:nvSpPr>
          <p:spPr>
            <a:xfrm>
              <a:off x="6665760" y="5587560"/>
              <a:ext cx="54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I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25 CuadroTexto"/>
            <p:cNvSpPr/>
            <p:nvPr/>
          </p:nvSpPr>
          <p:spPr>
            <a:xfrm>
              <a:off x="4714920" y="4922640"/>
              <a:ext cx="77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E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26 CuadroTexto"/>
            <p:cNvSpPr/>
            <p:nvPr/>
          </p:nvSpPr>
          <p:spPr>
            <a:xfrm>
              <a:off x="4786200" y="419076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E(U(I)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27 CuadroTexto"/>
            <p:cNvSpPr/>
            <p:nvPr/>
          </p:nvSpPr>
          <p:spPr>
            <a:xfrm>
              <a:off x="4857480" y="515124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0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28 CuadroTexto"/>
            <p:cNvSpPr/>
            <p:nvPr/>
          </p:nvSpPr>
          <p:spPr>
            <a:xfrm>
              <a:off x="5038560" y="3237840"/>
              <a:ext cx="4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U(I1)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29 CuadroTexto"/>
            <p:cNvSpPr/>
            <p:nvPr/>
          </p:nvSpPr>
          <p:spPr>
            <a:xfrm>
              <a:off x="7547400" y="5579280"/>
              <a:ext cx="36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4d4d4d"/>
                  </a:solidFill>
                  <a:latin typeface="Verdana"/>
                </a:rPr>
                <a:t>I*</a:t>
              </a:r>
              <a:endParaRPr b="0" lang="en-US" sz="12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quivalente Cier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utilidad depende del nivel de riquez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 = f( W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lt; 0 , el individuo es avers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&gt; 0 , el individuo es amante de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f ´´ = 0 , el individuo es neutro al riesg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Familia García López</cp:lastModifiedBy>
  <cp:lastPrinted>2002-11-13T13:47:55Z</cp:lastPrinted>
  <dcterms:modified xsi:type="dcterms:W3CDTF">2010-05-27T21:08:18Z</dcterms:modified>
  <cp:revision>362</cp:revision>
  <dc:subject/>
  <dc:title>Formulación de Proyectos</dc:title>
</cp:coreProperties>
</file>