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2"/>
          </p:nvPr>
        </p:nvSpPr>
        <p:spPr>
          <a:xfrm>
            <a:off x="3884760" y="-360"/>
            <a:ext cx="29700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176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040" y="4314600"/>
            <a:ext cx="50259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3"/>
          </p:nvPr>
        </p:nvSpPr>
        <p:spPr>
          <a:xfrm>
            <a:off x="-360" y="862920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4"/>
          </p:nvPr>
        </p:nvSpPr>
        <p:spPr>
          <a:xfrm>
            <a:off x="3884760" y="8629200"/>
            <a:ext cx="29700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D0A9717-CCD9-4513-AFD7-84B4C24B8A7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58A81D5-5790-4118-B900-5BD43D725682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040" y="4314600"/>
            <a:ext cx="5025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3A073C6-CF56-4940-ACA6-6C3A6777A5D3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036C261-DD4B-4FC4-9CCA-0AF57342575F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040" y="4314600"/>
            <a:ext cx="5025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2832F32-4B30-4AF2-BB4B-9F0B15585D18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806E3DF-023C-4936-9344-897180FC35CC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F53B956-6D9C-445A-87AB-69698C92FAA3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E1A21-59A6-424D-BA34-E79CC3AD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890BF-DFB3-47CC-AF8E-F32122C9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1701A-97F6-4974-8E6E-BCBC04B2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9A6BA-98D2-441E-851D-6E5CFAA3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5ED2E-FBD8-41E3-9750-3299FA6F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AB766-E7DE-4EAB-A034-439E66E8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93A69-EA94-4DDE-8CBA-B79EB228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E6035-CA37-43FD-BB44-D11CA0CE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98628-6380-41DE-9C96-0895210E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26512-1B07-4712-A569-35225E19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67E19-6100-4B36-96C9-6FA14DE7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C2488-01CE-41EB-8301-4E9E00C3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D1984C-E8EC-4986-986D-F83E6CD9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9EFA16-EA96-4B62-8478-1F33997F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C8FCDB-D5E2-489E-AA61-B5401705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1ACD2-0C1A-419D-9E5B-5D6AA0C0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BED25-2F87-4E35-BD7F-862753C8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9450ED-AA7D-4940-B8C4-C80B0226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AE7D7-81F1-42C6-ABAE-51EFCDCC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C9FA83-4115-4FCA-B0F8-87FCBD8D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CCC3B-EF2B-40FF-ACF4-D7FA53AD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15390-EAB7-4D7D-BFCB-57847C26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86538C-EA24-4B6B-AA33-942325A8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ED5272-E4E8-41C4-9711-3F59C7DF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2798B7-7B05-494E-BAA9-B9B4AB56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C91DCB-0726-4DA2-A39C-B02BE9C1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B66FC5-3853-4EE7-A0AF-1C2EB7E0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686142-F4AE-41F3-B47F-71025F4E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3787FD-FAF9-4C68-B229-4396E038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EAF6C2-F8C4-47BE-B8C5-F955D2C7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A1BEDF-2C0C-40B2-99B8-93A37668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99C2F1-F324-460E-9257-8744E233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9D2CC9-668B-4751-B7EC-B33A68D8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221651-6200-4039-A720-E3D2DCC9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77F227-8C3C-4DD2-8A9C-0EBCB0CD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0C1510-0766-4A08-A167-96CFBAB0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88D2-9FF8-463E-B0CE-9FD812F5699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4" name="Line 4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123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CE34-14A8-4DC9-8ACD-7E6DD9010DE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166" name="Line 7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348A-768C-4173-A8B3-9E148EF49B68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745760" cy="25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se define una lotería Y, con resultados Ya con probabilidad </a:t>
            </a:r>
            <a:r>
              <a:rPr b="0" lang="es-ES" sz="20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, Yb con probabilidad </a:t>
            </a:r>
            <a:r>
              <a:rPr b="0" lang="es-ES" sz="20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, entonces para el averso al riesgo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U(E(Y)) &gt; E (U(I)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U(E(Y)) &gt; </a:t>
            </a:r>
            <a:r>
              <a:rPr b="0" lang="es-ES" sz="18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 U(Ya) + </a:t>
            </a:r>
            <a:r>
              <a:rPr b="0" lang="es-ES" sz="18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 U(Yb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Equivalente cierto: Un nivel de riqueza Yec. Tal que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U(Yec) = E (U(Y)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quivalente Cier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308" name="4 Grupo"/>
          <p:cNvGrpSpPr/>
          <p:nvPr/>
        </p:nvGrpSpPr>
        <p:grpSpPr>
          <a:xfrm>
            <a:off x="4357800" y="3500280"/>
            <a:ext cx="4357440" cy="2863800"/>
            <a:chOff x="4357800" y="3500280"/>
            <a:chExt cx="4357440" cy="2863800"/>
          </a:xfrm>
        </p:grpSpPr>
        <p:cxnSp>
          <p:nvCxnSpPr>
            <p:cNvPr id="309" name="5 Conector recto de flecha"/>
            <p:cNvCxnSpPr/>
            <p:nvPr/>
          </p:nvCxnSpPr>
          <p:spPr>
            <a:xfrm>
              <a:off x="5098680" y="604188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310" name="6 Conector recto de flecha"/>
            <p:cNvCxnSpPr/>
            <p:nvPr/>
          </p:nvCxnSpPr>
          <p:spPr>
            <a:xfrm flipV="1">
              <a:off x="5097960" y="361728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311" name="7 Conector recto"/>
            <p:cNvSpPr/>
            <p:nvPr/>
          </p:nvSpPr>
          <p:spPr>
            <a:xfrm flipV="1">
              <a:off x="5357880" y="3863520"/>
              <a:ext cx="2192040" cy="1900440"/>
            </a:xfrm>
            <a:prstGeom prst="line">
              <a:avLst/>
            </a:prstGeom>
            <a:ln w="255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2" name="8 Forma libre"/>
            <p:cNvSpPr/>
            <p:nvPr/>
          </p:nvSpPr>
          <p:spPr>
            <a:xfrm rot="10800000">
              <a:off x="5400360" y="3866400"/>
              <a:ext cx="2181240" cy="1891080"/>
            </a:xfrm>
            <a:prstGeom prst="pie">
              <a:avLst/>
            </a:prstGeom>
            <a:noFill/>
            <a:ln w="25560">
              <a:solidFill>
                <a:srgbClr val="cc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3" name="9 Conector recto"/>
            <p:cNvSpPr/>
            <p:nvPr/>
          </p:nvSpPr>
          <p:spPr>
            <a:xfrm>
              <a:off x="5389560" y="5767560"/>
              <a:ext cx="0" cy="27468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4" name="10 Conector recto"/>
            <p:cNvSpPr/>
            <p:nvPr/>
          </p:nvSpPr>
          <p:spPr>
            <a:xfrm>
              <a:off x="7585200" y="3892320"/>
              <a:ext cx="0" cy="21499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5" name="11 Conector recto"/>
            <p:cNvSpPr/>
            <p:nvPr/>
          </p:nvSpPr>
          <p:spPr>
            <a:xfrm>
              <a:off x="6396120" y="4149360"/>
              <a:ext cx="33120" cy="18576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6" name="12 Conector recto"/>
            <p:cNvSpPr/>
            <p:nvPr/>
          </p:nvSpPr>
          <p:spPr>
            <a:xfrm flipH="1" flipV="1">
              <a:off x="5099040" y="576756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7" name="13 Conector recto"/>
            <p:cNvSpPr/>
            <p:nvPr/>
          </p:nvSpPr>
          <p:spPr>
            <a:xfrm flipH="1">
              <a:off x="5111280" y="4117680"/>
              <a:ext cx="125892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8" name="14 Conector recto"/>
            <p:cNvSpPr/>
            <p:nvPr/>
          </p:nvSpPr>
          <p:spPr>
            <a:xfrm flipH="1">
              <a:off x="5111640" y="4863240"/>
              <a:ext cx="131760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9" name="15 Conector recto"/>
            <p:cNvSpPr/>
            <p:nvPr/>
          </p:nvSpPr>
          <p:spPr>
            <a:xfrm flipH="1">
              <a:off x="5098680" y="3846240"/>
              <a:ext cx="248580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0" name="16 CuadroTexto"/>
            <p:cNvSpPr/>
            <p:nvPr/>
          </p:nvSpPr>
          <p:spPr>
            <a:xfrm>
              <a:off x="7667280" y="571464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Loteria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1" name="17 CuadroTexto"/>
            <p:cNvSpPr/>
            <p:nvPr/>
          </p:nvSpPr>
          <p:spPr>
            <a:xfrm>
              <a:off x="5143320" y="350028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2" name="18 CuadroTexto"/>
            <p:cNvSpPr/>
            <p:nvPr/>
          </p:nvSpPr>
          <p:spPr>
            <a:xfrm>
              <a:off x="5190120" y="607932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MX" sz="1100" spc="-1" strike="noStrike">
                  <a:solidFill>
                    <a:srgbClr val="4d4d4d"/>
                  </a:solidFill>
                  <a:latin typeface="Verdana"/>
                </a:rPr>
                <a:t>0</a:t>
              </a:r>
              <a:endParaRPr b="0" lang="en-US" sz="11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3" name="19 CuadroTexto"/>
            <p:cNvSpPr/>
            <p:nvPr/>
          </p:nvSpPr>
          <p:spPr>
            <a:xfrm>
              <a:off x="7373880" y="6083640"/>
              <a:ext cx="41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1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4" name="20 Conector recto"/>
            <p:cNvSpPr/>
            <p:nvPr/>
          </p:nvSpPr>
          <p:spPr>
            <a:xfrm>
              <a:off x="5614920" y="4910040"/>
              <a:ext cx="15840" cy="11304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5" name="21 CuadroTexto"/>
            <p:cNvSpPr/>
            <p:nvPr/>
          </p:nvSpPr>
          <p:spPr>
            <a:xfrm>
              <a:off x="6153480" y="6087600"/>
              <a:ext cx="54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Y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6" name="22 CuadroTexto"/>
            <p:cNvSpPr/>
            <p:nvPr/>
          </p:nvSpPr>
          <p:spPr>
            <a:xfrm>
              <a:off x="4371840" y="3980880"/>
              <a:ext cx="7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Y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7" name="23 CuadroTexto"/>
            <p:cNvSpPr/>
            <p:nvPr/>
          </p:nvSpPr>
          <p:spPr>
            <a:xfrm>
              <a:off x="4357800" y="47214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U(Y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8" name="24 CuadroTexto"/>
            <p:cNvSpPr/>
            <p:nvPr/>
          </p:nvSpPr>
          <p:spPr>
            <a:xfrm>
              <a:off x="4429080" y="5651640"/>
              <a:ext cx="62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0</a:t>
              </a: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9" name="25 CuadroTexto"/>
            <p:cNvSpPr/>
            <p:nvPr/>
          </p:nvSpPr>
          <p:spPr>
            <a:xfrm>
              <a:off x="4572000" y="373824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1</a:t>
              </a: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0" name="26 CuadroTexto"/>
            <p:cNvSpPr/>
            <p:nvPr/>
          </p:nvSpPr>
          <p:spPr>
            <a:xfrm>
              <a:off x="5487840" y="60660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ec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501480" y="1197000"/>
            <a:ext cx="81028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 u="sng">
                <a:solidFill>
                  <a:srgbClr val="4d4d4d"/>
                </a:solidFill>
                <a:uFillTx/>
                <a:latin typeface="Verdana"/>
              </a:rPr>
              <a:t>Ejempl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Suponga que Ud. posee $250.000. Decide comprar una bicicleta que tiene un valor de $200.000, y además invierte la diferencia en un depósito bancario que le reporta un interés anual de 6%. Según un estudio estadístico, existe una probabilidad de 0,1% que su bicicleta sea robada, con lo que el valor económico de ella sería ce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Si su función de utilidad es U (x) = Ln (x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¿Cuánto estaría dispuesto a pagar para asegurar su bicicleta al principio del año?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57120" y="1155240"/>
            <a:ext cx="84628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4d4d4d"/>
                </a:solidFill>
                <a:latin typeface="Verdana"/>
              </a:rPr>
              <a:t>Solució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Tenemos dos posibilidades: comprar la bicicleta y que no me roben, con probabilidad de 0,999, y comprar la bicicleta y que me la roben, con probabilidad de 0,001.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3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l valor esperado de mi beneficio (x) será de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E(x) = 0,999*(200.000+1,06*50.000)+0,001*(0+1,06*50.000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E(x) = 0,999 * 253.000 + 0,001 * 53.000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E(x) = 252.800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Por otro lado, el valor esperado de mi utilidad será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(U(x)) = 0,999 * Ln(253.000) + 0,001 * Ln (53.000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(U(x)) = 0,999 * 12,441 + 0,001 * 10,878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(U(x)) = 12,4396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Calculamos el equivalente cierto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U(EC) = E (U(x)) y U(x)=Ln(x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EC = exp(E(U(x))) = exp(12,3496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EC = 252.609,48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Finalmente, la disponibilidad a pagar será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Disp. a pagar = E(x) – EC = 252.800 – 252.609,48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Disp. a pagar = 190.52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Esta disponibilidad a pagar es el premio por riesgo. Esto es lo máximo que se está dispuesto a pagar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2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611280" y="1413000"/>
            <a:ext cx="777240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Un individuo tiene una riqueza actual de $100,000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l próximo año puede perder su automóvil valorado en $20,000 con probabilidad 25% como consecuencia de un rob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unción de Utilidad: U(W)=ln(W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Hallar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) Utilidad Esperad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i) Prima Justa (aquella que sólo cubre los costos de indemnizaciones, costos de administración = 0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ii) Máxima Prima dispuesto a pagar.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v) Prima por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jempl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2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500040" y="981000"/>
            <a:ext cx="7782120" cy="5290200"/>
            <a:chOff x="500040" y="981000"/>
            <a:chExt cx="7782120" cy="5290200"/>
          </a:xfrm>
        </p:grpSpPr>
        <p:sp>
          <p:nvSpPr>
            <p:cNvPr id="345" name="Text Box 4"/>
            <p:cNvSpPr/>
            <p:nvPr/>
          </p:nvSpPr>
          <p:spPr>
            <a:xfrm>
              <a:off x="3683160" y="59288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0000"/>
                  </a:solidFill>
                  <a:latin typeface="Arial"/>
                </a:rPr>
                <a:t>94.574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grpSp>
          <p:nvGrpSpPr>
            <p:cNvPr id="346" name="Group 5"/>
            <p:cNvGrpSpPr/>
            <p:nvPr/>
          </p:nvGrpSpPr>
          <p:grpSpPr>
            <a:xfrm>
              <a:off x="500040" y="981000"/>
              <a:ext cx="7782120" cy="5290200"/>
              <a:chOff x="500040" y="981000"/>
              <a:chExt cx="7782120" cy="5290200"/>
            </a:xfrm>
          </p:grpSpPr>
          <p:sp>
            <p:nvSpPr>
              <p:cNvPr id="347" name="Text Box 6"/>
              <p:cNvSpPr/>
              <p:nvPr/>
            </p:nvSpPr>
            <p:spPr>
              <a:xfrm>
                <a:off x="500040" y="2392200"/>
                <a:ext cx="1832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Arial"/>
                  </a:rPr>
                  <a:t>E(U(x)=11,457</a:t>
                </a:r>
                <a:endParaRPr b="0" lang="en-US" sz="20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48" name="Text Box 7"/>
              <p:cNvSpPr/>
              <p:nvPr/>
            </p:nvSpPr>
            <p:spPr>
              <a:xfrm>
                <a:off x="2743200" y="5933880"/>
                <a:ext cx="1066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4d4d4d"/>
                    </a:solidFill>
                    <a:latin typeface="Arial"/>
                  </a:rPr>
                  <a:t>80.000</a:t>
                </a:r>
                <a:endParaRPr b="0" lang="en-US" sz="16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49" name="Text Box 8"/>
              <p:cNvSpPr/>
              <p:nvPr/>
            </p:nvSpPr>
            <p:spPr>
              <a:xfrm>
                <a:off x="5791320" y="5933880"/>
                <a:ext cx="121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4d4d4d"/>
                    </a:solidFill>
                    <a:latin typeface="Arial"/>
                  </a:rPr>
                  <a:t>100.000</a:t>
                </a:r>
                <a:endParaRPr b="0" lang="en-US" sz="16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50" name="Text Box 9"/>
              <p:cNvSpPr/>
              <p:nvPr/>
            </p:nvSpPr>
            <p:spPr>
              <a:xfrm>
                <a:off x="4495680" y="5933880"/>
                <a:ext cx="121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4d4d4d"/>
                    </a:solidFill>
                    <a:latin typeface="Arial"/>
                  </a:rPr>
                  <a:t>95.000</a:t>
                </a:r>
                <a:endParaRPr b="0" lang="en-US" sz="16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51" name="Text Box 10"/>
              <p:cNvSpPr/>
              <p:nvPr/>
            </p:nvSpPr>
            <p:spPr>
              <a:xfrm>
                <a:off x="844560" y="1514160"/>
                <a:ext cx="148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Arial"/>
                  </a:rPr>
                  <a:t>U(x)=11,51</a:t>
                </a:r>
                <a:endParaRPr b="0" lang="en-US" sz="20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52" name="Text Box 11"/>
              <p:cNvSpPr/>
              <p:nvPr/>
            </p:nvSpPr>
            <p:spPr>
              <a:xfrm>
                <a:off x="844560" y="3230280"/>
                <a:ext cx="148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Arial"/>
                  </a:rPr>
                  <a:t>U(x)=11,29</a:t>
                </a:r>
                <a:endParaRPr b="0" lang="en-US" sz="20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grpSp>
            <p:nvGrpSpPr>
              <p:cNvPr id="353" name="Group 12"/>
              <p:cNvGrpSpPr/>
              <p:nvPr/>
            </p:nvGrpSpPr>
            <p:grpSpPr>
              <a:xfrm>
                <a:off x="2338560" y="981000"/>
                <a:ext cx="5943600" cy="5256720"/>
                <a:chOff x="2338560" y="981000"/>
                <a:chExt cx="5943600" cy="5256720"/>
              </a:xfrm>
            </p:grpSpPr>
            <p:grpSp>
              <p:nvGrpSpPr>
                <p:cNvPr id="354" name="Group 13"/>
                <p:cNvGrpSpPr/>
                <p:nvPr/>
              </p:nvGrpSpPr>
              <p:grpSpPr>
                <a:xfrm>
                  <a:off x="2362320" y="1742400"/>
                  <a:ext cx="4400280" cy="4495320"/>
                  <a:chOff x="2362320" y="1742400"/>
                  <a:chExt cx="4400280" cy="4495320"/>
                </a:xfrm>
              </p:grpSpPr>
              <p:sp>
                <p:nvSpPr>
                  <p:cNvPr id="355" name="Line 14"/>
                  <p:cNvSpPr/>
                  <p:nvPr/>
                </p:nvSpPr>
                <p:spPr>
                  <a:xfrm>
                    <a:off x="2362320" y="2199600"/>
                    <a:ext cx="2438280" cy="0"/>
                  </a:xfrm>
                  <a:prstGeom prst="line">
                    <a:avLst/>
                  </a:prstGeom>
                  <a:ln w="28440">
                    <a:solidFill>
                      <a:srgbClr val="4d4d4d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6" name="Line 15"/>
                  <p:cNvSpPr/>
                  <p:nvPr/>
                </p:nvSpPr>
                <p:spPr>
                  <a:xfrm>
                    <a:off x="2362320" y="3418920"/>
                    <a:ext cx="914400" cy="0"/>
                  </a:xfrm>
                  <a:prstGeom prst="line">
                    <a:avLst/>
                  </a:prstGeom>
                  <a:ln w="28440">
                    <a:solidFill>
                      <a:srgbClr val="4d4d4d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7" name="Line 16"/>
                  <p:cNvSpPr/>
                  <p:nvPr/>
                </p:nvSpPr>
                <p:spPr>
                  <a:xfrm>
                    <a:off x="2362320" y="2580480"/>
                    <a:ext cx="2438280" cy="0"/>
                  </a:xfrm>
                  <a:prstGeom prst="line">
                    <a:avLst/>
                  </a:prstGeom>
                  <a:ln w="28440">
                    <a:solidFill>
                      <a:srgbClr val="4d4d4d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8" name="Line 17"/>
                  <p:cNvSpPr/>
                  <p:nvPr/>
                </p:nvSpPr>
                <p:spPr>
                  <a:xfrm>
                    <a:off x="4114800" y="2580480"/>
                    <a:ext cx="0" cy="3352680"/>
                  </a:xfrm>
                  <a:prstGeom prst="line">
                    <a:avLst/>
                  </a:prstGeom>
                  <a:ln w="28440">
                    <a:solidFill>
                      <a:srgbClr val="cc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359" name="Group 18"/>
                  <p:cNvGrpSpPr/>
                  <p:nvPr/>
                </p:nvGrpSpPr>
                <p:grpSpPr>
                  <a:xfrm>
                    <a:off x="2362320" y="1742400"/>
                    <a:ext cx="4400280" cy="4495320"/>
                    <a:chOff x="2362320" y="1742400"/>
                    <a:chExt cx="4400280" cy="4495320"/>
                  </a:xfrm>
                </p:grpSpPr>
                <p:grpSp>
                  <p:nvGrpSpPr>
                    <p:cNvPr id="360" name="Group 19"/>
                    <p:cNvGrpSpPr/>
                    <p:nvPr/>
                  </p:nvGrpSpPr>
                  <p:grpSpPr>
                    <a:xfrm>
                      <a:off x="2362320" y="1742400"/>
                      <a:ext cx="4400280" cy="4495320"/>
                      <a:chOff x="2362320" y="1742400"/>
                      <a:chExt cx="4400280" cy="4495320"/>
                    </a:xfrm>
                  </p:grpSpPr>
                  <p:sp>
                    <p:nvSpPr>
                      <p:cNvPr id="361" name="Arc 20"/>
                      <p:cNvSpPr/>
                      <p:nvPr/>
                    </p:nvSpPr>
                    <p:spPr>
                      <a:xfrm flipV="1">
                        <a:off x="2362320" y="1741680"/>
                        <a:ext cx="4400280" cy="44953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4d4d4d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362" name="Line 21"/>
                      <p:cNvSpPr/>
                      <p:nvPr/>
                    </p:nvSpPr>
                    <p:spPr>
                      <a:xfrm>
                        <a:off x="3276720" y="3418920"/>
                        <a:ext cx="0" cy="2514240"/>
                      </a:xfrm>
                      <a:prstGeom prst="line">
                        <a:avLst/>
                      </a:prstGeom>
                      <a:ln w="28440">
                        <a:solidFill>
                          <a:srgbClr val="4d4d4d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</p:grpSp>
                <p:sp>
                  <p:nvSpPr>
                    <p:cNvPr id="363" name="Line 22"/>
                    <p:cNvSpPr/>
                    <p:nvPr/>
                  </p:nvSpPr>
                  <p:spPr>
                    <a:xfrm flipV="1">
                      <a:off x="3276720" y="1742760"/>
                      <a:ext cx="3047760" cy="167616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64" name="Line 23"/>
                    <p:cNvSpPr/>
                    <p:nvPr/>
                  </p:nvSpPr>
                  <p:spPr>
                    <a:xfrm>
                      <a:off x="4876920" y="4028400"/>
                      <a:ext cx="1447560" cy="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365" name="Line 24"/>
                  <p:cNvSpPr/>
                  <p:nvPr/>
                </p:nvSpPr>
                <p:spPr>
                  <a:xfrm>
                    <a:off x="4267080" y="4942800"/>
                    <a:ext cx="1981440" cy="0"/>
                  </a:xfrm>
                  <a:prstGeom prst="line">
                    <a:avLst/>
                  </a:prstGeom>
                  <a:ln w="9360">
                    <a:solidFill>
                      <a:srgbClr val="cc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66" name="Group 25"/>
                <p:cNvGrpSpPr/>
                <p:nvPr/>
              </p:nvGrpSpPr>
              <p:grpSpPr>
                <a:xfrm>
                  <a:off x="2338560" y="981000"/>
                  <a:ext cx="5943600" cy="4955400"/>
                  <a:chOff x="2338560" y="981000"/>
                  <a:chExt cx="5943600" cy="4955400"/>
                </a:xfrm>
              </p:grpSpPr>
              <p:grpSp>
                <p:nvGrpSpPr>
                  <p:cNvPr id="367" name="Group 26"/>
                  <p:cNvGrpSpPr/>
                  <p:nvPr/>
                </p:nvGrpSpPr>
                <p:grpSpPr>
                  <a:xfrm>
                    <a:off x="2338560" y="981000"/>
                    <a:ext cx="5943600" cy="4955400"/>
                    <a:chOff x="2338560" y="981000"/>
                    <a:chExt cx="5943600" cy="4955400"/>
                  </a:xfrm>
                </p:grpSpPr>
                <p:sp>
                  <p:nvSpPr>
                    <p:cNvPr id="368" name="Line 27"/>
                    <p:cNvSpPr/>
                    <p:nvPr/>
                  </p:nvSpPr>
                  <p:spPr>
                    <a:xfrm>
                      <a:off x="6300720" y="1746000"/>
                      <a:ext cx="0" cy="4190400"/>
                    </a:xfrm>
                    <a:prstGeom prst="line">
                      <a:avLst/>
                    </a:prstGeom>
                    <a:ln w="28440">
                      <a:solidFill>
                        <a:srgbClr val="4d4d4d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69" name="Line 28"/>
                    <p:cNvSpPr/>
                    <p:nvPr/>
                  </p:nvSpPr>
                  <p:spPr>
                    <a:xfrm>
                      <a:off x="4776840" y="2199960"/>
                      <a:ext cx="0" cy="3733560"/>
                    </a:xfrm>
                    <a:prstGeom prst="line">
                      <a:avLst/>
                    </a:prstGeom>
                    <a:ln w="28440">
                      <a:solidFill>
                        <a:srgbClr val="4d4d4d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70" name="Line 29"/>
                    <p:cNvSpPr/>
                    <p:nvPr/>
                  </p:nvSpPr>
                  <p:spPr>
                    <a:xfrm flipV="1">
                      <a:off x="2338560" y="981000"/>
                      <a:ext cx="0" cy="495288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71" name="Line 30"/>
                    <p:cNvSpPr/>
                    <p:nvPr/>
                  </p:nvSpPr>
                  <p:spPr>
                    <a:xfrm>
                      <a:off x="2338560" y="5933880"/>
                      <a:ext cx="5943600" cy="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372" name="Group 31"/>
                    <p:cNvGrpSpPr/>
                    <p:nvPr/>
                  </p:nvGrpSpPr>
                  <p:grpSpPr>
                    <a:xfrm>
                      <a:off x="2362320" y="1742760"/>
                      <a:ext cx="4952880" cy="2079000"/>
                      <a:chOff x="2362320" y="1742760"/>
                      <a:chExt cx="4952880" cy="2079000"/>
                    </a:xfrm>
                  </p:grpSpPr>
                  <p:sp>
                    <p:nvSpPr>
                      <p:cNvPr id="373" name="Line 32"/>
                      <p:cNvSpPr/>
                      <p:nvPr/>
                    </p:nvSpPr>
                    <p:spPr>
                      <a:xfrm>
                        <a:off x="2362320" y="1742760"/>
                        <a:ext cx="403848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4d4d4d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374" name="Text Box 33"/>
                      <p:cNvSpPr/>
                      <p:nvPr/>
                    </p:nvSpPr>
                    <p:spPr>
                      <a:xfrm>
                        <a:off x="4952880" y="3114000"/>
                        <a:ext cx="2362320" cy="7077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_tradnl" sz="1600" spc="-1" strike="noStrike">
                            <a:solidFill>
                              <a:srgbClr val="4d4d4d"/>
                            </a:solidFill>
                            <a:latin typeface="Arial"/>
                          </a:rPr>
                          <a:t>Prima Justa:</a:t>
                        </a:r>
                        <a:endParaRPr b="0" lang="en-US" sz="16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_tradnl" sz="1600" spc="-1" strike="noStrike">
                            <a:solidFill>
                              <a:srgbClr val="4d4d4d"/>
                            </a:solidFill>
                            <a:latin typeface="Arial"/>
                          </a:rPr>
                          <a:t>0,25*20.000=5.000</a:t>
                        </a:r>
                        <a:endParaRPr b="0" lang="en-US" sz="16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</p:grpSp>
              </p:grpSp>
              <p:sp>
                <p:nvSpPr>
                  <p:cNvPr id="375" name="Text Box 34"/>
                  <p:cNvSpPr/>
                  <p:nvPr/>
                </p:nvSpPr>
                <p:spPr>
                  <a:xfrm>
                    <a:off x="4343400" y="4181040"/>
                    <a:ext cx="3124080" cy="70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0000"/>
                        </a:solidFill>
                        <a:latin typeface="Arial"/>
                      </a:rPr>
                      <a:t>Máxima Prima de Seguro:</a:t>
                    </a:r>
                    <a:endParaRPr b="0" lang="en-US" sz="16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0000"/>
                        </a:solidFill>
                        <a:latin typeface="Arial"/>
                      </a:rPr>
                      <a:t>100.000 – 94.574 = 5.426</a:t>
                    </a:r>
                    <a:endParaRPr b="0" lang="en-US" sz="16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jempl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428760" y="2000160"/>
            <a:ext cx="19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U(E(x))=11,461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8" name="Line 24"/>
          <p:cNvSpPr/>
          <p:nvPr/>
        </p:nvSpPr>
        <p:spPr>
          <a:xfrm flipV="1">
            <a:off x="4162320" y="5643360"/>
            <a:ext cx="571680" cy="4572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9" name="Text Box 34"/>
          <p:cNvSpPr/>
          <p:nvPr/>
        </p:nvSpPr>
        <p:spPr>
          <a:xfrm>
            <a:off x="4929120" y="5143680"/>
            <a:ext cx="235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Prima por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95.000 – 94.574 = 426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cc3300"/>
                </a:solidFill>
                <a:latin typeface="Verdana"/>
              </a:rPr>
              <a:t>Ejemplo 2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66280" y="1071360"/>
            <a:ext cx="80773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Un individuo tiene 3 posibilidades de empleo-sueldo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Alt 1: $500.000/mes </a:t>
            </a:r>
            <a:r>
              <a:rPr b="0" lang="es-ES" sz="1600" spc="-1" strike="noStrike">
                <a:solidFill>
                  <a:srgbClr val="4d4d4d"/>
                </a:solidFill>
                <a:latin typeface="Verdana"/>
              </a:rPr>
              <a:t>en forma segura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Alt 2: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Alt 3: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SU función de utilidad es: U = I</a:t>
            </a:r>
            <a:r>
              <a:rPr b="0" lang="es-MX" sz="1800" spc="-1" strike="noStrike" baseline="30000">
                <a:solidFill>
                  <a:srgbClr val="4d4d4d"/>
                </a:solidFill>
                <a:latin typeface="Verdana"/>
              </a:rPr>
              <a:t>4/3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Determinar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Su disposición al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Que alternativa laboral escogería (costo del juego?)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Cual es la prima por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Que alternativa escogería si tuviera un seguro que en caso de cesantía le entregara $300.000 /mes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Cuanto esta dispuesto a pagar por el segur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Cual es la prima por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2" name="2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2357280" y="1857240"/>
          <a:ext cx="3357720" cy="854280"/>
        </p:xfrm>
        <a:graphic>
          <a:graphicData uri="http://schemas.openxmlformats.org/drawingml/2006/table">
            <a:tbl>
              <a:tblPr/>
              <a:tblGrid>
                <a:gridCol w="1679760"/>
                <a:gridCol w="1677960"/>
              </a:tblGrid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babilidad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Ingreso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</a:tr>
              <a:tr h="2138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5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75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3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40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2357280" y="2857680"/>
          <a:ext cx="3357720" cy="853920"/>
        </p:xfrm>
        <a:graphic>
          <a:graphicData uri="http://schemas.openxmlformats.org/drawingml/2006/table">
            <a:tbl>
              <a:tblPr/>
              <a:tblGrid>
                <a:gridCol w="1679760"/>
                <a:gridCol w="1677960"/>
              </a:tblGrid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babilidad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Ingreso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90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5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Bibliografí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Verdana"/>
              </a:rPr>
              <a:t>Fundamentos de Financiación Empresarial, R. Brealey y S. Myers, Quinta Edición, Capítulo 7,8,9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717480" y="1197000"/>
            <a:ext cx="79581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l análisis de valores históricos refleja que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ste un relación entre riesgo y rentabilidad  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os activos más rentables son más riesgos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d4d4d"/>
                </a:solidFill>
                <a:uFillTx/>
                <a:latin typeface="Verdana"/>
              </a:rPr>
              <a:t>Ejemplo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Una persona puede  elegir entre dos alternativas de sueldo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Sueldo fijo de $100.000 ó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nzar una  moneda y recibir $200.000 si sale cara y $0 si es sello. ¿Qué escogerá?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Valor esperado de ambas alternativas $100.000.-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oría de la Utilidad Cardina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s situaciones obligan a preguntarse cómo se explica  entonces, el proceso de decisión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teoría expuesta ofrece esta explicación (aunque con limitaciones)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individuo cuando se enfrenta a situaciones de riesgo, puede asignar un valor a cada una de las alternativas que analiza. Estos son los índices de utilidad cardinal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400" spc="-1" strike="noStrike">
                <a:solidFill>
                  <a:srgbClr val="cc3300"/>
                </a:solidFill>
                <a:latin typeface="Verdana"/>
              </a:rPr>
              <a:t>Supuestos en resume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Resumiendo lo anterior, se puede decir que los supuestos de la Teoría de la utilidad de </a:t>
            </a:r>
            <a:r>
              <a:rPr b="0" i="1" lang="es-ES" sz="2600" spc="-1" strike="noStrike">
                <a:solidFill>
                  <a:srgbClr val="4d4d4d"/>
                </a:solidFill>
                <a:latin typeface="Verdana"/>
              </a:rPr>
              <a:t>Von Neuman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 y </a:t>
            </a:r>
            <a:r>
              <a:rPr b="0" i="1" lang="es-ES" sz="2600" spc="-1" strike="noStrike">
                <a:solidFill>
                  <a:srgbClr val="4d4d4d"/>
                </a:solidFill>
                <a:latin typeface="Verdana"/>
              </a:rPr>
              <a:t>Morgenstern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 so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l individuo puede ordenar alternativas o las utilidades asociadas a ell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uede establecer relaciones de transitividad en su ordenamiento preferencial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uede determinar pesos </a:t>
            </a:r>
            <a:r>
              <a:rPr b="0" lang="el-GR" sz="2200" spc="-1" strike="noStrike">
                <a:solidFill>
                  <a:srgbClr val="4d4d4d"/>
                </a:solidFill>
                <a:latin typeface="Verdana"/>
                <a:ea typeface="Arial"/>
              </a:rPr>
              <a:t>α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 -probabilidades- para comparar alternativas o las utilidades asociad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¿Averso o propenso?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personas pueden se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versas al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ropensas al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ndiferentes al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a persona que esté dispuesta a pagar por "jugar" una lotería podrá determinar su actitud al riesgo, según el monto que pagu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diferencia al riesg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66280" y="1267920"/>
            <a:ext cx="8148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 la persona fuera indiferente al riesgo, pagaría exactamente $5,000 por participar en el jueg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(E(I))=E(U(I)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(I)=I*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31" name="29 Grupo"/>
          <p:cNvGrpSpPr/>
          <p:nvPr/>
        </p:nvGrpSpPr>
        <p:grpSpPr>
          <a:xfrm>
            <a:off x="1928880" y="3429000"/>
            <a:ext cx="5000400" cy="2863440"/>
            <a:chOff x="1928880" y="3429000"/>
            <a:chExt cx="5000400" cy="2863440"/>
          </a:xfrm>
        </p:grpSpPr>
        <p:cxnSp>
          <p:nvCxnSpPr>
            <p:cNvPr id="232" name="6 Conector recto de flecha"/>
            <p:cNvCxnSpPr/>
            <p:nvPr/>
          </p:nvCxnSpPr>
          <p:spPr>
            <a:xfrm>
              <a:off x="3312720" y="597024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233" name="7 Conector recto de flecha"/>
            <p:cNvCxnSpPr/>
            <p:nvPr/>
          </p:nvCxnSpPr>
          <p:spPr>
            <a:xfrm flipV="1">
              <a:off x="3312000" y="354600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234" name="8 Conector recto"/>
            <p:cNvSpPr/>
            <p:nvPr/>
          </p:nvSpPr>
          <p:spPr>
            <a:xfrm flipV="1">
              <a:off x="3571920" y="3791880"/>
              <a:ext cx="2192040" cy="190044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10 Conector recto"/>
            <p:cNvSpPr/>
            <p:nvPr/>
          </p:nvSpPr>
          <p:spPr>
            <a:xfrm>
              <a:off x="3603600" y="5695920"/>
              <a:ext cx="0" cy="2743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11 Conector recto"/>
            <p:cNvSpPr/>
            <p:nvPr/>
          </p:nvSpPr>
          <p:spPr>
            <a:xfrm>
              <a:off x="5799240" y="3821040"/>
              <a:ext cx="0" cy="21495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12 Conector recto"/>
            <p:cNvSpPr/>
            <p:nvPr/>
          </p:nvSpPr>
          <p:spPr>
            <a:xfrm>
              <a:off x="4643280" y="4792680"/>
              <a:ext cx="0" cy="11430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13 Conector recto"/>
            <p:cNvSpPr/>
            <p:nvPr/>
          </p:nvSpPr>
          <p:spPr>
            <a:xfrm flipH="1" flipV="1">
              <a:off x="3313080" y="569592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15 Conector recto"/>
            <p:cNvSpPr/>
            <p:nvPr/>
          </p:nvSpPr>
          <p:spPr>
            <a:xfrm flipH="1">
              <a:off x="3325680" y="4791960"/>
              <a:ext cx="131760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16 Conector recto"/>
            <p:cNvSpPr/>
            <p:nvPr/>
          </p:nvSpPr>
          <p:spPr>
            <a:xfrm flipH="1">
              <a:off x="3312720" y="3774960"/>
              <a:ext cx="248580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17 CuadroTexto"/>
            <p:cNvSpPr/>
            <p:nvPr/>
          </p:nvSpPr>
          <p:spPr>
            <a:xfrm>
              <a:off x="5881320" y="564336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ngreso ($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18 CuadroTexto"/>
            <p:cNvSpPr/>
            <p:nvPr/>
          </p:nvSpPr>
          <p:spPr>
            <a:xfrm>
              <a:off x="3426120" y="342900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19 CuadroTexto"/>
            <p:cNvSpPr/>
            <p:nvPr/>
          </p:nvSpPr>
          <p:spPr>
            <a:xfrm>
              <a:off x="3404160" y="600768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0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20 CuadroTexto"/>
            <p:cNvSpPr/>
            <p:nvPr/>
          </p:nvSpPr>
          <p:spPr>
            <a:xfrm>
              <a:off x="5587560" y="6012000"/>
              <a:ext cx="41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1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22 CuadroTexto"/>
            <p:cNvSpPr/>
            <p:nvPr/>
          </p:nvSpPr>
          <p:spPr>
            <a:xfrm>
              <a:off x="4205520" y="6015960"/>
              <a:ext cx="86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I)=I*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24 CuadroTexto"/>
            <p:cNvSpPr/>
            <p:nvPr/>
          </p:nvSpPr>
          <p:spPr>
            <a:xfrm>
              <a:off x="1928880" y="4650120"/>
              <a:ext cx="133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I))=E(U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25 CuadroTexto"/>
            <p:cNvSpPr/>
            <p:nvPr/>
          </p:nvSpPr>
          <p:spPr>
            <a:xfrm>
              <a:off x="2643120" y="5580000"/>
              <a:ext cx="62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0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26 CuadroTexto"/>
            <p:cNvSpPr/>
            <p:nvPr/>
          </p:nvSpPr>
          <p:spPr>
            <a:xfrm>
              <a:off x="2786040" y="3666600"/>
              <a:ext cx="4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1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versión al riesg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66280" y="1267920"/>
            <a:ext cx="807732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 esa misma persona fuera totalmente  aversa al riesgo y se enfrenta a la misma situación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agará menos del valor esperado del juego por participar en él.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O sea, pagará menos de $5,000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52" name="37 Grupo"/>
          <p:cNvGrpSpPr/>
          <p:nvPr/>
        </p:nvGrpSpPr>
        <p:grpSpPr>
          <a:xfrm>
            <a:off x="2571840" y="3494160"/>
            <a:ext cx="4357440" cy="2863440"/>
            <a:chOff x="2571840" y="3494160"/>
            <a:chExt cx="4357440" cy="2863440"/>
          </a:xfrm>
        </p:grpSpPr>
        <p:cxnSp>
          <p:nvCxnSpPr>
            <p:cNvPr id="253" name="6 Conector recto de flecha"/>
            <p:cNvCxnSpPr/>
            <p:nvPr/>
          </p:nvCxnSpPr>
          <p:spPr>
            <a:xfrm>
              <a:off x="3312720" y="603540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254" name="7 Conector recto de flecha"/>
            <p:cNvCxnSpPr/>
            <p:nvPr/>
          </p:nvCxnSpPr>
          <p:spPr>
            <a:xfrm flipV="1">
              <a:off x="3312000" y="361116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255" name="8 Conector recto"/>
            <p:cNvSpPr/>
            <p:nvPr/>
          </p:nvSpPr>
          <p:spPr>
            <a:xfrm flipV="1">
              <a:off x="3571920" y="3857040"/>
              <a:ext cx="2192040" cy="1900440"/>
            </a:xfrm>
            <a:prstGeom prst="line">
              <a:avLst/>
            </a:prstGeom>
            <a:ln w="255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9 Forma libre"/>
            <p:cNvSpPr/>
            <p:nvPr/>
          </p:nvSpPr>
          <p:spPr>
            <a:xfrm rot="10800000">
              <a:off x="3614400" y="3860640"/>
              <a:ext cx="2181240" cy="1890720"/>
            </a:xfrm>
            <a:prstGeom prst="pie">
              <a:avLst/>
            </a:prstGeom>
            <a:noFill/>
            <a:ln w="25560">
              <a:solidFill>
                <a:srgbClr val="cc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10 Conector recto"/>
            <p:cNvSpPr/>
            <p:nvPr/>
          </p:nvSpPr>
          <p:spPr>
            <a:xfrm>
              <a:off x="3603600" y="5761080"/>
              <a:ext cx="0" cy="2743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11 Conector recto"/>
            <p:cNvSpPr/>
            <p:nvPr/>
          </p:nvSpPr>
          <p:spPr>
            <a:xfrm>
              <a:off x="5799240" y="3886200"/>
              <a:ext cx="0" cy="21495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12 Conector recto"/>
            <p:cNvSpPr/>
            <p:nvPr/>
          </p:nvSpPr>
          <p:spPr>
            <a:xfrm>
              <a:off x="4610160" y="4143240"/>
              <a:ext cx="33120" cy="18572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13 Conector recto"/>
            <p:cNvSpPr/>
            <p:nvPr/>
          </p:nvSpPr>
          <p:spPr>
            <a:xfrm flipH="1" flipV="1">
              <a:off x="3313080" y="576108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14 Conector recto"/>
            <p:cNvSpPr/>
            <p:nvPr/>
          </p:nvSpPr>
          <p:spPr>
            <a:xfrm flipH="1">
              <a:off x="3325680" y="4111560"/>
              <a:ext cx="125856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15 Conector recto"/>
            <p:cNvSpPr/>
            <p:nvPr/>
          </p:nvSpPr>
          <p:spPr>
            <a:xfrm flipH="1">
              <a:off x="3325680" y="4857120"/>
              <a:ext cx="131760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16 Conector recto"/>
            <p:cNvSpPr/>
            <p:nvPr/>
          </p:nvSpPr>
          <p:spPr>
            <a:xfrm flipH="1">
              <a:off x="3312720" y="3840120"/>
              <a:ext cx="248580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17 CuadroTexto"/>
            <p:cNvSpPr/>
            <p:nvPr/>
          </p:nvSpPr>
          <p:spPr>
            <a:xfrm>
              <a:off x="5881320" y="570852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ngreso ($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18 CuadroTexto"/>
            <p:cNvSpPr/>
            <p:nvPr/>
          </p:nvSpPr>
          <p:spPr>
            <a:xfrm>
              <a:off x="3357360" y="349416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19 CuadroTexto"/>
            <p:cNvSpPr/>
            <p:nvPr/>
          </p:nvSpPr>
          <p:spPr>
            <a:xfrm>
              <a:off x="3404160" y="607284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0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20 CuadroTexto"/>
            <p:cNvSpPr/>
            <p:nvPr/>
          </p:nvSpPr>
          <p:spPr>
            <a:xfrm>
              <a:off x="5587560" y="6077160"/>
              <a:ext cx="41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1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21 Conector recto"/>
            <p:cNvSpPr/>
            <p:nvPr/>
          </p:nvSpPr>
          <p:spPr>
            <a:xfrm>
              <a:off x="3828960" y="4903920"/>
              <a:ext cx="15840" cy="11304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22 CuadroTexto"/>
            <p:cNvSpPr/>
            <p:nvPr/>
          </p:nvSpPr>
          <p:spPr>
            <a:xfrm>
              <a:off x="4367520" y="6081120"/>
              <a:ext cx="54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I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23 CuadroTexto"/>
            <p:cNvSpPr/>
            <p:nvPr/>
          </p:nvSpPr>
          <p:spPr>
            <a:xfrm>
              <a:off x="2585880" y="3974760"/>
              <a:ext cx="7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24 CuadroTexto"/>
            <p:cNvSpPr/>
            <p:nvPr/>
          </p:nvSpPr>
          <p:spPr>
            <a:xfrm>
              <a:off x="2571840" y="471528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U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25 CuadroTexto"/>
            <p:cNvSpPr/>
            <p:nvPr/>
          </p:nvSpPr>
          <p:spPr>
            <a:xfrm>
              <a:off x="2643120" y="5645160"/>
              <a:ext cx="62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0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26 CuadroTexto"/>
            <p:cNvSpPr/>
            <p:nvPr/>
          </p:nvSpPr>
          <p:spPr>
            <a:xfrm>
              <a:off x="2786040" y="3731760"/>
              <a:ext cx="4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1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27 CuadroTexto"/>
            <p:cNvSpPr/>
            <p:nvPr/>
          </p:nvSpPr>
          <p:spPr>
            <a:xfrm>
              <a:off x="3701520" y="6059880"/>
              <a:ext cx="36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*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pensión al riesg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6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66280" y="1267920"/>
            <a:ext cx="8001000" cy="16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Una persona totalmente propensa al riesgo, enfrentada ante el siguiente juego: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$0 con probabilidad 0.5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$10,000 con probabilidad 0.5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8" name="4 Marcador de contenido"/>
          <p:cNvSpPr/>
          <p:nvPr/>
        </p:nvSpPr>
        <p:spPr>
          <a:xfrm>
            <a:off x="571680" y="2928960"/>
            <a:ext cx="428616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stará dispuesta a pagar más del valor esperado del resultado del juego por participar en él.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O sea, pagará más de $5,000 por participar en este juego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79" name="30 Grupo"/>
          <p:cNvGrpSpPr/>
          <p:nvPr/>
        </p:nvGrpSpPr>
        <p:grpSpPr>
          <a:xfrm>
            <a:off x="4714920" y="3000240"/>
            <a:ext cx="4429080" cy="2863800"/>
            <a:chOff x="4714920" y="3000240"/>
            <a:chExt cx="4429080" cy="2863800"/>
          </a:xfrm>
        </p:grpSpPr>
        <p:cxnSp>
          <p:nvCxnSpPr>
            <p:cNvPr id="280" name="8 Conector recto de flecha"/>
            <p:cNvCxnSpPr/>
            <p:nvPr/>
          </p:nvCxnSpPr>
          <p:spPr>
            <a:xfrm>
              <a:off x="5527080" y="554184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281" name="9 Conector recto de flecha"/>
            <p:cNvCxnSpPr/>
            <p:nvPr/>
          </p:nvCxnSpPr>
          <p:spPr>
            <a:xfrm flipV="1">
              <a:off x="5526360" y="311724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282" name="10 Conector recto"/>
            <p:cNvSpPr/>
            <p:nvPr/>
          </p:nvSpPr>
          <p:spPr>
            <a:xfrm flipV="1">
              <a:off x="5817960" y="3366360"/>
              <a:ext cx="2192400" cy="1900440"/>
            </a:xfrm>
            <a:prstGeom prst="line">
              <a:avLst/>
            </a:prstGeom>
            <a:ln w="255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11 Forma libre"/>
            <p:cNvSpPr/>
            <p:nvPr/>
          </p:nvSpPr>
          <p:spPr>
            <a:xfrm>
              <a:off x="5829120" y="3366720"/>
              <a:ext cx="2181240" cy="1891080"/>
            </a:xfrm>
            <a:prstGeom prst="pie">
              <a:avLst/>
            </a:prstGeom>
            <a:noFill/>
            <a:ln w="25560">
              <a:solidFill>
                <a:srgbClr val="cc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4" name="12 Conector recto"/>
            <p:cNvSpPr/>
            <p:nvPr/>
          </p:nvSpPr>
          <p:spPr>
            <a:xfrm>
              <a:off x="5817960" y="5267520"/>
              <a:ext cx="0" cy="27468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5" name="13 Conector recto"/>
            <p:cNvSpPr/>
            <p:nvPr/>
          </p:nvSpPr>
          <p:spPr>
            <a:xfrm>
              <a:off x="8013960" y="3392280"/>
              <a:ext cx="0" cy="21499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6" name="14 Conector recto"/>
            <p:cNvSpPr/>
            <p:nvPr/>
          </p:nvSpPr>
          <p:spPr>
            <a:xfrm flipH="1">
              <a:off x="6935760" y="4307040"/>
              <a:ext cx="1440" cy="12351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7" name="15 Conector recto"/>
            <p:cNvSpPr/>
            <p:nvPr/>
          </p:nvSpPr>
          <p:spPr>
            <a:xfrm flipH="1" flipV="1">
              <a:off x="5527440" y="526752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8" name="16 Conector recto"/>
            <p:cNvSpPr/>
            <p:nvPr/>
          </p:nvSpPr>
          <p:spPr>
            <a:xfrm flipH="1" flipV="1">
              <a:off x="5527080" y="4307040"/>
              <a:ext cx="219564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9" name="17 Conector recto"/>
            <p:cNvSpPr/>
            <p:nvPr/>
          </p:nvSpPr>
          <p:spPr>
            <a:xfrm flipH="1">
              <a:off x="5527080" y="5009760"/>
              <a:ext cx="140796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0" name="18 Conector recto"/>
            <p:cNvSpPr/>
            <p:nvPr/>
          </p:nvSpPr>
          <p:spPr>
            <a:xfrm flipH="1">
              <a:off x="5527440" y="3346200"/>
              <a:ext cx="248616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1" name="19 CuadroTexto"/>
            <p:cNvSpPr/>
            <p:nvPr/>
          </p:nvSpPr>
          <p:spPr>
            <a:xfrm>
              <a:off x="8096040" y="521460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ngreso ($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2" name="20 CuadroTexto"/>
            <p:cNvSpPr/>
            <p:nvPr/>
          </p:nvSpPr>
          <p:spPr>
            <a:xfrm>
              <a:off x="5572080" y="300024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3" name="21 CuadroTexto"/>
            <p:cNvSpPr/>
            <p:nvPr/>
          </p:nvSpPr>
          <p:spPr>
            <a:xfrm>
              <a:off x="5618520" y="557928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0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4" name="22 CuadroTexto"/>
            <p:cNvSpPr/>
            <p:nvPr/>
          </p:nvSpPr>
          <p:spPr>
            <a:xfrm>
              <a:off x="7802280" y="5583600"/>
              <a:ext cx="41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1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5" name="23 Conector recto"/>
            <p:cNvSpPr/>
            <p:nvPr/>
          </p:nvSpPr>
          <p:spPr>
            <a:xfrm flipH="1">
              <a:off x="7723440" y="4307040"/>
              <a:ext cx="1440" cy="12351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6" name="24 CuadroTexto"/>
            <p:cNvSpPr/>
            <p:nvPr/>
          </p:nvSpPr>
          <p:spPr>
            <a:xfrm>
              <a:off x="6665760" y="5587560"/>
              <a:ext cx="54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I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7" name="25 CuadroTexto"/>
            <p:cNvSpPr/>
            <p:nvPr/>
          </p:nvSpPr>
          <p:spPr>
            <a:xfrm>
              <a:off x="4714920" y="4922640"/>
              <a:ext cx="771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8" name="26 CuadroTexto"/>
            <p:cNvSpPr/>
            <p:nvPr/>
          </p:nvSpPr>
          <p:spPr>
            <a:xfrm>
              <a:off x="4786200" y="41907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U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9" name="27 CuadroTexto"/>
            <p:cNvSpPr/>
            <p:nvPr/>
          </p:nvSpPr>
          <p:spPr>
            <a:xfrm>
              <a:off x="4857480" y="5151240"/>
              <a:ext cx="62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0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0" name="28 CuadroTexto"/>
            <p:cNvSpPr/>
            <p:nvPr/>
          </p:nvSpPr>
          <p:spPr>
            <a:xfrm>
              <a:off x="5038560" y="3237840"/>
              <a:ext cx="4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1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1" name="29 CuadroTexto"/>
            <p:cNvSpPr/>
            <p:nvPr/>
          </p:nvSpPr>
          <p:spPr>
            <a:xfrm>
              <a:off x="7547400" y="5579280"/>
              <a:ext cx="36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*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quivalente Cier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utilidad depende del nivel de riquez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U = f( W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f ´´ &lt; 0 , el individuo es averso al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f ´´ &gt; 0 , el individuo es amante del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f ´´ = 0 , el individuo es neutro al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Familia García López</cp:lastModifiedBy>
  <cp:lastPrinted>2002-11-13T13:47:55Z</cp:lastPrinted>
  <dcterms:modified xsi:type="dcterms:W3CDTF">2010-05-27T21:08:18Z</dcterms:modified>
  <cp:revision>362</cp:revision>
  <dc:subject/>
  <dc:title>Formulación de Proyectos</dc:title>
</cp:coreProperties>
</file>