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504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61800" y="720720"/>
            <a:ext cx="4717800" cy="3525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290920" cy="424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3"/>
          </p:nvPr>
        </p:nvSpPr>
        <p:spPr>
          <a:xfrm>
            <a:off x="4144680" y="9120240"/>
            <a:ext cx="3095640" cy="404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61204-B186-4272-96D4-B77D06F20A1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4425B-9470-417F-8C1C-A635AF2EC1C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62160" y="720720"/>
            <a:ext cx="4767120" cy="35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3DB2F-9147-4FA6-B8E0-3377A1B91D3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212F2-EE17-414C-9D3B-4E4B9893C82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A6BD6-8066-44C3-9963-22269266E39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C63E9-F4BD-48FC-89A8-7939DE2BE81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B8296-AB45-422F-801F-E3F51506E1D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ABE3F-60C2-4DF0-925E-87278F3F338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AE5CE-B875-4D8D-AB64-F72CE9D856A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0027D-FE6A-4277-9EB5-6FC902CFFE9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7BB5B-908D-485D-8432-633D2C3F9D6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5C125-6331-4B07-90D3-6DAC72DDEF0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D34D0-4F0A-4A47-B789-147221B9F64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4FE6D-17A3-4DE3-B82C-9A3D3B8F4E0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AB0CB-9E31-4C51-AA73-3F3994AB971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43947-8EA1-4AA4-A23A-BA6369420D8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25633-44E5-4E80-8EB7-48E58827C3F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9E1B0-2AE2-4455-8972-91DED445DCD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586ED-B9E4-48E3-B7BE-FB9EF9F4D00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47792-25DF-4154-BE1F-8F17E579AA4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E8A38-F0F3-4694-ABB2-4B991D45CA1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ECAB9-CC3E-4D8C-982D-21ABA223C7D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59C78-35FF-41AB-B867-E9C6F0EBCDE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6F69F-31CD-43F9-8AFF-B0C1321FEBA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F883F-3FFF-4483-B132-94291C72EF3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B8851-4A1B-4F8A-9A56-23DD1CB544E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4C527-D250-4F5E-AD1F-F06B5F652D2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347C3-674F-4C60-9A67-4A378E6493A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28A9D-2C76-4239-8FC6-68FF9B91D17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7869D-F443-48A4-A2B0-4A9BA6ED23A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178D3-4B42-4B96-9257-D6B6C1FE1AD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79418-F74D-49A2-97C4-F41BB50CEE3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0F7D0-4FEE-4311-8D01-9BA28432287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49024-1AC8-47B1-B57B-22C2F1CCF9C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B109B-CEC6-45B2-B6C5-D1205BB4F6E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D67DF-974C-410C-9C58-35D0DD1E93E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3032-02D4-4BA2-86A2-F325C8EBFB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AD5C-7529-470A-B580-E830254E47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8B18-649A-4D19-A3A2-0FFECC5CB9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8231-AFDE-48AD-88AC-7FDD61A2BD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8888-9E0B-474E-9985-325C77E80A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EEEF-E5E2-4FFD-81D5-3BD609A2E2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7F05-231D-4160-842F-BFF7879AA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CC34-EE39-425E-BA21-19745E433E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A36F-221F-4CD2-8466-43FB048978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FCBA-4402-47A3-9AB6-82518F0887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6BED-99D0-4DC5-A5C3-0B2D62C48B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2F36-6573-4337-8FDF-B5349C305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-468720"/>
            <a:ext cx="797076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000"/>
            <a:ext cx="7383600" cy="44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3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4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5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6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00" y="104760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9120" y="120636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20800" y="6440040"/>
            <a:ext cx="40989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ítulo 7: El coste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9200" y="628164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9120" y="644040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19040" y="4629240"/>
            <a:ext cx="711360" cy="1554120"/>
            <a:chOff x="419040" y="4629240"/>
            <a:chExt cx="711360" cy="1554120"/>
          </a:xfrm>
        </p:grpSpPr>
        <p:sp>
          <p:nvSpPr>
            <p:cNvPr id="8" name=""/>
            <p:cNvSpPr/>
            <p:nvPr/>
          </p:nvSpPr>
          <p:spPr>
            <a:xfrm>
              <a:off x="492120" y="4629240"/>
              <a:ext cx="507960" cy="1554120"/>
            </a:xfrm>
            <a:prstGeom prst="rtTriangle">
              <a:avLst/>
            </a:prstGeom>
            <a:gradFill rotWithShape="0">
              <a:gsLst>
                <a:gs pos="0">
                  <a:srgbClr val="1c4e35"/>
                </a:gs>
                <a:gs pos="100000">
                  <a:srgbClr val="48845c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9040" y="5024520"/>
              <a:ext cx="1800" cy="1085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768240" y="5043240"/>
              <a:ext cx="362160" cy="866520"/>
            </a:xfrm>
            <a:prstGeom prst="line">
              <a:avLst/>
            </a:prstGeom>
            <a:ln w="2844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6360" y="6084720"/>
              <a:ext cx="349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71720" y="304920"/>
            <a:ext cx="7610040" cy="1104840"/>
            <a:chOff x="1071720" y="304920"/>
            <a:chExt cx="7610040" cy="1104840"/>
          </a:xfrm>
        </p:grpSpPr>
        <p:sp>
          <p:nvSpPr>
            <p:cNvPr id="49" name=""/>
            <p:cNvSpPr/>
            <p:nvPr/>
          </p:nvSpPr>
          <p:spPr>
            <a:xfrm flipH="1">
              <a:off x="4865040" y="304920"/>
              <a:ext cx="110484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578000" y="304920"/>
              <a:ext cx="110340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071720" y="30636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321600" y="304920"/>
              <a:ext cx="110304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358360" y="304920"/>
              <a:ext cx="110340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248520"/>
            <a:ext cx="2093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5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0844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028A9-ADA0-4824-A2F3-CE4CE801802E}" type="slidenum">
              <a:rPr b="0" lang="es-ES" sz="10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2640" y="330120"/>
            <a:ext cx="811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3202-2 Microeconomí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971800"/>
            <a:ext cx="6172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el óptimo, la pendiente de la recta de isocoste tiene que ser la misma de la pendiente de la isocua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T = -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(w/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719360"/>
            <a:ext cx="73962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otra for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 = 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ínimo para una determinada producción aparece cuando cada Peso gastado en cualquier factor incorporado al proceso de producción genere la misma cantidad de producción adi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719360"/>
            <a:ext cx="73962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mostrar que el resultado se puede obtener de forma rigurosa con el método de los multiplicadores de Lagrange. Considerar el probl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195560"/>
            <a:ext cx="739620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que disponen de métodos para deshacerse de los subproductos del proceso de producción, llamados 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ert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tasa sobre los vertidos es una tasa por unidad que debe pagar la empresa por los vertidos que arroja al rí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ómo debe responder el gerente de una empresa a la imposición de esta tasa sobre los vertidos para minimizar los costes de producció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09800" y="1147680"/>
            <a:ext cx="739584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acerías se construyen cerca de cursos de agua. Los ríos son medios de transporte accesibles, permiten deshacerse de los vertidos y proveen agua para resfriar las maqu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Muchos estados imponen una tasa sobre los vertidos para reducir la cantidad de residuos perjudiciales para el medio ambiente.  De costumbre se configura como una tasa sobre  el agua resid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) ¿Cómo debería responder la acería a la imposición de la tasa para minimizar los costes de produc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i) Algunos argumentan que las tasas son un instrumento equivocado. ¿Tiene a que ver con est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: Un ejercici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3560" y="6006960"/>
            <a:ext cx="5429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9360" y="571176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360" y="1157400"/>
            <a:ext cx="164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93480" y="2441520"/>
            <a:ext cx="6724080" cy="3565440"/>
            <a:chOff x="2193480" y="2441520"/>
            <a:chExt cx="6724080" cy="3565440"/>
          </a:xfrm>
        </p:grpSpPr>
        <p:sp>
          <p:nvSpPr>
            <p:cNvPr id="258" name=""/>
            <p:cNvSpPr/>
            <p:nvPr/>
          </p:nvSpPr>
          <p:spPr>
            <a:xfrm>
              <a:off x="2743200" y="2441520"/>
              <a:ext cx="3584520" cy="3048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2520" y="5103720"/>
              <a:ext cx="2795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 tonel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 ac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4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62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402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99640" y="59929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1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428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5400" y="5994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63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51080" y="1601640"/>
            <a:ext cx="3265560" cy="4380120"/>
            <a:chOff x="2251080" y="1601640"/>
            <a:chExt cx="3265560" cy="4380120"/>
          </a:xfrm>
        </p:grpSpPr>
        <p:sp>
          <p:nvSpPr>
            <p:cNvPr id="270" name=""/>
            <p:cNvSpPr/>
            <p:nvPr/>
          </p:nvSpPr>
          <p:spPr>
            <a:xfrm>
              <a:off x="2251080" y="2771640"/>
              <a:ext cx="3209760" cy="3210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560" y="54529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46160" y="160164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10/40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790360" y="2390760"/>
              <a:ext cx="365400" cy="86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5680" y="2790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5680" y="35370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2840" y="5992920"/>
            <a:ext cx="62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sin tas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1731960"/>
            <a:ext cx="1800" cy="42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7600" y="6006960"/>
            <a:ext cx="5465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55800" y="2467080"/>
            <a:ext cx="5977080" cy="3177360"/>
            <a:chOff x="2755800" y="2467080"/>
            <a:chExt cx="5977080" cy="3177360"/>
          </a:xfrm>
        </p:grpSpPr>
        <p:sp>
          <p:nvSpPr>
            <p:cNvPr id="289" name=""/>
            <p:cNvSpPr/>
            <p:nvPr/>
          </p:nvSpPr>
          <p:spPr>
            <a:xfrm>
              <a:off x="2755800" y="2467080"/>
              <a:ext cx="3584520" cy="304776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30960" y="5129280"/>
              <a:ext cx="2401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toneladas de acero al 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680" y="27907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5680" y="35370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9964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5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4280" y="60181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84240" y="59310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67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6280" y="1157400"/>
            <a:ext cx="1663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25680" y="1525680"/>
            <a:ext cx="7289640" cy="4794480"/>
            <a:chOff x="1525680" y="1525680"/>
            <a:chExt cx="7289640" cy="4794480"/>
          </a:xfrm>
        </p:grpSpPr>
        <p:sp>
          <p:nvSpPr>
            <p:cNvPr id="303" name=""/>
            <p:cNvSpPr/>
            <p:nvPr/>
          </p:nvSpPr>
          <p:spPr>
            <a:xfrm>
              <a:off x="4344840" y="54529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2840" y="6018120"/>
              <a:ext cx="62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</a:rPr>
                <a:t>5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51080" y="1857240"/>
              <a:ext cx="2219400" cy="413712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193480" y="3429000"/>
              <a:ext cx="94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81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680" y="320184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ff3300"/>
                  </a:solidFill>
                  <a:latin typeface="Arial"/>
                </a:rPr>
                <a:t>3.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3521160"/>
              <a:ext cx="1800" cy="2485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6120" y="152568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20/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409480" y="2009880"/>
              <a:ext cx="593640" cy="98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5880" y="2973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20040" y="2968560"/>
              <a:ext cx="3095280" cy="1367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iguiendo la imposición de la ta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bre los vertidos de 10$/gal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pendiente del isocoste camb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l alto coste de agua 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pital; así, ahora se prefie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combinación 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80880" y="1452600"/>
            <a:ext cx="5747760" cy="4554360"/>
            <a:chOff x="2180880" y="1452600"/>
            <a:chExt cx="5747760" cy="4554360"/>
          </a:xfrm>
        </p:grpSpPr>
        <p:sp>
          <p:nvSpPr>
            <p:cNvPr id="315" name=""/>
            <p:cNvSpPr/>
            <p:nvPr/>
          </p:nvSpPr>
          <p:spPr>
            <a:xfrm flipH="1">
              <a:off x="21808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25880" y="4511520"/>
              <a:ext cx="144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9560" y="4419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2732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61720" y="1452600"/>
              <a:ext cx="316692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ntes de la regulación, la empres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cide producir utilizand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10.000 galones de agua y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horas-máquina de capital e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201760" y="2409840"/>
            <a:ext cx="3475080" cy="3571920"/>
            <a:chOff x="2201760" y="2409840"/>
            <a:chExt cx="3475080" cy="3571920"/>
          </a:xfrm>
        </p:grpSpPr>
        <p:sp>
          <p:nvSpPr>
            <p:cNvPr id="321" name=""/>
            <p:cNvSpPr/>
            <p:nvPr/>
          </p:nvSpPr>
          <p:spPr>
            <a:xfrm>
              <a:off x="2201760" y="2759040"/>
              <a:ext cx="3256200" cy="32227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0880" y="5451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29120" y="24098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373160" y="569268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con tas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bserv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ás fácil es sustituir los factores en el proceso de producción, más eficaz es la tasa para reducir los vertido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ayor es el grado de sustitución, menos tiene que pagar la empres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minimización de los costes cuando se altera el nivel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</a:t>
            </a:r>
            <a:r>
              <a:rPr b="0" lang="es-CL" sz="2700" spc="-1" strike="noStrike">
                <a:solidFill>
                  <a:srgbClr val="fc0128"/>
                </a:solidFill>
                <a:latin typeface="Times New Roman"/>
                <a:ea typeface="MS Gothic"/>
              </a:rPr>
              <a:t>senda de expansión 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una empresa muestra las combinaciones de trabajo y capital de menor coste que pueden utilizarse para obtener cada nivel de producción (fijados los precios de los factores)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82320" y="12445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6800" y="1494000"/>
            <a:ext cx="300240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senda de expansión muest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combinaciones de trabajo 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menor coste que pue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utilizarse para obtener cada nivel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ción a largo plaz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357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372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a largo plaz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 y Co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304920"/>
            <a:ext cx="7983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vamos a ver ho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39480" y="12733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403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418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rto Plazo: Rigidez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4800600"/>
            <a:ext cx="434340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4343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enda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nsta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 es constant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recie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disminuy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decrecientes</a:t>
            </a: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se duplican los factores, el crecimiento de la producción es menor que el doble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umentará con la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A largo plazo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experimentan rendimientos crecientes y decrecientes de escala. Por lo tanto, el coste medio a largo plazo tiene forma de “U”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arginal a largo plazo hace que el coste medio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lt; CMeL, CMeL disminui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gt; CMeL, CMeL aumenta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, CML = CMeL cuando CMeL alcanza su punto mínim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34440" y="5851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443320" y="2668680"/>
            <a:ext cx="4452120" cy="1824120"/>
            <a:chOff x="2443320" y="2668680"/>
            <a:chExt cx="4452120" cy="1824120"/>
          </a:xfrm>
        </p:grpSpPr>
        <p:sp>
          <p:nvSpPr>
            <p:cNvPr id="458" name=""/>
            <p:cNvSpPr/>
            <p:nvPr/>
          </p:nvSpPr>
          <p:spPr>
            <a:xfrm>
              <a:off x="2443320" y="3241800"/>
              <a:ext cx="3919320" cy="1251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20640" y="266868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670120" y="2023920"/>
            <a:ext cx="3382200" cy="4013280"/>
            <a:chOff x="2670120" y="2023920"/>
            <a:chExt cx="3382200" cy="4013280"/>
          </a:xfrm>
        </p:grpSpPr>
        <p:sp>
          <p:nvSpPr>
            <p:cNvPr id="461" name=""/>
            <p:cNvSpPr/>
            <p:nvPr/>
          </p:nvSpPr>
          <p:spPr>
            <a:xfrm>
              <a:off x="2670120" y="2593800"/>
              <a:ext cx="2895480" cy="22100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9360" y="20239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3760" y="4497480"/>
              <a:ext cx="1800" cy="153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0560" y="40147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6640" y="4384800"/>
              <a:ext cx="189000" cy="18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0800" y="0"/>
            <a:ext cx="798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y Marginales a Largo Plazo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1600200"/>
            <a:ext cx="68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2000" y="16002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fc0128"/>
                </a:solidFill>
                <a:latin typeface="Times New Roman"/>
                <a:ea typeface="MS Gothic"/>
              </a:rPr>
              <a:t>Pregun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relación existe entre el coste medio a largo plazo y el coste marginal a largo plazo cuando el coste medio a largo plazo es constan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 vs cort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ayor que el incre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economías de escala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enor que el au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Medición de escala: </a:t>
            </a:r>
            <a:r>
              <a:rPr b="1" i="1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asticidad cos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ΔC /ΔQ)(Q/C) = CM/C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Quando C es diferenciabl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C'(Q))Q/C(Q) = CM(Q)/CMe(Q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riación porcentual de los costes con respecto a una variación porcentual (infinitesimal) de la ca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 y que el coste del trabajo sea w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00240" y="1490760"/>
            <a:ext cx="73962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siguientes afirmaciones son verdade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&lt; 1: CM &l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= 1: CM =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const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gt; 1: CM &g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deseconomías de esc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relación entre el coste a corto plazo y el coste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tilizaremos el coste a corto y a largo plazo para determinar el tamaño perfecto de la plan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Noten: si hay retornos de escala constantes la función de coste es una recta entonces la función d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hay retornos de escala constantes la función de coste es una recta entonces la curve de costes medios y de coste mmarginales a largo plazo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s marginales a corto plazo es estrictamente convexa debido a los rendimientos marginales decreciente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50440" y="756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s a largo plazo con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rendimientos constante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032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178272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90600" y="6006960"/>
            <a:ext cx="6267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80160" y="5715000"/>
            <a:ext cx="55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1600200"/>
            <a:ext cx="460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051520" y="2454120"/>
            <a:ext cx="3094920" cy="3882240"/>
            <a:chOff x="5051520" y="2454120"/>
            <a:chExt cx="3094920" cy="3882240"/>
          </a:xfrm>
        </p:grpSpPr>
        <p:sp>
          <p:nvSpPr>
            <p:cNvPr id="503" name=""/>
            <p:cNvSpPr/>
            <p:nvPr/>
          </p:nvSpPr>
          <p:spPr>
            <a:xfrm>
              <a:off x="64008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91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29320" y="2822400"/>
              <a:ext cx="2070000" cy="1143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4572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6840" y="3355920"/>
              <a:ext cx="60948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804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51520" y="2746440"/>
              <a:ext cx="61596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60840" y="2454120"/>
            <a:ext cx="3190320" cy="3882240"/>
            <a:chOff x="3660840" y="2454120"/>
            <a:chExt cx="3190320" cy="3882240"/>
          </a:xfrm>
        </p:grpSpPr>
        <p:sp>
          <p:nvSpPr>
            <p:cNvPr id="511" name=""/>
            <p:cNvSpPr/>
            <p:nvPr/>
          </p:nvSpPr>
          <p:spPr>
            <a:xfrm>
              <a:off x="50292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675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08400" y="3635280"/>
              <a:ext cx="1440000" cy="346320"/>
            </a:xfrm>
            <a:custGeom>
              <a:avLst/>
              <a:gdLst/>
              <a:ahLst/>
              <a:rect l="l" t="t" r="r" b="b"/>
              <a:pathLst>
                <a:path w="907" h="218">
                  <a:moveTo>
                    <a:pt x="0" y="0"/>
                  </a:moveTo>
                  <a:cubicBezTo>
                    <a:pt x="161" y="104"/>
                    <a:pt x="322" y="208"/>
                    <a:pt x="473" y="213"/>
                  </a:cubicBezTo>
                  <a:cubicBezTo>
                    <a:pt x="624" y="218"/>
                    <a:pt x="765" y="125"/>
                    <a:pt x="907" y="32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044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802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1240" y="2822400"/>
              <a:ext cx="687240" cy="838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60840" y="2746440"/>
              <a:ext cx="60948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238480" y="1754280"/>
            <a:ext cx="6788160" cy="2480400"/>
            <a:chOff x="2238480" y="1754280"/>
            <a:chExt cx="6788160" cy="2480400"/>
          </a:xfrm>
        </p:grpSpPr>
        <p:sp>
          <p:nvSpPr>
            <p:cNvPr id="520" name=""/>
            <p:cNvSpPr/>
            <p:nvPr/>
          </p:nvSpPr>
          <p:spPr>
            <a:xfrm>
              <a:off x="2238480" y="3962520"/>
              <a:ext cx="581328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18360" y="3597120"/>
              <a:ext cx="90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eL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53040" y="1754280"/>
              <a:ext cx="4261320" cy="575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Con muchos tamaños de plantas con el CMeC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10 $, CMeL = CML y es una línea rect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00680" y="2454120"/>
            <a:ext cx="2679120" cy="3882240"/>
            <a:chOff x="2200680" y="2454120"/>
            <a:chExt cx="2679120" cy="3882240"/>
          </a:xfrm>
        </p:grpSpPr>
        <p:sp>
          <p:nvSpPr>
            <p:cNvPr id="524" name=""/>
            <p:cNvSpPr/>
            <p:nvPr/>
          </p:nvSpPr>
          <p:spPr>
            <a:xfrm>
              <a:off x="3581280" y="3978360"/>
              <a:ext cx="180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1964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0068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25880" y="3355920"/>
              <a:ext cx="61092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5640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43160" y="2744640"/>
              <a:ext cx="2028960" cy="1214640"/>
            </a:xfrm>
            <a:custGeom>
              <a:avLst/>
              <a:gdLst/>
              <a:ahLst/>
              <a:rect l="l" t="t" r="r" b="b"/>
              <a:pathLst>
                <a:path w="1278" h="765">
                  <a:moveTo>
                    <a:pt x="0" y="0"/>
                  </a:moveTo>
                  <a:cubicBezTo>
                    <a:pt x="63" y="95"/>
                    <a:pt x="236" y="441"/>
                    <a:pt x="378" y="568"/>
                  </a:cubicBezTo>
                  <a:cubicBezTo>
                    <a:pt x="520" y="695"/>
                    <a:pt x="702" y="765"/>
                    <a:pt x="852" y="765"/>
                  </a:cubicBezTo>
                  <a:cubicBezTo>
                    <a:pt x="1002" y="765"/>
                    <a:pt x="1189" y="608"/>
                    <a:pt x="1278" y="56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8880" y="2784600"/>
              <a:ext cx="610920" cy="8380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0B2A-E9B1-4EB6-A5BC-F75858D62AFB}" type="slidenum">
              <a:t>33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tamaño perfecto de una planta dependerá de la producción anticipada (por ejempl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Q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Me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,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medio a largo plazo es l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volven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coste medio a corto plazo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imes New Roman"/>
                <a:ea typeface="MS Gothic"/>
              </a:rPr>
              <a:t>Pregun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le ocurriría al coste medio si se escoge otro nivel de producción difer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2600" y="0"/>
            <a:ext cx="79833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50440" y="-360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 a largo plazo con economías y deseconomía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17445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03560" y="5994360"/>
            <a:ext cx="6267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72560" y="5951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8520" y="1670040"/>
            <a:ext cx="38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00680" y="1844640"/>
            <a:ext cx="2488680" cy="2526840"/>
            <a:chOff x="2200680" y="1844640"/>
            <a:chExt cx="2488680" cy="2526840"/>
          </a:xfrm>
        </p:grpSpPr>
        <p:sp>
          <p:nvSpPr>
            <p:cNvPr id="544" name=""/>
            <p:cNvSpPr/>
            <p:nvPr/>
          </p:nvSpPr>
          <p:spPr>
            <a:xfrm>
              <a:off x="3125880" y="2741760"/>
              <a:ext cx="610920" cy="129996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70840" y="404028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1480" y="2135160"/>
              <a:ext cx="1735200" cy="123048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0680" y="184464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29040" y="2330280"/>
              <a:ext cx="760320" cy="9064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681360" y="2454120"/>
            <a:ext cx="3090600" cy="2526840"/>
            <a:chOff x="3681360" y="2454120"/>
            <a:chExt cx="3090600" cy="2526840"/>
          </a:xfrm>
        </p:grpSpPr>
        <p:sp>
          <p:nvSpPr>
            <p:cNvPr id="550" name=""/>
            <p:cNvSpPr/>
            <p:nvPr/>
          </p:nvSpPr>
          <p:spPr>
            <a:xfrm>
              <a:off x="5950440" y="245412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8400" y="464976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16440" y="3268800"/>
              <a:ext cx="2122560" cy="70164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4880" y="2766960"/>
              <a:ext cx="401760" cy="541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81360" y="2743200"/>
              <a:ext cx="227160" cy="50472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211840" y="3051000"/>
            <a:ext cx="4573080" cy="1854720"/>
            <a:chOff x="2211840" y="3051000"/>
            <a:chExt cx="4573080" cy="1854720"/>
          </a:xfrm>
        </p:grpSpPr>
        <p:sp>
          <p:nvSpPr>
            <p:cNvPr id="557" name=""/>
            <p:cNvSpPr/>
            <p:nvPr/>
          </p:nvSpPr>
          <p:spPr>
            <a:xfrm>
              <a:off x="2441520" y="3051000"/>
              <a:ext cx="4343400" cy="15242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1840" y="4573440"/>
              <a:ext cx="67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900760" y="4402080"/>
            <a:ext cx="3208680" cy="142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 la producción es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ger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giría la planta pequeña de CMeC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CMeC de 8 dóla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punt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está en el CMeL porqu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s la planta más barata para u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terminada producc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33920" y="3063960"/>
            <a:ext cx="1440" cy="29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02400" y="282096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8120" y="592128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195280" y="3048120"/>
            <a:ext cx="155556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195280" y="3352680"/>
            <a:ext cx="143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760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8440" y="31258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5000" y="3327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5000" y="26686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66840" y="1906560"/>
            <a:ext cx="6624000" cy="2076480"/>
            <a:chOff x="2166840" y="1906560"/>
            <a:chExt cx="6624000" cy="2076480"/>
          </a:xfrm>
        </p:grpSpPr>
        <p:sp>
          <p:nvSpPr>
            <p:cNvPr id="571" name=""/>
            <p:cNvSpPr/>
            <p:nvPr/>
          </p:nvSpPr>
          <p:spPr>
            <a:xfrm>
              <a:off x="8001360" y="1906560"/>
              <a:ext cx="78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66840" y="2266920"/>
              <a:ext cx="5899320" cy="1716120"/>
            </a:xfrm>
            <a:custGeom>
              <a:avLst/>
              <a:gdLst/>
              <a:ahLst/>
              <a:rect l="l" t="t" r="r" b="b"/>
              <a:pathLst>
                <a:path w="3716" h="1081">
                  <a:moveTo>
                    <a:pt x="0" y="134"/>
                  </a:moveTo>
                  <a:cubicBezTo>
                    <a:pt x="84" y="202"/>
                    <a:pt x="209" y="387"/>
                    <a:pt x="505" y="545"/>
                  </a:cubicBezTo>
                  <a:cubicBezTo>
                    <a:pt x="801" y="703"/>
                    <a:pt x="1340" y="1081"/>
                    <a:pt x="1775" y="1081"/>
                  </a:cubicBezTo>
                  <a:cubicBezTo>
                    <a:pt x="2210" y="1081"/>
                    <a:pt x="2794" y="725"/>
                    <a:pt x="3117" y="545"/>
                  </a:cubicBezTo>
                  <a:cubicBezTo>
                    <a:pt x="3440" y="365"/>
                    <a:pt x="3573" y="182"/>
                    <a:pt x="3716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97520" y="1920960"/>
            <a:ext cx="3069720" cy="2526480"/>
            <a:chOff x="4997520" y="1920960"/>
            <a:chExt cx="3069720" cy="2526480"/>
          </a:xfrm>
        </p:grpSpPr>
        <p:sp>
          <p:nvSpPr>
            <p:cNvPr id="574" name=""/>
            <p:cNvSpPr/>
            <p:nvPr/>
          </p:nvSpPr>
          <p:spPr>
            <a:xfrm>
              <a:off x="7245720" y="192096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6840" y="2819520"/>
              <a:ext cx="609480" cy="129852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0000" y="411624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7520" y="2255760"/>
              <a:ext cx="963720" cy="1040040"/>
            </a:xfrm>
            <a:custGeom>
              <a:avLst/>
              <a:gdLst/>
              <a:ahLst/>
              <a:rect l="l" t="t" r="r" b="b"/>
              <a:pathLst>
                <a:path w="607" h="655">
                  <a:moveTo>
                    <a:pt x="607" y="655"/>
                  </a:moveTo>
                  <a:cubicBezTo>
                    <a:pt x="547" y="612"/>
                    <a:pt x="346" y="503"/>
                    <a:pt x="245" y="394"/>
                  </a:cubicBezTo>
                  <a:cubicBezTo>
                    <a:pt x="144" y="285"/>
                    <a:pt x="51" y="82"/>
                    <a:pt x="0" y="0"/>
                  </a:cubicBez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89680" y="2281320"/>
              <a:ext cx="1716120" cy="1155600"/>
            </a:xfrm>
            <a:custGeom>
              <a:avLst/>
              <a:gdLst/>
              <a:ahLst/>
              <a:rect l="l" t="t" r="r" b="b"/>
              <a:pathLst>
                <a:path w="1081" h="728">
                  <a:moveTo>
                    <a:pt x="1081" y="0"/>
                  </a:moveTo>
                  <a:cubicBezTo>
                    <a:pt x="916" y="232"/>
                    <a:pt x="752" y="464"/>
                    <a:pt x="615" y="584"/>
                  </a:cubicBezTo>
                  <a:cubicBezTo>
                    <a:pt x="478" y="704"/>
                    <a:pt x="362" y="708"/>
                    <a:pt x="260" y="718"/>
                  </a:cubicBezTo>
                  <a:cubicBezTo>
                    <a:pt x="158" y="728"/>
                    <a:pt x="79" y="687"/>
                    <a:pt x="0" y="64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9628-0076-4CF6-A968-D8C2DBC7A3CC}" type="slidenum">
              <a:t>35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7600" y="1357200"/>
            <a:ext cx="73962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uál es la curva de coste a largo plazo de la empres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pueden alterar el tamaño de su planta con el fin de modificar su producción a largo plaz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a largo plazo corresponde a la parte azul oscuro de la curva de CMeC, que representa el coste mínimo para cualquier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el CMeL no incluye los puntos mínimos de las plantas de tamaño grande y pequeñ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razón el CML no es la envolvente del coste marginal a corto pla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objetivo de la empresa: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maximizar benefici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se enfrentan con costes variables y fijos a largo plazo y a corto plaz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las decisiones hay que tener en cuenta los costes variables y fijos pero no los irrecuper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a presencia de rendimientos decrecientes determina la forma de las curvas de cost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Larg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todos los factores que intervienen en el proceso de producción son vari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beneficios ⇒ minimización de cost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= 5*10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y que el coste del trabajo sea w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u función de producción sigue siendo F(K,L) = K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2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1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: Un ejercic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719360"/>
            <a:ext cx="739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Senda de expansión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describe cómo varían las elecciones de factores minimizadoras de los costes a medida que aumenta el nivel de produc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 curva de coste medi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a largo plazo es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nvolvente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ste medio a 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90720" y="1414440"/>
            <a:ext cx="78534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empresa disfruta de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conomías de escal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cuando puede duplicar su producción con un coste inferior al do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re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62000" y="1600200"/>
            <a:ext cx="73962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7 P &amp; R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h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una miradita a las economías de alca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10 Fran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2 Apuntes Prof E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Hoja 3 de ejerci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7080" y="1338120"/>
            <a:ext cx="739620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mo se determina la combinación optima para producir una cantidad data Q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utilidades ⇒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empresa debe minimizar los gastos en factores le permitan producir Q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que?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cta isocos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wL + 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ff3300"/>
                </a:solidFill>
                <a:latin typeface="Times New Roman"/>
                <a:ea typeface="MS Gothic"/>
              </a:rPr>
              <a:t>Recta isocoste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ínea que muestra todas las combinaciones posibles de trabajo y capital que pueden comprarse con un coste total dad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233440"/>
            <a:ext cx="73962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formulamos la ecuación de coste total como la ecuación correspondiente a una línea recta, tenemos qu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C/r - (w/r)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endiente de la recta isocost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cociente entre el salario y el coste de alquiler del capital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tasa a la que el capital se puede sustituir por trabajo, sin que varíe el cost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bemos minimizar el coste de un determinado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 es necesario combinar las informaciones isocostes y isocuantas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7840" y="17319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28760" y="5981760"/>
            <a:ext cx="442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96160" y="5943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Traba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6000" y="137016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6720" y="3189240"/>
            <a:ext cx="3321000" cy="127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a recta isocost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muestra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antidad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que se puede produci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 la combinación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Sin embargo, ambas combinacio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llevan un coste mayor qu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17800" y="1425600"/>
            <a:ext cx="3820680" cy="3795840"/>
            <a:chOff x="2917800" y="1425600"/>
            <a:chExt cx="3820680" cy="3795840"/>
          </a:xfrm>
        </p:grpSpPr>
        <p:sp>
          <p:nvSpPr>
            <p:cNvPr id="191" name=""/>
            <p:cNvSpPr/>
            <p:nvPr/>
          </p:nvSpPr>
          <p:spPr>
            <a:xfrm>
              <a:off x="6024960" y="480060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228760"/>
              <a:ext cx="3105000" cy="2992680"/>
            </a:xfrm>
            <a:prstGeom prst="pie">
              <a:avLst/>
            </a:pr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02840" y="1425600"/>
              <a:ext cx="2735640" cy="1513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es una isocuanta para l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roducció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.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a rec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isocost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0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muestra todas l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ombinaciones de 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y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u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uede producir a es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nivel de cost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51080" y="3774960"/>
            <a:ext cx="2206800" cy="2206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51080" y="2771640"/>
            <a:ext cx="3209760" cy="32101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8480" y="1933560"/>
            <a:ext cx="4060800" cy="4060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000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096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680" y="2968560"/>
            <a:ext cx="1693800" cy="852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O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, 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y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son tres rectas isocos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8960" y="2516040"/>
            <a:ext cx="3822480" cy="3804480"/>
            <a:chOff x="1758960" y="2516040"/>
            <a:chExt cx="3822480" cy="3804480"/>
          </a:xfrm>
        </p:grpSpPr>
        <p:sp>
          <p:nvSpPr>
            <p:cNvPr id="202" name=""/>
            <p:cNvSpPr/>
            <p:nvPr/>
          </p:nvSpPr>
          <p:spPr>
            <a:xfrm>
              <a:off x="40384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187360" y="4495680"/>
              <a:ext cx="18745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187720" y="5105520"/>
              <a:ext cx="31701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8960" y="42688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1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52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5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8960" y="49546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8640" y="5045040"/>
              <a:ext cx="1440" cy="961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68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85560" y="2743200"/>
              <a:ext cx="86364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0720" y="2759040"/>
              <a:ext cx="1440" cy="3247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232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8960" y="25160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896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50800" y="2700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Sala_B105</cp:lastModifiedBy>
  <cp:lastPrinted>2010-04-10T22:07:41Z</cp:lastPrinted>
  <dcterms:modified xsi:type="dcterms:W3CDTF">2010-04-12T15:03:48Z</dcterms:modified>
  <cp:revision>347</cp:revision>
  <dc:subject/>
  <dc:title>Chapter 1</dc:title>
</cp:coreProperties>
</file>