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31050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45040" y="0"/>
            <a:ext cx="31050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261800" y="720720"/>
            <a:ext cx="4717800" cy="35258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9320" bIns="49320" anchor="ctr">
            <a:noAutofit/>
          </a:bodyPr>
          <a:p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74520" y="4560840"/>
            <a:ext cx="5290920" cy="42465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Num" idx="3"/>
          </p:nvPr>
        </p:nvSpPr>
        <p:spPr>
          <a:xfrm>
            <a:off x="4144680" y="9120240"/>
            <a:ext cx="3095640" cy="404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9320" bIns="4932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8BFE54-14F0-4F84-990C-2A17CCD2F48F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EAF188-7A50-4667-9116-A1CDF608490E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262160" y="720720"/>
            <a:ext cx="4767120" cy="357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8E2E98-272E-4DCD-94E9-E47049835566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AED801-0C6F-471F-8983-D03D537172D6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CA5016-6280-4392-8825-AFA8F03A423D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35D0E9-21C9-4FF3-84AE-8DB9F958F61E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5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013393-5860-4D0C-8F9F-B08E246FBD3A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6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6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E719BD-3A87-4088-9B9B-179ADDB05571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CA94CC-FD6F-425F-B4D6-96525411B659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7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00F7E8-778C-4954-B825-6A81296426F1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7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F84D64-A207-42E6-A813-86CC03DA7845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095CDD-F6AD-47F9-941F-FC9BCEE03B75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245ACA-74BC-4963-B3B9-6ABE96683D4A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C62FA6-8D8B-4452-82EB-E7FDEEB603B5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41FEE8-EF07-4294-83E6-F739502ADB27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774714-193A-4C20-825E-E9930BCF6655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8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7D75FB-5205-4E08-9680-4349D30A086B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8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FA88E0-A7AF-452D-A4D3-B0E2FDFDB396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8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6D1175-8F67-466F-9E1C-69CE81B8E2F9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C744C8-9F73-49AA-874D-E6389E751CFC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3A6B0F-DBF7-46B2-9631-1BC3F95471A3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9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45238D-AD4D-47DD-8F7C-E0819E7E7803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9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9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5B3783-2752-47FB-BC4E-7156B90FC1DF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9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10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ED030B-A17C-4114-BDFA-D1C23EBDC897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10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3E67E2-3D84-4BF9-B748-FA913609BAF7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1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5C0DB0-CA9E-4661-8C2E-055457058514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15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BFDB97-8371-42E5-9BA7-F5D1FAB02C03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15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F370B4-EC71-4AD0-8F26-58FA5C9FC749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6F4B2E-D3B5-46F5-A034-10D51CAFE30A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15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8EAEEA-6BBA-47B5-9307-B5C1EA678CE2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15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128CD5-ACA9-415D-8709-1F58C5235DFD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A8CFC8-DA64-48F8-96C5-F4A884B72CB6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70A8B7-A1A4-4C36-A73E-3A07CEB09FEF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1D4018-9068-4FB7-8D90-1DB8E9B06185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9AC4FF-9075-4804-B953-CC2E0252542F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65D53A-C591-438F-80E9-3C46EAD618A1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802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6840" y="3940920"/>
            <a:ext cx="81802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6840" y="394092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48320" y="394092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337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22720" y="1599840"/>
            <a:ext cx="26337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88600" y="1599840"/>
            <a:ext cx="26337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6840" y="3940920"/>
            <a:ext cx="26337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22720" y="3940920"/>
            <a:ext cx="26337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88600" y="3940920"/>
            <a:ext cx="26337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7F169-F262-4421-8D88-A91235EC1F7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180280" cy="44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DA7EF-81BD-4E08-ADE7-A8BF82DBBD3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8028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702CF-BC89-4A6C-86A5-1AF36A0ABF7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168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399168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DEB05-6DE6-4189-999B-5EDB0CAC477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A475F-C6BD-46D1-BB5B-4F633B5C3B1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18028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52323-2C6B-42FC-827C-6B5B2AF6EBB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399168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394092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8FE1C-6018-4C50-B5F5-45121F329B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180280" cy="44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168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48320" y="394092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63093-E0B0-4B39-9066-F83E0B315FC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3940920"/>
            <a:ext cx="81802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C135D-0547-44A9-A101-58C7DEB51A2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802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6840" y="3940920"/>
            <a:ext cx="81802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8B38F-88D3-4212-B60C-467D29334B3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394092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48320" y="394092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EBE93-A659-4958-A2C8-9E4B1D05BDF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337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22720" y="1599840"/>
            <a:ext cx="26337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88600" y="1599840"/>
            <a:ext cx="26337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6840" y="3940920"/>
            <a:ext cx="26337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22720" y="3940920"/>
            <a:ext cx="26337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88600" y="3940920"/>
            <a:ext cx="26337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50F87-D28E-436D-BDB4-89A39F1EFF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8028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168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399168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18028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399168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394092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168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48320" y="394092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40920"/>
            <a:ext cx="81802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50440" y="-468720"/>
            <a:ext cx="7970760" cy="142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719000"/>
            <a:ext cx="7383600" cy="4406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0"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lvl="1" marL="298440" indent="-29844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lvl="2" marL="298440" indent="-29844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lvl="3" marL="298440" indent="-29844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lvl="4" marL="298440" indent="-29844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lvl="5" marL="298440" indent="-29844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lvl="6" marL="298440" indent="-29844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49200" y="1047600"/>
            <a:ext cx="8358120" cy="1800"/>
          </a:xfrm>
          <a:prstGeom prst="line">
            <a:avLst/>
          </a:prstGeom>
          <a:ln w="38160">
            <a:solidFill>
              <a:srgbClr val="3765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19120" y="1206360"/>
            <a:ext cx="8356680" cy="1800"/>
          </a:xfrm>
          <a:prstGeom prst="line">
            <a:avLst/>
          </a:prstGeom>
          <a:ln w="38160">
            <a:solidFill>
              <a:srgbClr val="3765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820800" y="6440040"/>
            <a:ext cx="40989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s-C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pítulo 7: El coste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49200" y="6281640"/>
            <a:ext cx="8358120" cy="1800"/>
          </a:xfrm>
          <a:prstGeom prst="line">
            <a:avLst/>
          </a:prstGeom>
          <a:ln w="38160">
            <a:solidFill>
              <a:srgbClr val="3765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19120" y="6440400"/>
            <a:ext cx="8356680" cy="1800"/>
          </a:xfrm>
          <a:prstGeom prst="line">
            <a:avLst/>
          </a:prstGeom>
          <a:ln w="38160">
            <a:solidFill>
              <a:srgbClr val="3765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419040" y="4629240"/>
            <a:ext cx="711360" cy="1554120"/>
            <a:chOff x="419040" y="4629240"/>
            <a:chExt cx="711360" cy="1554120"/>
          </a:xfrm>
        </p:grpSpPr>
        <p:sp>
          <p:nvSpPr>
            <p:cNvPr id="8" name=""/>
            <p:cNvSpPr/>
            <p:nvPr/>
          </p:nvSpPr>
          <p:spPr>
            <a:xfrm>
              <a:off x="492120" y="4629240"/>
              <a:ext cx="507960" cy="1554120"/>
            </a:xfrm>
            <a:prstGeom prst="rtTriangle">
              <a:avLst/>
            </a:prstGeom>
            <a:gradFill rotWithShape="0">
              <a:gsLst>
                <a:gs pos="0">
                  <a:srgbClr val="1c4e35"/>
                </a:gs>
                <a:gs pos="100000">
                  <a:srgbClr val="48845c"/>
                </a:gs>
              </a:gsLst>
              <a:lin ang="13500000"/>
            </a:gradFill>
            <a:ln w="0">
              <a:noFill/>
            </a:ln>
            <a:effectLst>
              <a:outerShdw dist="53966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19040" y="5024520"/>
              <a:ext cx="1800" cy="10857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768240" y="5043240"/>
              <a:ext cx="362160" cy="866520"/>
            </a:xfrm>
            <a:prstGeom prst="line">
              <a:avLst/>
            </a:prstGeom>
            <a:ln w="28440">
              <a:solidFill>
                <a:srgbClr val="ff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76360" y="6084720"/>
              <a:ext cx="349200" cy="1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071720" y="304920"/>
            <a:ext cx="7610040" cy="1104840"/>
            <a:chOff x="1071720" y="304920"/>
            <a:chExt cx="7610040" cy="1104840"/>
          </a:xfrm>
        </p:grpSpPr>
        <p:sp>
          <p:nvSpPr>
            <p:cNvPr id="49" name=""/>
            <p:cNvSpPr/>
            <p:nvPr/>
          </p:nvSpPr>
          <p:spPr>
            <a:xfrm flipH="1">
              <a:off x="4865040" y="304920"/>
              <a:ext cx="1104840" cy="11030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7578000" y="304920"/>
              <a:ext cx="1103400" cy="11030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071720" y="306360"/>
              <a:ext cx="1103040" cy="11034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6321600" y="304920"/>
              <a:ext cx="1103040" cy="11030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2358360" y="304920"/>
              <a:ext cx="1103400" cy="11030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6840" y="1599840"/>
            <a:ext cx="818028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6248520"/>
            <a:ext cx="209376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6248520"/>
            <a:ext cx="28558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ldNum" idx="2"/>
          </p:nvPr>
        </p:nvSpPr>
        <p:spPr>
          <a:xfrm>
            <a:off x="6553080" y="6248160"/>
            <a:ext cx="20844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s-ES" sz="1000" spc="-1" strike="noStrike">
                <a:solidFill>
                  <a:srgbClr val="000000"/>
                </a:solidFill>
                <a:latin typeface="Arial"/>
                <a:ea typeface="MS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A483F8-248B-4138-9CA6-653C56D62E96}" type="slidenum">
              <a:rPr b="0" lang="es-ES" sz="1000" spc="-1" strike="noStrike">
                <a:solidFill>
                  <a:srgbClr val="000000"/>
                </a:solidFill>
                <a:latin typeface="Arial"/>
                <a:ea typeface="MS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12640" y="330120"/>
            <a:ext cx="81187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IN3202-2 Microeconomía.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2971800"/>
            <a:ext cx="6172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Times New Roman"/>
                <a:ea typeface="MS Gothic"/>
              </a:rPr>
              <a:t>Costes d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Times New Roman"/>
                <a:ea typeface="MS Gothic"/>
              </a:rPr>
              <a:t>Producció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5080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rgo plazo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En el óptimo, la pendiente de la recta de isocoste tiene que ser la misma de la pendiente de la isocuant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         </a:t>
            </a:r>
            <a:r>
              <a:rPr b="0" i="1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MST = - PM</a:t>
            </a:r>
            <a:r>
              <a:rPr b="0" i="1" lang="es-CL" sz="3200" spc="-1" strike="noStrike" baseline="-33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PM</a:t>
            </a:r>
            <a:r>
              <a:rPr b="0" i="1" lang="es-CL" sz="3200" spc="-1" strike="noStrike" baseline="-33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i="1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- (w/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95920" y="3124080"/>
            <a:ext cx="105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3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576960" y="3124080"/>
            <a:ext cx="105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3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55840" y="424512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1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dur="indefinite" fill="hold">
                      <p:stCondLst>
                        <p:cond delay="indefinite"/>
                      </p:stCondLst>
                      <p:childTnLst>
                        <p:par>
                          <p:cTn id="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5080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rgo plazo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43000" y="1719360"/>
            <a:ext cx="7396200" cy="49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De otra for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M</a:t>
            </a:r>
            <a:r>
              <a:rPr b="0" i="1" lang="es-CL" sz="3200" spc="-1" strike="noStrike" baseline="-33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w =  PM</a:t>
            </a:r>
            <a:r>
              <a:rPr b="0" i="1" lang="es-CL" sz="3200" spc="-1" strike="noStrike" baseline="-33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i="1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ínimo para una determinada producción aparece cuando cada Peso gastado en cualquier factor incorporado al proceso de producción genere la misma cantidad de producción adicion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95920" y="3124080"/>
            <a:ext cx="105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3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576960" y="3124080"/>
            <a:ext cx="105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3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55840" y="424512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1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5080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rgo plazo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143000" y="1719360"/>
            <a:ext cx="739620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Demostrar que el resultado se puede obtener de forma rigurosa con el método de los multiplicadores de Lagrange. Considerar el problem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C(Q) = Min</a:t>
            </a:r>
            <a:r>
              <a:rPr b="0" i="1" lang="es-CL" sz="3200" spc="-1" strike="noStrike" baseline="-33000">
                <a:solidFill>
                  <a:srgbClr val="000000"/>
                </a:solidFill>
                <a:latin typeface="Times New Roman"/>
                <a:ea typeface="MS Gothic"/>
              </a:rPr>
              <a:t>F(K,L)=Q</a:t>
            </a:r>
            <a:r>
              <a:rPr b="0" i="1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 rK + w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95920" y="3124080"/>
            <a:ext cx="105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3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576960" y="3124080"/>
            <a:ext cx="105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3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255840" y="424512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1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dur="indefinite" fill="hold">
                      <p:stCondLst>
                        <p:cond delay="indefinite"/>
                      </p:stCondLst>
                      <p:childTnLst>
                        <p:par>
                          <p:cTn id="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1195560"/>
            <a:ext cx="7396200" cy="49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4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s empresas que disponen de métodos para deshacerse de los subproductos del proceso de producción, llamados </a:t>
            </a:r>
            <a:r>
              <a:rPr b="0" i="1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vertid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Una tasa sobre los vertidos es una tasa por unidad que debe pagar la empresa por los vertidos que arroja al rí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¿Cómo debe responder el gerente de una empresa a la imposición de esta tasa sobre los vertidos para minimizar los costes de producció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-15840"/>
            <a:ext cx="914400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Tasas y Vertidos.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09800" y="1147680"/>
            <a:ext cx="7395840" cy="54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s acerías se construyen cerca de cursos de agua. Los ríos son medios de transporte accesibles, permiten deshacerse de los vertidos y proveen agua para resfriar las maquin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Muchos estados imponen una tasa sobre los vertidos para reducir la cantidad de residuos perjudiciales para el medio ambiente.  De costumbre se configura como una tasa sobre  el agua residu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(i) ¿Cómo debería responder la acería a la imposición de la tasa para minimizar los costes de producció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(ii) Algunos argumentan que las tasas son un instrumento equivocado. ¿Tiene a que ver con esto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-15840"/>
            <a:ext cx="914400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Tasas y Vertidos: Un ejercicio.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124080" y="6235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09680" y="1757520"/>
            <a:ext cx="1800" cy="4236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03560" y="6006960"/>
            <a:ext cx="54291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119360" y="5711760"/>
            <a:ext cx="17679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Agua residu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(galones al m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5360" y="1157400"/>
            <a:ext cx="16444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apital (horas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máquin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al m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193480" y="2441520"/>
            <a:ext cx="6724080" cy="3565440"/>
            <a:chOff x="2193480" y="2441520"/>
            <a:chExt cx="6724080" cy="3565440"/>
          </a:xfrm>
        </p:grpSpPr>
        <p:sp>
          <p:nvSpPr>
            <p:cNvPr id="258" name=""/>
            <p:cNvSpPr/>
            <p:nvPr/>
          </p:nvSpPr>
          <p:spPr>
            <a:xfrm>
              <a:off x="2743200" y="2441520"/>
              <a:ext cx="3584520" cy="3048120"/>
            </a:xfrm>
            <a:noFill/>
            <a:ln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122520" y="5103720"/>
              <a:ext cx="279504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Producción de 2.000 tonelad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de ace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2193480" y="4495680"/>
              <a:ext cx="1863720" cy="18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038480" y="4511520"/>
              <a:ext cx="1800" cy="14954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962520" y="4419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040280" y="404028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3599640" y="5992920"/>
            <a:ext cx="726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10.00</a:t>
            </a: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952160" y="5992920"/>
            <a:ext cx="727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18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714280" y="5992920"/>
            <a:ext cx="727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2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895400" y="599436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266360" y="5992920"/>
            <a:ext cx="727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12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2251080" y="1601640"/>
            <a:ext cx="3265560" cy="4380120"/>
            <a:chOff x="2251080" y="1601640"/>
            <a:chExt cx="3265560" cy="4380120"/>
          </a:xfrm>
        </p:grpSpPr>
        <p:sp>
          <p:nvSpPr>
            <p:cNvPr id="270" name=""/>
            <p:cNvSpPr/>
            <p:nvPr/>
          </p:nvSpPr>
          <p:spPr>
            <a:xfrm>
              <a:off x="2251080" y="2771640"/>
              <a:ext cx="3209760" cy="321012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35560" y="5452920"/>
              <a:ext cx="18108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846160" y="1601640"/>
              <a:ext cx="1580400" cy="9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Pendiente de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la recta isocos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= -10/40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= -0,2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2790360" y="2390760"/>
              <a:ext cx="365400" cy="860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1525680" y="4284720"/>
            <a:ext cx="68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2.00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525680" y="5030640"/>
            <a:ext cx="68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1.00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525680" y="2790720"/>
            <a:ext cx="68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4.00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525680" y="3537000"/>
            <a:ext cx="68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3.00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525680" y="2044800"/>
            <a:ext cx="68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5.00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742840" y="5992920"/>
            <a:ext cx="627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5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-15840"/>
            <a:ext cx="914400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Producción sin tasas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dur="indefinite" fill="hold">
                      <p:stCondLst>
                        <p:cond delay="indefinite"/>
                      </p:stCondLst>
                      <p:childTnLst>
                        <p:par>
                          <p:cTn id="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 fill="hold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dur="indefinite" fill="hold">
                      <p:stCondLst>
                        <p:cond delay="indefinite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 fill="hold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124080" y="6235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209680" y="1731960"/>
            <a:ext cx="1800" cy="4273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17600" y="6006960"/>
            <a:ext cx="5465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2755800" y="2467080"/>
            <a:ext cx="5977080" cy="3177360"/>
            <a:chOff x="2755800" y="2467080"/>
            <a:chExt cx="5977080" cy="3177360"/>
          </a:xfrm>
        </p:grpSpPr>
        <p:sp>
          <p:nvSpPr>
            <p:cNvPr id="289" name=""/>
            <p:cNvSpPr/>
            <p:nvPr/>
          </p:nvSpPr>
          <p:spPr>
            <a:xfrm>
              <a:off x="2755800" y="2467080"/>
              <a:ext cx="3584520" cy="3047760"/>
            </a:xfrm>
            <a:noFill/>
            <a:ln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330960" y="5129280"/>
              <a:ext cx="240192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Producción de 2.00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toneladas de acero al m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1525680" y="4284720"/>
            <a:ext cx="68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2.00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525680" y="5030640"/>
            <a:ext cx="68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1.00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525680" y="2790720"/>
            <a:ext cx="689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4.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525680" y="3537000"/>
            <a:ext cx="689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3.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25680" y="2044800"/>
            <a:ext cx="68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5.00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599640" y="6018120"/>
            <a:ext cx="726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10.00</a:t>
            </a: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952520" y="6018120"/>
            <a:ext cx="726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18.00</a:t>
            </a: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714280" y="6018120"/>
            <a:ext cx="727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2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884240" y="593100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266720" y="6018120"/>
            <a:ext cx="726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12.00</a:t>
            </a: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76280" y="1157400"/>
            <a:ext cx="16635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apital (horas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máquin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al m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1525680" y="1525680"/>
            <a:ext cx="7289640" cy="4794480"/>
            <a:chOff x="1525680" y="1525680"/>
            <a:chExt cx="7289640" cy="4794480"/>
          </a:xfrm>
        </p:grpSpPr>
        <p:sp>
          <p:nvSpPr>
            <p:cNvPr id="303" name=""/>
            <p:cNvSpPr/>
            <p:nvPr/>
          </p:nvSpPr>
          <p:spPr>
            <a:xfrm>
              <a:off x="4344840" y="5452920"/>
              <a:ext cx="3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742840" y="6018120"/>
              <a:ext cx="627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ff3300"/>
                  </a:solidFill>
                  <a:latin typeface="Arial"/>
                </a:rPr>
                <a:t>5.00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251080" y="1857240"/>
              <a:ext cx="2219400" cy="4137120"/>
            </a:xfrm>
            <a:prstGeom prst="line">
              <a:avLst/>
            </a:prstGeom>
            <a:ln w="50760">
              <a:solidFill>
                <a:srgbClr val="99cc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193480" y="3429000"/>
              <a:ext cx="949320" cy="14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048120" y="33526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525680" y="3201840"/>
              <a:ext cx="6890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600" spc="-1" strike="noStrike">
                  <a:solidFill>
                    <a:srgbClr val="ff3300"/>
                  </a:solidFill>
                  <a:latin typeface="Arial"/>
                </a:rPr>
                <a:t>3.50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124080" y="3521160"/>
              <a:ext cx="1800" cy="24858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76120" y="1525680"/>
              <a:ext cx="1580400" cy="9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Pendiente de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la recta isocos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= -20/4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= -0,5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409480" y="2009880"/>
              <a:ext cx="593640" cy="98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25880" y="297324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720040" y="2968560"/>
              <a:ext cx="3095280" cy="136764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Siguiendo la imposición de la tas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sobre los vertidos de 10$/gal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la pendiente del isocoste cambi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el alto coste de agua e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apital; así, ahora se prefiere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la combinación </a:t>
              </a:r>
              <a:r>
                <a:rPr b="1" i="1" lang="es-E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2180880" y="1452600"/>
            <a:ext cx="5747760" cy="4554360"/>
            <a:chOff x="2180880" y="1452600"/>
            <a:chExt cx="5747760" cy="4554360"/>
          </a:xfrm>
        </p:grpSpPr>
        <p:sp>
          <p:nvSpPr>
            <p:cNvPr id="315" name=""/>
            <p:cNvSpPr/>
            <p:nvPr/>
          </p:nvSpPr>
          <p:spPr>
            <a:xfrm flipH="1">
              <a:off x="2180880" y="4495680"/>
              <a:ext cx="1863720" cy="18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025880" y="4511520"/>
              <a:ext cx="1440" cy="14954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949560" y="44197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027320" y="404028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761720" y="1452600"/>
              <a:ext cx="3166920" cy="94140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Antes de la regulación, la empresa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decide producir utilizando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10.000 galones de agua y 2.00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horas-máquina de capital en </a:t>
              </a:r>
              <a:r>
                <a:rPr b="1" i="1" lang="es-CL" sz="1400" spc="-1" strike="noStrike">
                  <a:solidFill>
                    <a:srgbClr val="000000"/>
                  </a:solidFill>
                  <a:latin typeface="Arial"/>
                </a:rPr>
                <a:t>A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2201760" y="2409840"/>
            <a:ext cx="3475080" cy="3571920"/>
            <a:chOff x="2201760" y="2409840"/>
            <a:chExt cx="3475080" cy="3571920"/>
          </a:xfrm>
        </p:grpSpPr>
        <p:sp>
          <p:nvSpPr>
            <p:cNvPr id="321" name=""/>
            <p:cNvSpPr/>
            <p:nvPr/>
          </p:nvSpPr>
          <p:spPr>
            <a:xfrm>
              <a:off x="2201760" y="2759040"/>
              <a:ext cx="3256200" cy="322272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330880" y="545148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229120" y="2409840"/>
              <a:ext cx="321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7373160" y="5692680"/>
            <a:ext cx="17679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Agua residu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(galones al m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-15840"/>
            <a:ext cx="914400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Producción con tasa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dur="indefinite" fill="hold">
                      <p:stCondLst>
                        <p:cond delay="indefinite"/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 fill="hold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dur="indefinite" fill="hold">
                      <p:stCondLst>
                        <p:cond delay="indefinite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 fill="hold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dur="indefinite" fill="hold">
                      <p:stCondLst>
                        <p:cond delay="indefinite"/>
                      </p:stCondLst>
                      <p:childTnLst>
                        <p:par>
                          <p:cTn id="1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 fill="hold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dur="indefinite" fill="hold">
                      <p:stCondLst>
                        <p:cond delay="indefinite"/>
                      </p:stCondLst>
                      <p:childTnLst>
                        <p:par>
                          <p:cTn id="1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 fill="hold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Observacion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Cuanto más fácil es sustituir los factores en el proceso de producción, más eficaz es la tasa para reducir los vertidos.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Cuanto mayor es el grado de sustitución, menos tiene que pagar la empresa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-15840"/>
            <a:ext cx="914400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Tasas y Vertidos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 minimización de los costes cuando se altera el nivel de producció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 </a:t>
            </a:r>
            <a:r>
              <a:rPr b="0" lang="es-CL" sz="2700" spc="-1" strike="noStrike">
                <a:solidFill>
                  <a:srgbClr val="fc0128"/>
                </a:solidFill>
                <a:latin typeface="Times New Roman"/>
                <a:ea typeface="MS Gothic"/>
              </a:rPr>
              <a:t>senda de expansión </a:t>
            </a: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de una empresa muestra las combinaciones de trabajo y capital de menor coste que pueden utilizarse para obtener cada nivel de producción (fijados los precios de los factores)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5080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Senda de Expansión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124080" y="6235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209680" y="1757520"/>
            <a:ext cx="1800" cy="4236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16160" y="6006960"/>
            <a:ext cx="44258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752520" y="5834160"/>
            <a:ext cx="1554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Trabajo al añ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82320" y="1244520"/>
            <a:ext cx="8564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al añ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2205000" y="3137040"/>
            <a:ext cx="2979720" cy="286992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166360" y="3224160"/>
            <a:ext cx="2139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Senda de expans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086800" y="1494000"/>
            <a:ext cx="3002400" cy="11545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La senda de expansión muestr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las combinaciones de trabajo y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capital de menor coste que pued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utilizarse para obtener cada nivel d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producción a largo plazo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717560" y="5278320"/>
            <a:ext cx="484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717560" y="4714920"/>
            <a:ext cx="484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717560" y="4149720"/>
            <a:ext cx="484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616040" y="3586320"/>
            <a:ext cx="585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616040" y="2384280"/>
            <a:ext cx="585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006720" y="5967360"/>
            <a:ext cx="633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75000" y="5979960"/>
            <a:ext cx="484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687840" y="5967360"/>
            <a:ext cx="534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524560" y="5967360"/>
            <a:ext cx="571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272120" y="5967360"/>
            <a:ext cx="61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2198160" y="4721400"/>
            <a:ext cx="1340280" cy="1260360"/>
            <a:chOff x="2198160" y="4721400"/>
            <a:chExt cx="1340280" cy="1260360"/>
          </a:xfrm>
        </p:grpSpPr>
        <p:sp>
          <p:nvSpPr>
            <p:cNvPr id="357" name=""/>
            <p:cNvSpPr/>
            <p:nvPr/>
          </p:nvSpPr>
          <p:spPr>
            <a:xfrm>
              <a:off x="2201760" y="4900680"/>
              <a:ext cx="1179720" cy="108108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363760" y="4721400"/>
              <a:ext cx="1174680" cy="1122120"/>
            </a:xfrm>
            <a:noFill/>
            <a:ln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730600" y="5369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643120" y="5041800"/>
              <a:ext cx="309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6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2198160" y="5435640"/>
              <a:ext cx="576360" cy="1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789280" y="5418000"/>
              <a:ext cx="1440" cy="563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2207160" y="3238560"/>
            <a:ext cx="8719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Recta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socos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de 2.000$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556880" y="5462640"/>
            <a:ext cx="7729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Isocuan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de 2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unidad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212920" y="3738600"/>
            <a:ext cx="2367000" cy="2252520"/>
          </a:xfrm>
          <a:prstGeom prst="line">
            <a:avLst/>
          </a:prstGeom>
          <a:ln w="507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843280" y="3878280"/>
            <a:ext cx="1789200" cy="1695600"/>
          </a:xfrm>
          <a:noFill/>
          <a:ln w="507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2198160" y="4871880"/>
            <a:ext cx="1265400" cy="1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402000" y="4965840"/>
            <a:ext cx="1440" cy="1015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338640" y="477684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306600" y="4390920"/>
            <a:ext cx="309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2160720" y="2373480"/>
            <a:ext cx="5659200" cy="3657600"/>
            <a:chOff x="2160720" y="2373480"/>
            <a:chExt cx="5659200" cy="3657600"/>
          </a:xfrm>
        </p:grpSpPr>
        <p:sp>
          <p:nvSpPr>
            <p:cNvPr id="372" name=""/>
            <p:cNvSpPr/>
            <p:nvPr/>
          </p:nvSpPr>
          <p:spPr>
            <a:xfrm>
              <a:off x="2190960" y="2373480"/>
              <a:ext cx="23425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Recta isocoste de 3.000$</a:t>
              </a:r>
              <a:r>
                <a:rPr b="1" lang="es-CL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187720" y="2577960"/>
              <a:ext cx="3554280" cy="345312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211560" y="3003480"/>
              <a:ext cx="2117520" cy="2098800"/>
            </a:xfrm>
            <a:noFill/>
            <a:ln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887640" y="423864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372280" y="4965840"/>
              <a:ext cx="2447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Isocuanta de 300 unidad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2160720" y="4308480"/>
              <a:ext cx="1790640" cy="1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78360" y="4338720"/>
              <a:ext cx="1440" cy="1643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832200" y="3865680"/>
              <a:ext cx="309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55080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Senda de Expansión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dur="indefinite" fill="hold">
                      <p:stCondLst>
                        <p:cond delay="indefinite"/>
                      </p:stCondLst>
                      <p:childTnLst>
                        <p:par>
                          <p:cTn id="1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 fill="hold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dur="indefinite" fill="hold">
                      <p:stCondLst>
                        <p:cond delay="indefinite"/>
                      </p:stCondLst>
                      <p:childTnLst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 fill="hold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Coste a largo plaz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Economías de Escala y Cos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0800" y="304920"/>
            <a:ext cx="798372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o que vamos a ver hoy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6235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209680" y="1757520"/>
            <a:ext cx="1800" cy="4236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216160" y="6006960"/>
            <a:ext cx="44258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52520" y="5834160"/>
            <a:ext cx="1554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Trabajo al añ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239480" y="1273320"/>
            <a:ext cx="8564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al añ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2205000" y="3137040"/>
            <a:ext cx="2979720" cy="286992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166360" y="3224160"/>
            <a:ext cx="2139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Senda de expans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717560" y="5278320"/>
            <a:ext cx="484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717560" y="4714920"/>
            <a:ext cx="484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717560" y="4149720"/>
            <a:ext cx="484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616040" y="3586320"/>
            <a:ext cx="585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616040" y="2384280"/>
            <a:ext cx="585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06720" y="5967360"/>
            <a:ext cx="633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475000" y="5979960"/>
            <a:ext cx="484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687840" y="5967360"/>
            <a:ext cx="534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24560" y="5967360"/>
            <a:ext cx="571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272120" y="5967360"/>
            <a:ext cx="61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2198160" y="4721400"/>
            <a:ext cx="1340280" cy="1260360"/>
            <a:chOff x="2198160" y="4721400"/>
            <a:chExt cx="1340280" cy="1260360"/>
          </a:xfrm>
        </p:grpSpPr>
        <p:sp>
          <p:nvSpPr>
            <p:cNvPr id="403" name=""/>
            <p:cNvSpPr/>
            <p:nvPr/>
          </p:nvSpPr>
          <p:spPr>
            <a:xfrm>
              <a:off x="2201760" y="4900680"/>
              <a:ext cx="1179720" cy="108108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363760" y="4721400"/>
              <a:ext cx="1174680" cy="1122120"/>
            </a:xfrm>
            <a:noFill/>
            <a:ln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730600" y="5369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643120" y="5041800"/>
              <a:ext cx="309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6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2198160" y="5435640"/>
              <a:ext cx="576360" cy="1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789280" y="5418000"/>
              <a:ext cx="1440" cy="563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2207160" y="3238560"/>
            <a:ext cx="8719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Recta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socos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de 2.000$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556880" y="5462640"/>
            <a:ext cx="7729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Isocuan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de 2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unidad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212920" y="3738600"/>
            <a:ext cx="2367000" cy="2252520"/>
          </a:xfrm>
          <a:prstGeom prst="line">
            <a:avLst/>
          </a:prstGeom>
          <a:ln w="507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843280" y="3878280"/>
            <a:ext cx="1789200" cy="1695600"/>
          </a:xfrm>
          <a:noFill/>
          <a:ln w="507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2198160" y="4871880"/>
            <a:ext cx="1265400" cy="1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402000" y="4965840"/>
            <a:ext cx="1440" cy="1015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338640" y="477684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306600" y="4390920"/>
            <a:ext cx="309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2160720" y="2373480"/>
            <a:ext cx="5659200" cy="3657600"/>
            <a:chOff x="2160720" y="2373480"/>
            <a:chExt cx="5659200" cy="3657600"/>
          </a:xfrm>
        </p:grpSpPr>
        <p:sp>
          <p:nvSpPr>
            <p:cNvPr id="418" name=""/>
            <p:cNvSpPr/>
            <p:nvPr/>
          </p:nvSpPr>
          <p:spPr>
            <a:xfrm>
              <a:off x="2190960" y="2373480"/>
              <a:ext cx="23425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Recta isocoste de 3.000$</a:t>
              </a:r>
              <a:r>
                <a:rPr b="1" lang="es-CL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187720" y="2577960"/>
              <a:ext cx="3554280" cy="345312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211560" y="3003480"/>
              <a:ext cx="2117520" cy="2098800"/>
            </a:xfrm>
            <a:noFill/>
            <a:ln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87640" y="423864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372280" y="4965840"/>
              <a:ext cx="2447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Isocuanta de 300 unidad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2160720" y="4308480"/>
              <a:ext cx="1790640" cy="1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978360" y="4338720"/>
              <a:ext cx="1440" cy="1643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32200" y="3865680"/>
              <a:ext cx="309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55080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Corto Plazo: Rigidez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286000" y="4800600"/>
            <a:ext cx="4343400" cy="144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629400" y="4343400"/>
            <a:ext cx="1676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Senda Expans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Corto Plaz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dur="indefinite" fill="hold">
                      <p:stCondLst>
                        <p:cond delay="indefinite"/>
                      </p:stCondLst>
                      <p:childTnLst>
                        <p:par>
                          <p:cTn id="1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 fill="hold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dur="indefinite" fill="hold">
                      <p:stCondLst>
                        <p:cond delay="indefinite"/>
                      </p:stCondLst>
                      <p:childTnLst>
                        <p:par>
                          <p:cTn id="1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 fill="hold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edio a largo plazo (CMe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Rendimientos </a:t>
            </a:r>
            <a:r>
              <a:rPr b="0" lang="es-CL" sz="2700" spc="-1" strike="noStrike" u="sng">
                <a:solidFill>
                  <a:srgbClr val="000000"/>
                </a:solidFill>
                <a:uFillTx/>
                <a:latin typeface="Times New Roman"/>
                <a:ea typeface="MS Gothic"/>
              </a:rPr>
              <a:t>constantes</a:t>
            </a: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 de escala: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Una duplicación de los factores provoca una duplicación de la producción.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edio  es constante en todos los niveles de producción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50800" y="0"/>
            <a:ext cx="798372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edio a largo plazo (CMeL)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edio a largo plazo (CMe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Rendimientos </a:t>
            </a:r>
            <a:r>
              <a:rPr b="0" lang="es-CL" sz="2700" spc="-1" strike="noStrike" u="sng">
                <a:solidFill>
                  <a:srgbClr val="000000"/>
                </a:solidFill>
                <a:uFillTx/>
                <a:latin typeface="Times New Roman"/>
                <a:ea typeface="MS Gothic"/>
              </a:rPr>
              <a:t>crecientes</a:t>
            </a: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 de escala: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Una duplicación de los factores provoca una duplicación de la producción.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edio disminuye en todos los niveles de producción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50800" y="0"/>
            <a:ext cx="798372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edio a largo plazo (CMeL)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edio a largo plazo (CMeL)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Rendimientos </a:t>
            </a:r>
            <a:r>
              <a:rPr b="0" lang="es-ES" sz="2700" spc="-1" strike="noStrike" u="sng">
                <a:solidFill>
                  <a:srgbClr val="000000"/>
                </a:solidFill>
                <a:uFillTx/>
                <a:latin typeface="Times New Roman"/>
                <a:ea typeface="MS Gothic"/>
              </a:rPr>
              <a:t>decrecientes</a:t>
            </a:r>
            <a:r>
              <a:rPr b="0" lang="es-ES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 de escala: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Si se duplican los factores, el crecimiento de la producción es menor que el doble.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edio aumentará con la producción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0800" y="0"/>
            <a:ext cx="798372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edio a largo plazo (CMeL)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A largo plazo: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s empresas experimentan rendimientos crecientes y decrecientes de escala. Por lo tanto, el coste medio a largo plazo tiene forma de “U”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50800" y="0"/>
            <a:ext cx="798372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Coste Medio a Largo Plazo (CMeL)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arginal a largo plazo hace que el coste medio a largo plaz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Times New Roman"/>
                <a:ea typeface="MS Gothic"/>
              </a:rPr>
              <a:t>Si CML &lt; CMeL, CMeL disminuirá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Times New Roman"/>
                <a:ea typeface="MS Gothic"/>
              </a:rPr>
              <a:t>Si CML &gt; CMeL, CMeL aumentará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Times New Roman"/>
                <a:ea typeface="MS Gothic"/>
              </a:rPr>
              <a:t>Por lo tanto, CML = CMeL cuando CMeL alcanza su punto mínimo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50800" y="0"/>
            <a:ext cx="798372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edio a largo plazo (CMeL)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124080" y="6235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209680" y="1757520"/>
            <a:ext cx="1800" cy="4236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216160" y="6006960"/>
            <a:ext cx="44258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634440" y="585144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2443320" y="2668680"/>
            <a:ext cx="4452120" cy="1824120"/>
            <a:chOff x="2443320" y="2668680"/>
            <a:chExt cx="4452120" cy="1824120"/>
          </a:xfrm>
        </p:grpSpPr>
        <p:sp>
          <p:nvSpPr>
            <p:cNvPr id="458" name=""/>
            <p:cNvSpPr/>
            <p:nvPr/>
          </p:nvSpPr>
          <p:spPr>
            <a:xfrm>
              <a:off x="2443320" y="3241800"/>
              <a:ext cx="3919320" cy="1251000"/>
            </a:xfrm>
            <a:noFill/>
            <a:ln w="507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020640" y="2668680"/>
              <a:ext cx="874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"/>
                </a:rPr>
                <a:t>CMe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2670120" y="2023920"/>
            <a:ext cx="3382200" cy="4013280"/>
            <a:chOff x="2670120" y="2023920"/>
            <a:chExt cx="3382200" cy="4013280"/>
          </a:xfrm>
        </p:grpSpPr>
        <p:sp>
          <p:nvSpPr>
            <p:cNvPr id="461" name=""/>
            <p:cNvSpPr/>
            <p:nvPr/>
          </p:nvSpPr>
          <p:spPr>
            <a:xfrm>
              <a:off x="2670120" y="2593800"/>
              <a:ext cx="2895480" cy="2210040"/>
            </a:xfrm>
            <a:noFill/>
            <a:ln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319360" y="2023920"/>
              <a:ext cx="732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"/>
                </a:rPr>
                <a:t>CM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433760" y="4497480"/>
              <a:ext cx="1800" cy="15397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940560" y="401472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346640" y="4384800"/>
              <a:ext cx="189000" cy="188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550800" y="0"/>
            <a:ext cx="7983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Costes Medios y Marginales a Largo Plazo 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371600" y="1600200"/>
            <a:ext cx="6858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dur="indefinite" fill="hold">
                      <p:stCondLst>
                        <p:cond delay="indefinite"/>
                      </p:stCondLst>
                      <p:childTnLst>
                        <p:par>
                          <p:cTn id="1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 fill="hold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dur="indefinite" fill="hold">
                      <p:stCondLst>
                        <p:cond delay="indefinite"/>
                      </p:stCondLst>
                      <p:childTnLst>
                        <p:par>
                          <p:cTn id="1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 fill="hold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062000" y="160020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fc0128"/>
                </a:solidFill>
                <a:latin typeface="Times New Roman"/>
                <a:ea typeface="MS Gothic"/>
              </a:rPr>
              <a:t>Pregun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¿Qué relación existe entre el coste medio a largo plazo y el coste marginal a largo plazo cuando el coste medio a largo plazo es constante?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50800" y="0"/>
            <a:ext cx="798372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rgo plazo vs corto plazo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047600" y="145260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Economías de escala: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aumento en la producción es mayor que el incremento en los factores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Deseconomías de escala: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aumento en la producción es menor que el aumento en los factores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50800" y="0"/>
            <a:ext cx="798372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Economías y deseconomías de escala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047600" y="145260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Medición de escala: </a:t>
            </a:r>
            <a:r>
              <a:rPr b="1" i="1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asticidad coste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3600" spc="-1" strike="noStrike">
                <a:solidFill>
                  <a:srgbClr val="000000"/>
                </a:solidFill>
                <a:latin typeface="Times New Roman"/>
                <a:ea typeface="MS Gothic"/>
              </a:rPr>
              <a:t>E</a:t>
            </a:r>
            <a:r>
              <a:rPr b="0" i="1" lang="es-CL" sz="3600" spc="-1" strike="noStrike" baseline="-33000">
                <a:solidFill>
                  <a:srgbClr val="000000"/>
                </a:solidFill>
                <a:latin typeface="Times New Roman"/>
                <a:ea typeface="MS Gothic"/>
              </a:rPr>
              <a:t>C</a:t>
            </a:r>
            <a:r>
              <a:rPr b="0" i="1" lang="es-CL" sz="3600" spc="-1" strike="noStrike">
                <a:solidFill>
                  <a:srgbClr val="000000"/>
                </a:solidFill>
                <a:latin typeface="Times New Roman"/>
                <a:ea typeface="MS Gothic"/>
              </a:rPr>
              <a:t>= (ΔC /ΔQ)(Q/C) = CM/C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Quando C es diferenciable: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3600" spc="-1" strike="noStrike">
                <a:solidFill>
                  <a:srgbClr val="000000"/>
                </a:solidFill>
                <a:latin typeface="Times New Roman"/>
                <a:ea typeface="MS Gothic"/>
              </a:rPr>
              <a:t>E</a:t>
            </a:r>
            <a:r>
              <a:rPr b="0" i="1" lang="es-CL" sz="3600" spc="-1" strike="noStrike" baseline="-33000">
                <a:solidFill>
                  <a:srgbClr val="000000"/>
                </a:solidFill>
                <a:latin typeface="Times New Roman"/>
                <a:ea typeface="MS Gothic"/>
              </a:rPr>
              <a:t>C</a:t>
            </a:r>
            <a:r>
              <a:rPr b="0" i="1" lang="es-CL" sz="3600" spc="-1" strike="noStrike">
                <a:solidFill>
                  <a:srgbClr val="000000"/>
                </a:solidFill>
                <a:latin typeface="Times New Roman"/>
                <a:ea typeface="MS Gothic"/>
              </a:rPr>
              <a:t>= (C'(Q))Q/C(Q) = CM(Q)/CMe(Q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Variación porcentual de los costes con respecto a una variación porcentual (infinitesimal) de la canti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50800" y="0"/>
            <a:ext cx="798372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Economías y deseconomías de escala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27080" y="1338120"/>
            <a:ext cx="739620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Después de unos primeros meses difíciles la “Tostaduría Enriqueta Pérez” tiene cierta holgura financiera que le permite comprar maquinas nuevas si las necesit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Asuman que el coste de una maquina sea r  y que el coste del trabajo sea w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Cambiará su elección de factores? Y su función de cost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0800" y="25560"/>
            <a:ext cx="7983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rgo plazo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200240" y="1490760"/>
            <a:ext cx="739620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24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s siguientes afirmaciones son verdader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E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  <a:ea typeface="MS Gothic"/>
              </a:rPr>
              <a:t>C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 &lt; 1: CM &lt; C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edio muestra las economías de escala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E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  <a:ea typeface="MS Gothic"/>
              </a:rPr>
              <a:t>C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 = 1: CM = C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edio muestra las economías de escala constan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E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  <a:ea typeface="MS Gothic"/>
              </a:rPr>
              <a:t>C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&gt; 1: CM &gt; C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edio muestra las deseconomías de escal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50800" y="0"/>
            <a:ext cx="798372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Economías y deseconomías de escala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 relación entre el coste a corto plazo y el coste a largo plaz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Utilizaremos el coste a corto y a largo plazo para determinar el tamaño perfecto de la planta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Noten: si hay retornos de escala constantes la función de coste es una recta entonces la función de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costes medios es una recta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50800" y="0"/>
            <a:ext cx="798372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Economías y deseconomías de escala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Si hay retornos de escala constantes la función de coste es una recta entonces la curve de costes medios y de coste mmarginales a largo plazo es una recta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 curva de costes marginales a corto plazo es estrictamente convexa debido a los rendimientos marginales decrecientes.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50800" y="0"/>
            <a:ext cx="798372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Economías y deseconomías de escala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276720" y="6045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50440" y="7560"/>
            <a:ext cx="7983720" cy="106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Costes a largo plazo con </a:t>
            </a:r>
            <a:br>
              <a:rPr sz="3200"/>
            </a:b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rendimientos constantes de esc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276720" y="6045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124080" y="6032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209680" y="1782720"/>
            <a:ext cx="1800" cy="423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190600" y="6006960"/>
            <a:ext cx="62676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8480160" y="5715000"/>
            <a:ext cx="552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403280" y="1600200"/>
            <a:ext cx="46044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5051520" y="2454120"/>
            <a:ext cx="3094920" cy="3882240"/>
            <a:chOff x="5051520" y="2454120"/>
            <a:chExt cx="3094920" cy="3882240"/>
          </a:xfrm>
        </p:grpSpPr>
        <p:sp>
          <p:nvSpPr>
            <p:cNvPr id="503" name=""/>
            <p:cNvSpPr/>
            <p:nvPr/>
          </p:nvSpPr>
          <p:spPr>
            <a:xfrm>
              <a:off x="6400800" y="3978360"/>
              <a:ext cx="1440" cy="20286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239160" y="5935680"/>
              <a:ext cx="432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s-CL" sz="18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629320" y="2822400"/>
              <a:ext cx="2070000" cy="1143000"/>
            </a:xfrm>
            <a:noFill/>
            <a:ln w="507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245720" y="2454120"/>
              <a:ext cx="900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CMeC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946840" y="3355920"/>
              <a:ext cx="609480" cy="1295280"/>
            </a:xfrm>
            <a:noFill/>
            <a:ln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180480" y="3049560"/>
              <a:ext cx="70884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CMC</a:t>
              </a:r>
              <a:r>
                <a:rPr b="1" lang="es-CL" sz="16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051520" y="2746440"/>
              <a:ext cx="615960" cy="914400"/>
            </a:xfrm>
            <a:noFill/>
            <a:ln w="507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3660840" y="2454120"/>
            <a:ext cx="3190320" cy="3882240"/>
            <a:chOff x="3660840" y="2454120"/>
            <a:chExt cx="3190320" cy="3882240"/>
          </a:xfrm>
        </p:grpSpPr>
        <p:sp>
          <p:nvSpPr>
            <p:cNvPr id="511" name=""/>
            <p:cNvSpPr/>
            <p:nvPr/>
          </p:nvSpPr>
          <p:spPr>
            <a:xfrm>
              <a:off x="5029200" y="3978360"/>
              <a:ext cx="1440" cy="20286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867560" y="5935680"/>
              <a:ext cx="432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s-CL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208400" y="3635280"/>
              <a:ext cx="1440000" cy="346320"/>
            </a:xfrm>
            <a:custGeom>
              <a:avLst/>
              <a:gdLst/>
              <a:ahLst/>
              <a:rect l="l" t="t" r="r" b="b"/>
              <a:pathLst>
                <a:path w="907" h="218">
                  <a:moveTo>
                    <a:pt x="0" y="0"/>
                  </a:moveTo>
                  <a:cubicBezTo>
                    <a:pt x="161" y="104"/>
                    <a:pt x="322" y="208"/>
                    <a:pt x="473" y="213"/>
                  </a:cubicBezTo>
                  <a:cubicBezTo>
                    <a:pt x="624" y="218"/>
                    <a:pt x="765" y="125"/>
                    <a:pt x="907" y="32"/>
                  </a:cubicBezTo>
                </a:path>
              </a:pathLst>
            </a:custGeom>
            <a:noFill/>
            <a:ln w="507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950440" y="2454120"/>
              <a:ext cx="900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800" spc="-1" strike="noStrike">
                  <a:solidFill>
                    <a:srgbClr val="ffffff"/>
                  </a:solidFill>
                  <a:latin typeface="Arial"/>
                </a:rPr>
                <a:t>CMeC</a:t>
              </a:r>
              <a:r>
                <a:rPr b="1" lang="es-CL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568760" y="3355920"/>
              <a:ext cx="615960" cy="1295280"/>
            </a:xfrm>
            <a:noFill/>
            <a:ln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580280" y="3049560"/>
              <a:ext cx="70884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CMC</a:t>
              </a:r>
              <a:r>
                <a:rPr b="1" lang="es-CL" sz="16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691240" y="2822400"/>
              <a:ext cx="687240" cy="838440"/>
            </a:xfrm>
            <a:noFill/>
            <a:ln w="507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660840" y="2746440"/>
              <a:ext cx="609480" cy="914400"/>
            </a:xfrm>
            <a:noFill/>
            <a:ln w="507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2238480" y="1754280"/>
            <a:ext cx="6788160" cy="2480400"/>
            <a:chOff x="2238480" y="1754280"/>
            <a:chExt cx="6788160" cy="2480400"/>
          </a:xfrm>
        </p:grpSpPr>
        <p:sp>
          <p:nvSpPr>
            <p:cNvPr id="520" name=""/>
            <p:cNvSpPr/>
            <p:nvPr/>
          </p:nvSpPr>
          <p:spPr>
            <a:xfrm>
              <a:off x="2238480" y="3962520"/>
              <a:ext cx="5813280" cy="1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8118360" y="3597120"/>
              <a:ext cx="9082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000000"/>
                  </a:solidFill>
                  <a:latin typeface="Times New Roman"/>
                </a:rPr>
                <a:t>CMeL=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000000"/>
                  </a:solidFill>
                  <a:latin typeface="Times New Roman"/>
                </a:rPr>
                <a:t>CM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353040" y="1754280"/>
              <a:ext cx="4261320" cy="57564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600" spc="-1" strike="noStrike">
                  <a:solidFill>
                    <a:srgbClr val="000000"/>
                  </a:solidFill>
                  <a:latin typeface="Times New Roman"/>
                </a:rPr>
                <a:t>Con muchos tamaños de plantas con el CMeC 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600" spc="-1" strike="noStrike">
                  <a:solidFill>
                    <a:srgbClr val="000000"/>
                  </a:solidFill>
                  <a:latin typeface="Times New Roman"/>
                </a:rPr>
                <a:t>10 $, CMeL = CML y es una línea recta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2200680" y="2454120"/>
            <a:ext cx="2679120" cy="3882240"/>
            <a:chOff x="2200680" y="2454120"/>
            <a:chExt cx="2679120" cy="3882240"/>
          </a:xfrm>
        </p:grpSpPr>
        <p:sp>
          <p:nvSpPr>
            <p:cNvPr id="524" name=""/>
            <p:cNvSpPr/>
            <p:nvPr/>
          </p:nvSpPr>
          <p:spPr>
            <a:xfrm>
              <a:off x="3581280" y="3978360"/>
              <a:ext cx="1800" cy="20286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419640" y="5935680"/>
              <a:ext cx="432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s-CL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200680" y="2454120"/>
              <a:ext cx="900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CMeC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125880" y="3355920"/>
              <a:ext cx="610920" cy="1295280"/>
            </a:xfrm>
            <a:noFill/>
            <a:ln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56400" y="3049560"/>
              <a:ext cx="70884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CMC</a:t>
              </a:r>
              <a:r>
                <a:rPr b="1" lang="es-CL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243160" y="2744640"/>
              <a:ext cx="2028960" cy="1214640"/>
            </a:xfrm>
            <a:custGeom>
              <a:avLst/>
              <a:gdLst/>
              <a:ahLst/>
              <a:rect l="l" t="t" r="r" b="b"/>
              <a:pathLst>
                <a:path w="1278" h="765">
                  <a:moveTo>
                    <a:pt x="0" y="0"/>
                  </a:moveTo>
                  <a:cubicBezTo>
                    <a:pt x="63" y="95"/>
                    <a:pt x="236" y="441"/>
                    <a:pt x="378" y="568"/>
                  </a:cubicBezTo>
                  <a:cubicBezTo>
                    <a:pt x="520" y="695"/>
                    <a:pt x="702" y="765"/>
                    <a:pt x="852" y="765"/>
                  </a:cubicBezTo>
                  <a:cubicBezTo>
                    <a:pt x="1002" y="765"/>
                    <a:pt x="1189" y="608"/>
                    <a:pt x="1278" y="567"/>
                  </a:cubicBezTo>
                </a:path>
              </a:pathLst>
            </a:custGeom>
            <a:noFill/>
            <a:ln w="507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268880" y="2784600"/>
              <a:ext cx="610920" cy="838080"/>
            </a:xfrm>
            <a:noFill/>
            <a:ln w="507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3A10C-8FA0-418D-9310-E91FB888BA74}" type="slidenum">
              <a:t>33</a:t>
            </a:fld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dur="indefinite" fill="hold">
                      <p:stCondLst>
                        <p:cond delay="indefinite"/>
                      </p:stCondLst>
                      <p:childTnLst>
                        <p:par>
                          <p:cTn id="1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 fill="hold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dur="indefinite" fill="hold">
                      <p:stCondLst>
                        <p:cond delay="indefinite"/>
                      </p:stCondLst>
                      <p:childTnLst>
                        <p:par>
                          <p:cTn id="1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 fill="hold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dur="indefinite" fill="hold">
                      <p:stCondLst>
                        <p:cond delay="indefinite"/>
                      </p:stCondLst>
                      <p:childTnLst>
                        <p:par>
                          <p:cTn id="1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 fill="hold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dur="indefinite" fill="hold">
                      <p:stCondLst>
                        <p:cond delay="indefinite"/>
                      </p:stCondLst>
                      <p:childTnLst>
                        <p:par>
                          <p:cTn id="1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 fill="hold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24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tamaño perfecto de una planta dependerá de la producción anticipada (por ejemplo,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Q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  <a:ea typeface="MS Gothic"/>
              </a:rPr>
              <a:t>1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CMeC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  <a:ea typeface="MS Gothic"/>
              </a:rPr>
              <a:t>1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,etc.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 curva de coste medio a largo plazo es la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envolvent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 de las curvas de coste medio a corto plazo de la empres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4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ff3300"/>
                </a:solidFill>
                <a:latin typeface="Times New Roman"/>
                <a:ea typeface="MS Gothic"/>
              </a:rPr>
              <a:t>Pregunt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¿Qué le ocurriría al coste medio si se escoge otro nivel de producción diferent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52600" y="0"/>
            <a:ext cx="798336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Economías y deseconomías de escala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50440" y="-3600"/>
            <a:ext cx="7983720" cy="106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Coste a largo plazo con economías y deseconomías de esc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209680" y="1744560"/>
            <a:ext cx="1800" cy="423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203560" y="5994360"/>
            <a:ext cx="62672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972560" y="595152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298520" y="1670040"/>
            <a:ext cx="3841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2200680" y="1844640"/>
            <a:ext cx="2488680" cy="2526840"/>
            <a:chOff x="2200680" y="1844640"/>
            <a:chExt cx="2488680" cy="2526840"/>
          </a:xfrm>
        </p:grpSpPr>
        <p:sp>
          <p:nvSpPr>
            <p:cNvPr id="544" name=""/>
            <p:cNvSpPr/>
            <p:nvPr/>
          </p:nvSpPr>
          <p:spPr>
            <a:xfrm>
              <a:off x="3125880" y="2741760"/>
              <a:ext cx="610920" cy="1299960"/>
            </a:xfrm>
            <a:noFill/>
            <a:ln w="50760">
              <a:solidFill>
                <a:srgbClr val="9933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670840" y="4040280"/>
              <a:ext cx="64332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CMC</a:t>
              </a:r>
              <a:r>
                <a:rPr b="1" lang="es-CL" sz="1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211480" y="2135160"/>
              <a:ext cx="1735200" cy="1230480"/>
            </a:xfrm>
            <a:noFill/>
            <a:ln w="507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200680" y="1844640"/>
              <a:ext cx="82152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CMeC</a:t>
              </a:r>
              <a:r>
                <a:rPr b="1" lang="es-CL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929040" y="2330280"/>
              <a:ext cx="760320" cy="906480"/>
            </a:xfrm>
            <a:noFill/>
            <a:ln w="507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3681360" y="2454120"/>
            <a:ext cx="3090600" cy="2526840"/>
            <a:chOff x="3681360" y="2454120"/>
            <a:chExt cx="3090600" cy="2526840"/>
          </a:xfrm>
        </p:grpSpPr>
        <p:sp>
          <p:nvSpPr>
            <p:cNvPr id="550" name=""/>
            <p:cNvSpPr/>
            <p:nvPr/>
          </p:nvSpPr>
          <p:spPr>
            <a:xfrm>
              <a:off x="5950440" y="2454120"/>
              <a:ext cx="82152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CMeC</a:t>
              </a:r>
              <a:r>
                <a:rPr b="1" lang="es-CL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568760" y="3355920"/>
              <a:ext cx="615960" cy="1295280"/>
            </a:xfrm>
            <a:noFill/>
            <a:ln w="50760">
              <a:solidFill>
                <a:srgbClr val="9933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118400" y="4649760"/>
              <a:ext cx="64332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CMC</a:t>
              </a:r>
              <a:r>
                <a:rPr b="1" lang="es-CL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916440" y="3268800"/>
              <a:ext cx="2122560" cy="701640"/>
            </a:xfrm>
            <a:noFill/>
            <a:ln w="507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014880" y="2766960"/>
              <a:ext cx="401760" cy="541440"/>
            </a:xfrm>
            <a:noFill/>
            <a:ln w="507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681360" y="2743200"/>
              <a:ext cx="227160" cy="504720"/>
            </a:xfrm>
            <a:noFill/>
            <a:ln w="507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2211840" y="3051000"/>
            <a:ext cx="4573080" cy="1854720"/>
            <a:chOff x="2211840" y="3051000"/>
            <a:chExt cx="4573080" cy="1854720"/>
          </a:xfrm>
        </p:grpSpPr>
        <p:sp>
          <p:nvSpPr>
            <p:cNvPr id="557" name=""/>
            <p:cNvSpPr/>
            <p:nvPr/>
          </p:nvSpPr>
          <p:spPr>
            <a:xfrm>
              <a:off x="2441520" y="3051000"/>
              <a:ext cx="4343400" cy="1524240"/>
            </a:xfrm>
            <a:noFill/>
            <a:ln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211840" y="4573440"/>
              <a:ext cx="67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CML</a:t>
              </a: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5900760" y="4402080"/>
            <a:ext cx="3208680" cy="14259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i la producción es </a:t>
            </a: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s-CL" sz="14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el geren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elegiría la planta pequeña de CMeC</a:t>
            </a:r>
            <a:r>
              <a:rPr b="1" lang="es-CL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y CMeC de 8 dólar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El punto </a:t>
            </a: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 está en el CMeL porque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es la planta más barata para un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determinada producció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733920" y="3063960"/>
            <a:ext cx="1440" cy="29430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202400" y="2820960"/>
            <a:ext cx="914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$ 10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588120" y="5921280"/>
            <a:ext cx="432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2195280" y="3048120"/>
            <a:ext cx="1555560" cy="14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57600" y="29718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2195280" y="3352680"/>
            <a:ext cx="1430280" cy="18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657600" y="327672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198440" y="3125880"/>
            <a:ext cx="801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$ 8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735000" y="3327480"/>
            <a:ext cx="32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735000" y="2668680"/>
            <a:ext cx="32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2166840" y="1906560"/>
            <a:ext cx="6624000" cy="2076480"/>
            <a:chOff x="2166840" y="1906560"/>
            <a:chExt cx="6624000" cy="2076480"/>
          </a:xfrm>
        </p:grpSpPr>
        <p:sp>
          <p:nvSpPr>
            <p:cNvPr id="571" name=""/>
            <p:cNvSpPr/>
            <p:nvPr/>
          </p:nvSpPr>
          <p:spPr>
            <a:xfrm>
              <a:off x="8001360" y="1906560"/>
              <a:ext cx="7894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CMeL</a:t>
              </a: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166840" y="2266920"/>
              <a:ext cx="5899320" cy="1716120"/>
            </a:xfrm>
            <a:custGeom>
              <a:avLst/>
              <a:gdLst/>
              <a:ahLst/>
              <a:rect l="l" t="t" r="r" b="b"/>
              <a:pathLst>
                <a:path w="3716" h="1081">
                  <a:moveTo>
                    <a:pt x="0" y="134"/>
                  </a:moveTo>
                  <a:cubicBezTo>
                    <a:pt x="84" y="202"/>
                    <a:pt x="209" y="387"/>
                    <a:pt x="505" y="545"/>
                  </a:cubicBezTo>
                  <a:cubicBezTo>
                    <a:pt x="801" y="703"/>
                    <a:pt x="1340" y="1081"/>
                    <a:pt x="1775" y="1081"/>
                  </a:cubicBezTo>
                  <a:cubicBezTo>
                    <a:pt x="2210" y="1081"/>
                    <a:pt x="2794" y="725"/>
                    <a:pt x="3117" y="545"/>
                  </a:cubicBezTo>
                  <a:cubicBezTo>
                    <a:pt x="3440" y="365"/>
                    <a:pt x="3573" y="182"/>
                    <a:pt x="3716" y="0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4997520" y="1920960"/>
            <a:ext cx="3069720" cy="2526480"/>
            <a:chOff x="4997520" y="1920960"/>
            <a:chExt cx="3069720" cy="2526480"/>
          </a:xfrm>
        </p:grpSpPr>
        <p:sp>
          <p:nvSpPr>
            <p:cNvPr id="574" name=""/>
            <p:cNvSpPr/>
            <p:nvPr/>
          </p:nvSpPr>
          <p:spPr>
            <a:xfrm>
              <a:off x="7245720" y="1920960"/>
              <a:ext cx="82152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CMeC</a:t>
              </a:r>
              <a:r>
                <a:rPr b="1" lang="es-CL" sz="16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946840" y="2819520"/>
              <a:ext cx="609480" cy="1298520"/>
            </a:xfrm>
            <a:noFill/>
            <a:ln w="50760">
              <a:solidFill>
                <a:srgbClr val="9933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490000" y="4116240"/>
              <a:ext cx="64332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CMC</a:t>
              </a:r>
              <a:r>
                <a:rPr b="1" lang="es-CL" sz="1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997520" y="2255760"/>
              <a:ext cx="963720" cy="1040040"/>
            </a:xfrm>
            <a:custGeom>
              <a:avLst/>
              <a:gdLst/>
              <a:ahLst/>
              <a:rect l="l" t="t" r="r" b="b"/>
              <a:pathLst>
                <a:path w="607" h="655">
                  <a:moveTo>
                    <a:pt x="607" y="655"/>
                  </a:moveTo>
                  <a:cubicBezTo>
                    <a:pt x="547" y="612"/>
                    <a:pt x="346" y="503"/>
                    <a:pt x="245" y="394"/>
                  </a:cubicBezTo>
                  <a:cubicBezTo>
                    <a:pt x="144" y="285"/>
                    <a:pt x="51" y="82"/>
                    <a:pt x="0" y="0"/>
                  </a:cubicBezTo>
                </a:path>
              </a:pathLst>
            </a:custGeom>
            <a:noFill/>
            <a:ln w="507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989680" y="2281320"/>
              <a:ext cx="1716120" cy="1155600"/>
            </a:xfrm>
            <a:custGeom>
              <a:avLst/>
              <a:gdLst/>
              <a:ahLst/>
              <a:rect l="l" t="t" r="r" b="b"/>
              <a:pathLst>
                <a:path w="1081" h="728">
                  <a:moveTo>
                    <a:pt x="1081" y="0"/>
                  </a:moveTo>
                  <a:cubicBezTo>
                    <a:pt x="916" y="232"/>
                    <a:pt x="752" y="464"/>
                    <a:pt x="615" y="584"/>
                  </a:cubicBezTo>
                  <a:cubicBezTo>
                    <a:pt x="478" y="704"/>
                    <a:pt x="362" y="708"/>
                    <a:pt x="260" y="718"/>
                  </a:cubicBezTo>
                  <a:cubicBezTo>
                    <a:pt x="158" y="728"/>
                    <a:pt x="79" y="687"/>
                    <a:pt x="0" y="647"/>
                  </a:cubicBezTo>
                </a:path>
              </a:pathLst>
            </a:custGeom>
            <a:noFill/>
            <a:ln w="507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D5C1F-A4EC-4C06-8F51-31F94D7C1279}" type="slidenum">
              <a:t>35</a:t>
            </a:fld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dur="indefinite" fill="hold">
                      <p:stCondLst>
                        <p:cond delay="indefinite"/>
                      </p:stCondLst>
                      <p:childTnLst>
                        <p:par>
                          <p:cTn id="1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 fill="hold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dur="indefinite" fill="hold">
                      <p:stCondLst>
                        <p:cond delay="indefinite"/>
                      </p:stCondLst>
                      <p:childTnLst>
                        <p:par>
                          <p:cTn id="1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 fill="hold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dur="indefinite" fill="hold">
                      <p:stCondLst>
                        <p:cond delay="indefinite"/>
                      </p:stCondLst>
                      <p:childTnLst>
                        <p:par>
                          <p:cTn id="1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 fill="hold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dur="indefinite" fill="hold">
                      <p:stCondLst>
                        <p:cond delay="indefinite"/>
                      </p:stCondLst>
                      <p:childTnLst>
                        <p:par>
                          <p:cTn id="2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 fill="hold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dur="indefinite" fill="hold">
                      <p:stCondLst>
                        <p:cond delay="indefinite"/>
                      </p:stCondLst>
                      <p:childTnLst>
                        <p:par>
                          <p:cTn id="2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 fill="hold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047600" y="1357200"/>
            <a:ext cx="739620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¿Cuál es la curva de coste a largo plazo de la empres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s empresas pueden alterar el tamaño de su planta con el fin de modificar su producción a largo plazo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 curva de coste a largo plazo corresponde a la parte azul oscuro de la curva de CMeC, que representa el coste mínimo para cualquier nivel de producción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50800" y="7920"/>
            <a:ext cx="798372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Rendimientos constantes de escala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¿Por qué el CMeL no incluye los puntos mínimos de las plantas de tamaño grande y pequeñ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¿Por qué razón el CML no es la envolvente del coste marginal a corto plaz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50800" y="7920"/>
            <a:ext cx="798372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Rendimientos constantes de escala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5080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o que hemos visto en la semana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objetivo de la empresa: </a:t>
            </a:r>
            <a:r>
              <a:rPr b="0" lang="es-CL" sz="3000" spc="-1" strike="noStrike" u="sng">
                <a:solidFill>
                  <a:srgbClr val="000000"/>
                </a:solidFill>
                <a:uFillTx/>
                <a:latin typeface="Times New Roman"/>
                <a:ea typeface="MS Gothic"/>
              </a:rPr>
              <a:t>maximizar beneficio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s empresas se enfrentan con costes variables y fijos a largo plazo y a corto plazo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En las decisiones hay que tener en cuenta los costes variables y fijos pero no los irrecuperable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dur="indefinite" fill="hold">
                      <p:stCondLst>
                        <p:cond delay="indefinite"/>
                      </p:stCondLst>
                      <p:childTnLst>
                        <p:par>
                          <p:cTn id="2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dur="indefinite" fill="hold">
                      <p:stCondLst>
                        <p:cond delay="indefinite"/>
                      </p:stCondLst>
                      <p:childTnLst>
                        <p:par>
                          <p:cTn id="2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000" spc="-1" strike="noStrike" u="sng">
                <a:solidFill>
                  <a:srgbClr val="000000"/>
                </a:solidFill>
                <a:uFillTx/>
                <a:latin typeface="Times New Roman"/>
                <a:ea typeface="MS Gothic"/>
              </a:rPr>
              <a:t>Corto plazo</a:t>
            </a: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: la presencia de rendimientos decrecientes determina la forma de las curvas de coste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000" spc="-1" strike="noStrike" u="sng">
                <a:solidFill>
                  <a:srgbClr val="000000"/>
                </a:solidFill>
                <a:uFillTx/>
                <a:latin typeface="Times New Roman"/>
                <a:ea typeface="MS Gothic"/>
              </a:rPr>
              <a:t>Largo plazo</a:t>
            </a: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: todos los factores que intervienen en el proceso de producción son variable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Maximización de beneficios ⇒ minimización de coste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5080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o que hemos visto en la semana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dur="indefinite" fill="hold">
                      <p:stCondLst>
                        <p:cond delay="indefinite"/>
                      </p:stCondLst>
                      <p:childTnLst>
                        <p:par>
                          <p:cTn id="2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dur="indefinite" fill="hold">
                      <p:stCondLst>
                        <p:cond delay="indefinite"/>
                      </p:stCondLst>
                      <p:childTnLst>
                        <p:par>
                          <p:cTn id="2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27080" y="1338120"/>
            <a:ext cx="739620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Después de unos primeros meses difíciles la “Tostaduría Enriqueta Pérez” tiene cierta holgura financiera que le permite comprar maquinas nuevas si las necesitar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Asuman que el coste de una maquina sea r = 5*10</a:t>
            </a:r>
            <a:r>
              <a:rPr b="0" lang="es-CL" sz="2400" spc="-1" strike="noStrike" baseline="33000">
                <a:solidFill>
                  <a:srgbClr val="000000"/>
                </a:solidFill>
                <a:latin typeface="Times New Roman"/>
                <a:ea typeface="MS Gothic"/>
              </a:rPr>
              <a:t>6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  y que el coste del trabajo sea w = 100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Su función de producción sigue siendo F(K,L) = K</a:t>
            </a:r>
            <a:r>
              <a:rPr b="0" lang="es-CL" sz="2400" spc="-1" strike="noStrike" baseline="33000">
                <a:solidFill>
                  <a:srgbClr val="000000"/>
                </a:solidFill>
                <a:latin typeface="Times New Roman"/>
                <a:ea typeface="MS Gothic"/>
              </a:rPr>
              <a:t>2/3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L</a:t>
            </a:r>
            <a:r>
              <a:rPr b="0" lang="es-CL" sz="2400" spc="-1" strike="noStrike" baseline="33000">
                <a:solidFill>
                  <a:srgbClr val="000000"/>
                </a:solidFill>
                <a:latin typeface="Times New Roman"/>
                <a:ea typeface="MS Gothic"/>
              </a:rPr>
              <a:t>1/3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Cambiará su elección de factores? Y su función de cost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50800" y="25560"/>
            <a:ext cx="7983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rgo plazo: Un ejercicio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143000" y="1719360"/>
            <a:ext cx="7396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000" spc="-1" strike="noStrike" u="sng">
                <a:solidFill>
                  <a:srgbClr val="000000"/>
                </a:solidFill>
                <a:uFillTx/>
                <a:latin typeface="Times New Roman"/>
                <a:ea typeface="MS Gothic"/>
              </a:rPr>
              <a:t>Senda de expansión</a:t>
            </a: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: describe cómo varían las elecciones de factores minimizadoras de los costes a medida que aumenta el nivel de producción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</a:t>
            </a:r>
            <a:r>
              <a:rPr b="0" lang="es-CL" sz="3000" spc="-1" strike="noStrike" u="sng">
                <a:solidFill>
                  <a:srgbClr val="000000"/>
                </a:solidFill>
                <a:uFillTx/>
                <a:latin typeface="Times New Roman"/>
                <a:ea typeface="MS Gothic"/>
              </a:rPr>
              <a:t> curva de coste medio</a:t>
            </a: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 a largo plazo es la </a:t>
            </a:r>
            <a:r>
              <a:rPr b="0" lang="es-CL" sz="3000" spc="-1" strike="noStrike" u="sng">
                <a:solidFill>
                  <a:srgbClr val="000000"/>
                </a:solidFill>
                <a:uFillTx/>
                <a:latin typeface="Times New Roman"/>
                <a:ea typeface="MS Gothic"/>
              </a:rPr>
              <a:t>envolvente</a:t>
            </a: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 de las curvas de </a:t>
            </a:r>
            <a:r>
              <a:rPr b="0" lang="es-CL" sz="3000" spc="-1" strike="noStrike" u="sng">
                <a:solidFill>
                  <a:srgbClr val="000000"/>
                </a:solidFill>
                <a:uFillTx/>
                <a:latin typeface="Times New Roman"/>
                <a:ea typeface="MS Gothic"/>
              </a:rPr>
              <a:t>coste medio a corto plazo</a:t>
            </a: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5080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o que hemos visto en la semana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dur="indefinite" fill="hold">
                      <p:stCondLst>
                        <p:cond delay="indefinite"/>
                      </p:stCondLst>
                      <p:childTnLst>
                        <p:par>
                          <p:cTn id="2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dur="indefinite" fill="hold">
                      <p:stCondLst>
                        <p:cond delay="indefinite"/>
                      </p:stCondLst>
                      <p:childTnLst>
                        <p:par>
                          <p:cTn id="2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990720" y="1414440"/>
            <a:ext cx="78534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Una empresa disfruta de </a:t>
            </a:r>
            <a:r>
              <a:rPr b="0" lang="es-CL" sz="3200" spc="-1" strike="noStrike" u="sng">
                <a:solidFill>
                  <a:srgbClr val="000000"/>
                </a:solidFill>
                <a:uFillTx/>
                <a:latin typeface="Times New Roman"/>
                <a:ea typeface="MS Gothic"/>
              </a:rPr>
              <a:t>economías de escala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 cuando puede duplicar su producción con un coste inferior al dobl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5080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o que hemos visto en la semana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dur="indefinite" fill="hold">
                      <p:stCondLst>
                        <p:cond delay="indefinite"/>
                      </p:stCondLst>
                      <p:childTnLst>
                        <p:par>
                          <p:cTn id="2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dur="indefinite" fill="hold">
                      <p:stCondLst>
                        <p:cond delay="indefinite"/>
                      </p:stCondLst>
                      <p:childTnLst>
                        <p:par>
                          <p:cTn id="2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 fill="hold"/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5080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Tareas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62000" y="1600200"/>
            <a:ext cx="7396200" cy="44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Cap. 7 P &amp; R,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echa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 una miradita a las economías de alcanc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Cap. 10 Frank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Cap. 2 Apuntes Prof Eng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Hoja 3 de ejercici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895920" y="3124080"/>
            <a:ext cx="105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3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576960" y="3124080"/>
            <a:ext cx="105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3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255840" y="424512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1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dur="indefinite" fill="hold">
                      <p:stCondLst>
                        <p:cond delay="indefinite"/>
                      </p:stCondLst>
                      <p:childTnLst>
                        <p:par>
                          <p:cTn id="2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 fill="hold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27080" y="1338120"/>
            <a:ext cx="7396200" cy="59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Como se determina la combinación optima para producir una cantidad data Q?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Maximización de utilidades ⇒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 empresa debe minimizar los gastos en factores le permitan producir Q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C(Q) = Min</a:t>
            </a:r>
            <a:r>
              <a:rPr b="0" i="1" lang="es-CL" sz="3200" spc="-1" strike="noStrike" baseline="-33000">
                <a:solidFill>
                  <a:srgbClr val="000000"/>
                </a:solidFill>
                <a:latin typeface="Times New Roman"/>
                <a:ea typeface="MS Gothic"/>
              </a:rPr>
              <a:t>F(K,L)=Q</a:t>
            </a:r>
            <a:r>
              <a:rPr b="0" i="1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 rK + w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¿Porque?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50800" y="25560"/>
            <a:ext cx="7983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rgo Plazo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dur="indefinite" fill="hold">
                      <p:stCondLst>
                        <p:cond delay="indefinite"/>
                      </p:stCondLst>
                      <p:childTnLst>
                        <p:par>
                          <p:cTn id="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43000" y="2233440"/>
            <a:ext cx="7396200" cy="37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Recta isocost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= wL + 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ff3300"/>
                </a:solidFill>
                <a:latin typeface="Times New Roman"/>
                <a:ea typeface="MS Gothic"/>
              </a:rPr>
              <a:t>Recta isocoste</a:t>
            </a: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: línea que muestra todas las combinaciones posibles de trabajo y capital que pueden comprarse con un coste total dado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19400" y="1413000"/>
            <a:ext cx="6549480" cy="489960"/>
          </a:xfrm>
          <a:prstGeom prst="rect">
            <a:avLst/>
          </a:prstGeom>
          <a:solidFill>
            <a:srgbClr val="d8c0cb"/>
          </a:solidFill>
          <a:ln w="12600">
            <a:solidFill>
              <a:srgbClr val="37654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ección de factores que minimizan los cost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50800" y="25560"/>
            <a:ext cx="7983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rgo Plazo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2233440"/>
            <a:ext cx="7396200" cy="40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244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Reformulamos la ecuación de coste total como la ecuación correspondiente a una línea recta, tenemos que: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= C/r - (w/r)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Pendiente de la recta isocoste: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- cociente entre el salario y el coste de alquiler del capital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- tasa a la que el capital se puede sustituir por trabajo, sin que varíe el coste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19400" y="1413000"/>
            <a:ext cx="6549480" cy="489960"/>
          </a:xfrm>
          <a:prstGeom prst="rect">
            <a:avLst/>
          </a:prstGeom>
          <a:solidFill>
            <a:srgbClr val="d8c0cb"/>
          </a:solidFill>
          <a:ln w="12600">
            <a:solidFill>
              <a:srgbClr val="37654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ección de factores que minimizan los cost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50800" y="25560"/>
            <a:ext cx="7983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rgo Plazo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2233440"/>
            <a:ext cx="7396200" cy="37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244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44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Debemos minimizar el coste de un determinado nivel de producción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44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Por lo tanto es necesario combinar las informaciones isocostes y isocuantas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19400" y="1413000"/>
            <a:ext cx="6549480" cy="489960"/>
          </a:xfrm>
          <a:prstGeom prst="rect">
            <a:avLst/>
          </a:prstGeom>
          <a:solidFill>
            <a:srgbClr val="d8c0cb"/>
          </a:solidFill>
          <a:ln w="12600">
            <a:solidFill>
              <a:srgbClr val="37654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ección de factores que minimizan los cost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0800" y="25560"/>
            <a:ext cx="7983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rgo Plazo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24080" y="6235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47840" y="1731960"/>
            <a:ext cx="1800" cy="423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28760" y="5981760"/>
            <a:ext cx="44262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96160" y="5943600"/>
            <a:ext cx="912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MS Gothic"/>
              </a:rPr>
              <a:t>Trabaj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06000" y="1370160"/>
            <a:ext cx="8564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MS Gothic"/>
              </a:rPr>
              <a:t>Capit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616720" y="3189240"/>
            <a:ext cx="3321000" cy="12711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La recta isocoste </a:t>
            </a:r>
            <a:r>
              <a:rPr b="1" i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C</a:t>
            </a:r>
            <a:r>
              <a:rPr b="1" i="1" lang="es-CL" sz="1400" spc="-1" strike="noStrike" baseline="-25000">
                <a:solidFill>
                  <a:srgbClr val="000000"/>
                </a:solidFill>
                <a:latin typeface="Arial"/>
                <a:ea typeface="MS Gothic"/>
              </a:rPr>
              <a:t>2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 muestra l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cantidad </a:t>
            </a:r>
            <a:r>
              <a:rPr b="1" i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Q</a:t>
            </a:r>
            <a:r>
              <a:rPr b="1" i="1" lang="es-CL" sz="1400" spc="-1" strike="noStrike" baseline="-25000">
                <a:solidFill>
                  <a:srgbClr val="000000"/>
                </a:solidFill>
                <a:latin typeface="Arial"/>
                <a:ea typeface="MS Gothic"/>
              </a:rPr>
              <a:t>1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 que se puede producir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con la combinación </a:t>
            </a:r>
            <a:r>
              <a:rPr b="1" i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K</a:t>
            </a:r>
            <a:r>
              <a:rPr b="1" i="1" lang="es-CL" sz="1400" spc="-1" strike="noStrike" baseline="-25000">
                <a:solidFill>
                  <a:srgbClr val="000000"/>
                </a:solidFill>
                <a:latin typeface="Arial"/>
                <a:ea typeface="MS Gothic"/>
              </a:rPr>
              <a:t>2 </a:t>
            </a:r>
            <a:r>
              <a:rPr b="1" i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L</a:t>
            </a:r>
            <a:r>
              <a:rPr b="1" i="1" lang="es-CL" sz="1400" spc="-1" strike="noStrike" baseline="-25000">
                <a:solidFill>
                  <a:srgbClr val="000000"/>
                </a:solidFill>
                <a:latin typeface="Arial"/>
                <a:ea typeface="MS Gothic"/>
              </a:rPr>
              <a:t>2</a:t>
            </a:r>
            <a:r>
              <a:rPr b="1" i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o </a:t>
            </a:r>
            <a:r>
              <a:rPr b="1" i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K</a:t>
            </a:r>
            <a:r>
              <a:rPr b="1" i="1" lang="es-CL" sz="1400" spc="-1" strike="noStrike" baseline="-25000">
                <a:solidFill>
                  <a:srgbClr val="000000"/>
                </a:solidFill>
                <a:latin typeface="Arial"/>
                <a:ea typeface="MS Gothic"/>
              </a:rPr>
              <a:t>3 </a:t>
            </a:r>
            <a:r>
              <a:rPr b="1" i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L</a:t>
            </a:r>
            <a:r>
              <a:rPr b="1" i="1" lang="es-CL" sz="1400" spc="-1" strike="noStrike" baseline="-25000">
                <a:solidFill>
                  <a:srgbClr val="000000"/>
                </a:solidFill>
                <a:latin typeface="Arial"/>
                <a:ea typeface="MS Gothic"/>
              </a:rPr>
              <a:t>3</a:t>
            </a:r>
            <a:r>
              <a:rPr b="1" i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Sin embargo, ambas combinacione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conllevan un coste mayor que </a:t>
            </a:r>
            <a:r>
              <a:rPr b="1" i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K</a:t>
            </a:r>
            <a:r>
              <a:rPr b="1" i="1" lang="es-CL" sz="1400" spc="-1" strike="noStrike" baseline="-25000">
                <a:solidFill>
                  <a:srgbClr val="000000"/>
                </a:solidFill>
                <a:latin typeface="Arial"/>
                <a:ea typeface="MS Gothic"/>
              </a:rPr>
              <a:t>1 </a:t>
            </a:r>
            <a:r>
              <a:rPr b="1" i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L</a:t>
            </a:r>
            <a:r>
              <a:rPr b="1" i="1" lang="es-CL" sz="1400" spc="-1" strike="noStrike" baseline="-25000">
                <a:solidFill>
                  <a:srgbClr val="000000"/>
                </a:solidFill>
                <a:latin typeface="Arial"/>
                <a:ea typeface="MS Gothic"/>
              </a:rPr>
              <a:t>1</a:t>
            </a:r>
            <a:r>
              <a:rPr b="1" i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17800" y="1425600"/>
            <a:ext cx="3820680" cy="3795840"/>
            <a:chOff x="2917800" y="1425600"/>
            <a:chExt cx="3820680" cy="3795840"/>
          </a:xfrm>
        </p:grpSpPr>
        <p:sp>
          <p:nvSpPr>
            <p:cNvPr id="191" name=""/>
            <p:cNvSpPr/>
            <p:nvPr/>
          </p:nvSpPr>
          <p:spPr>
            <a:xfrm>
              <a:off x="6024960" y="4800600"/>
              <a:ext cx="432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Q</a:t>
              </a:r>
              <a:r>
                <a:rPr b="1" i="1" lang="es-CL" sz="1800" spc="-1" strike="noStrike" baseline="-25000">
                  <a:solidFill>
                    <a:srgbClr val="000000"/>
                  </a:solidFill>
                  <a:latin typeface="Arial"/>
                  <a:ea typeface="MS Gothic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917800" y="2228760"/>
              <a:ext cx="3105000" cy="2992680"/>
            </a:xfrm>
            <a:prstGeom prst="pie">
              <a:avLst/>
            </a:prstGeom>
            <a:noFill/>
            <a:ln w="57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002840" y="1425600"/>
              <a:ext cx="2735640" cy="151344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Q</a:t>
              </a:r>
              <a:r>
                <a:rPr b="1" i="1" lang="es-CL" sz="1400" spc="-1" strike="noStrike" baseline="-25000">
                  <a:solidFill>
                    <a:srgbClr val="000000"/>
                  </a:solidFill>
                  <a:latin typeface="Arial"/>
                  <a:ea typeface="MS Gothic"/>
                </a:rPr>
                <a:t>1</a:t>
              </a:r>
              <a:r>
                <a:rPr b="1" i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 </a:t>
              </a:r>
              <a:r>
                <a:rPr b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es una isocuanta para la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producción </a:t>
              </a:r>
              <a:r>
                <a:rPr b="1" i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Q</a:t>
              </a:r>
              <a:r>
                <a:rPr b="1" i="1" lang="es-CL" sz="1400" spc="-1" strike="noStrike" baseline="-25000">
                  <a:solidFill>
                    <a:srgbClr val="000000"/>
                  </a:solidFill>
                  <a:latin typeface="Arial"/>
                  <a:ea typeface="MS Gothic"/>
                </a:rPr>
                <a:t>1</a:t>
              </a:r>
              <a:r>
                <a:rPr b="1" i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. </a:t>
              </a:r>
              <a:r>
                <a:rPr b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La recta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isocoste </a:t>
              </a:r>
              <a:r>
                <a:rPr b="1" i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C</a:t>
              </a:r>
              <a:r>
                <a:rPr b="1" i="1" lang="es-CL" sz="1400" spc="-1" strike="noStrike" baseline="-25000">
                  <a:solidFill>
                    <a:srgbClr val="000000"/>
                  </a:solidFill>
                  <a:latin typeface="Arial"/>
                  <a:ea typeface="MS Gothic"/>
                </a:rPr>
                <a:t>0 </a:t>
              </a:r>
              <a:r>
                <a:rPr b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muestra todas las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combinaciones de </a:t>
              </a:r>
              <a:r>
                <a:rPr b="1" i="1" lang="es-CL" sz="1400" spc="-1" strike="noStrike" baseline="-25000">
                  <a:solidFill>
                    <a:srgbClr val="000000"/>
                  </a:solidFill>
                  <a:latin typeface="Arial"/>
                  <a:ea typeface="MS Gothic"/>
                </a:rPr>
                <a:t> </a:t>
              </a:r>
              <a:r>
                <a:rPr b="1" i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K </a:t>
              </a:r>
              <a:r>
                <a:rPr b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y </a:t>
              </a:r>
              <a:r>
                <a:rPr b="1" i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que </a:t>
              </a:r>
              <a:r>
                <a:rPr b="1" i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Q</a:t>
              </a:r>
              <a:r>
                <a:rPr b="1" i="1" lang="es-CL" sz="1400" spc="-1" strike="noStrike" baseline="-25000">
                  <a:solidFill>
                    <a:srgbClr val="000000"/>
                  </a:solidFill>
                  <a:latin typeface="Arial"/>
                  <a:ea typeface="MS Gothic"/>
                </a:rPr>
                <a:t>1 </a:t>
              </a:r>
              <a:r>
                <a:rPr b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puede producir a este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nivel de coste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2251080" y="3774960"/>
            <a:ext cx="2206800" cy="2206800"/>
          </a:xfrm>
          <a:prstGeom prst="line">
            <a:avLst/>
          </a:prstGeom>
          <a:ln w="507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51080" y="2771640"/>
            <a:ext cx="3209760" cy="3210120"/>
          </a:xfrm>
          <a:prstGeom prst="line">
            <a:avLst/>
          </a:prstGeom>
          <a:ln w="507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38480" y="1933560"/>
            <a:ext cx="4060800" cy="4060800"/>
          </a:xfrm>
          <a:prstGeom prst="line">
            <a:avLst/>
          </a:prstGeom>
          <a:ln w="507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10000" y="5567400"/>
            <a:ext cx="4190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Arial"/>
                <a:ea typeface="MS Gothic"/>
              </a:rPr>
              <a:t>C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  <a:ea typeface="MS Gothic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40240" y="5567400"/>
            <a:ext cx="4190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Arial"/>
                <a:ea typeface="MS Gothic"/>
              </a:rPr>
              <a:t>C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  <a:ea typeface="MS Gothic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330960" y="5567400"/>
            <a:ext cx="4190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Arial"/>
                <a:ea typeface="MS Gothic"/>
              </a:rPr>
              <a:t>C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  <a:ea typeface="MS 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66680" y="2968560"/>
            <a:ext cx="1693800" cy="8524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1600" spc="-1" strike="noStrike">
                <a:solidFill>
                  <a:srgbClr val="000000"/>
                </a:solidFill>
                <a:latin typeface="Arial"/>
                <a:ea typeface="MS Gothic"/>
              </a:rPr>
              <a:t>C</a:t>
            </a:r>
            <a:r>
              <a:rPr b="1" i="1" lang="es-CL" sz="1600" spc="-1" strike="noStrike" baseline="-25000">
                <a:solidFill>
                  <a:srgbClr val="000000"/>
                </a:solidFill>
                <a:latin typeface="Arial"/>
                <a:ea typeface="MS Gothic"/>
              </a:rPr>
              <a:t>O</a:t>
            </a:r>
            <a:r>
              <a:rPr b="1" i="1" lang="es-CL" sz="1600" spc="-1" strike="noStrike">
                <a:solidFill>
                  <a:srgbClr val="000000"/>
                </a:solidFill>
                <a:latin typeface="Arial"/>
                <a:ea typeface="MS Gothic"/>
              </a:rPr>
              <a:t>,  C</a:t>
            </a:r>
            <a:r>
              <a:rPr b="1" i="1" lang="es-CL" sz="1600" spc="-1" strike="noStrike" baseline="-25000">
                <a:solidFill>
                  <a:srgbClr val="000000"/>
                </a:solidFill>
                <a:latin typeface="Arial"/>
                <a:ea typeface="MS Gothic"/>
              </a:rPr>
              <a:t>1</a:t>
            </a:r>
            <a:r>
              <a:rPr b="1" i="1" lang="es-CL" sz="1600" spc="-1" strike="noStrike">
                <a:solidFill>
                  <a:srgbClr val="000000"/>
                </a:solidFill>
                <a:latin typeface="Arial"/>
                <a:ea typeface="MS Gothic"/>
              </a:rPr>
              <a:t> y C</a:t>
            </a:r>
            <a:r>
              <a:rPr b="1" i="1" lang="es-CL" sz="1600" spc="-1" strike="noStrike" baseline="-25000">
                <a:solidFill>
                  <a:srgbClr val="000000"/>
                </a:solidFill>
                <a:latin typeface="Arial"/>
                <a:ea typeface="MS Gothic"/>
              </a:rPr>
              <a:t>2 </a:t>
            </a:r>
            <a:r>
              <a:rPr b="1" i="1" lang="es-CL" sz="1600" spc="-1" strike="noStrike">
                <a:solidFill>
                  <a:srgbClr val="000000"/>
                </a:solidFill>
                <a:latin typeface="Arial"/>
                <a:ea typeface="MS Gothic"/>
              </a:rPr>
              <a:t>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MS Gothic"/>
              </a:rPr>
              <a:t>son tres rectas isocost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758960" y="2516040"/>
            <a:ext cx="3822480" cy="3804480"/>
            <a:chOff x="1758960" y="2516040"/>
            <a:chExt cx="3822480" cy="3804480"/>
          </a:xfrm>
        </p:grpSpPr>
        <p:sp>
          <p:nvSpPr>
            <p:cNvPr id="202" name=""/>
            <p:cNvSpPr/>
            <p:nvPr/>
          </p:nvSpPr>
          <p:spPr>
            <a:xfrm>
              <a:off x="4038480" y="404028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2187360" y="4495680"/>
              <a:ext cx="1874520" cy="18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2187720" y="5105520"/>
              <a:ext cx="3170160" cy="14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758960" y="4268880"/>
              <a:ext cx="4190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K</a:t>
              </a:r>
              <a:r>
                <a:rPr b="1" i="1" lang="es-CL" sz="1800" spc="-1" strike="noStrike" baseline="-25000">
                  <a:solidFill>
                    <a:srgbClr val="000000"/>
                  </a:solidFill>
                  <a:latin typeface="Arial"/>
                  <a:ea typeface="MS Gothic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011480" y="4511520"/>
              <a:ext cx="1800" cy="14954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815280" y="5919840"/>
              <a:ext cx="394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L</a:t>
              </a:r>
              <a:r>
                <a:rPr b="1" i="1" lang="es-CL" sz="1800" spc="-1" strike="noStrike" baseline="-25000">
                  <a:solidFill>
                    <a:srgbClr val="000000"/>
                  </a:solidFill>
                  <a:latin typeface="Arial"/>
                  <a:ea typeface="MS Gothic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935520" y="4419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758960" y="4954680"/>
              <a:ext cx="4190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K</a:t>
              </a:r>
              <a:r>
                <a:rPr b="1" i="1" lang="es-CL" sz="1800" spc="-1" strike="noStrike" baseline="-25000">
                  <a:solidFill>
                    <a:srgbClr val="000000"/>
                  </a:solidFill>
                  <a:latin typeface="Arial"/>
                  <a:ea typeface="MS Gothic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08640" y="5045040"/>
              <a:ext cx="1440" cy="96192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186880" y="5919840"/>
              <a:ext cx="394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L</a:t>
              </a:r>
              <a:r>
                <a:rPr b="1" i="1" lang="es-CL" sz="1800" spc="-1" strike="noStrike" baseline="-25000">
                  <a:solidFill>
                    <a:srgbClr val="000000"/>
                  </a:solidFill>
                  <a:latin typeface="Arial"/>
                  <a:ea typeface="MS Gothic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2185560" y="2743200"/>
              <a:ext cx="863640" cy="14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60720" y="2759040"/>
              <a:ext cx="1440" cy="324792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971800" y="26668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332320" y="50292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758960" y="2516040"/>
              <a:ext cx="4190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K</a:t>
              </a:r>
              <a:r>
                <a:rPr b="1" i="1" lang="es-CL" sz="1800" spc="-1" strike="noStrike" baseline="-25000">
                  <a:solidFill>
                    <a:srgbClr val="000000"/>
                  </a:solidFill>
                  <a:latin typeface="Arial"/>
                  <a:ea typeface="MS Gothic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38960" y="5919840"/>
              <a:ext cx="394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L</a:t>
              </a:r>
              <a:r>
                <a:rPr b="1" i="1" lang="es-CL" sz="1800" spc="-1" strike="noStrike" baseline="-25000">
                  <a:solidFill>
                    <a:srgbClr val="000000"/>
                  </a:solidFill>
                  <a:latin typeface="Arial"/>
                  <a:ea typeface="MS Gothic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550800" y="27000"/>
            <a:ext cx="7983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rgo Plazo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 fill="hold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dur="indefinite" fill="hold">
                      <p:stCondLst>
                        <p:cond delay="indefinite"/>
                      </p:stCondLst>
                      <p:childTnLst>
                        <p:par>
                          <p:cTn id="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 fill="hold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 fill="hold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14T00:22:12Z</dcterms:created>
  <dc:creator>Jeff Caldwell</dc:creator>
  <dc:description/>
  <dc:language>en-US</dc:language>
  <cp:lastModifiedBy>Sala_B105</cp:lastModifiedBy>
  <cp:lastPrinted>2010-04-10T22:07:41Z</cp:lastPrinted>
  <dcterms:modified xsi:type="dcterms:W3CDTF">2010-04-12T15:03:48Z</dcterms:modified>
  <cp:revision>347</cp:revision>
  <dc:subject/>
  <dc:title>Chapter 1</dc:title>
</cp:coreProperties>
</file>