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1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1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1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1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1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1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1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1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1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1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2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2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2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2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2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2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2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2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3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3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3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3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3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3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3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3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3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3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4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4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4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4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4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4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4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4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4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26716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5970600" cy="47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dt" idx="7"/>
          </p:nvPr>
        </p:nvSpPr>
        <p:spPr>
          <a:xfrm>
            <a:off x="4280040" y="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1EA572-708E-4DC7-AF6F-977677A8B61E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54"/>
          <p:cNvSpPr/>
          <p:nvPr/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87DE37-CE8D-4DF4-9F96-FA9C68CEE474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597204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3D14-7AB7-4DD0-B323-967B234F2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76F9-05A5-4031-AC08-348389505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A3BB-8188-45BC-BF0E-AE1D164E3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4492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8548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36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4492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8548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BF5D-8DF2-4DB5-A44B-DB7B0B291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24041-5662-4942-B17A-793832261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9BB13-2D0D-4B69-AD00-7249E4889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3AD3A-72C7-4D98-B3A4-E39D9BF64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ADE31-5EB6-43B4-8B33-7C80EBC17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5D48C-E49B-4C10-A896-97F4B0ED0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04360" y="48960"/>
            <a:ext cx="8993160" cy="54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1DD9A-2C11-41FB-B269-C602E2E3F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95432-CCB6-4529-AF89-EB4E1566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45D7-9200-445C-ADD5-E339EA2ED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9D258-437B-4EEA-93AE-1221DB8C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FD598-C740-4B72-89DE-449BB028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AFEEB-4E80-4B09-BFA4-4EC35898A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4D618-99BE-43F7-981E-A5EE53A56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4492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8548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0436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4492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8548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803D6-F9FE-4B3F-AF59-EE1C37E06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40E0-F97A-4886-9B25-A8D6B5721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2086-E4EA-4B2F-9D35-52D2847D8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AF5F-091D-4DCA-9781-6F0BCEDC7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04360" y="48960"/>
            <a:ext cx="8993160" cy="54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DC9A-526A-4C01-8373-005F43E61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DEAE-97EC-4C76-AECE-EBA07D96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995B-52E1-4037-9AE9-15AA430C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095E-B0E0-4CD9-A800-74E25E47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720" y="6886080"/>
            <a:ext cx="226872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1796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27160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CL" sz="14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B70735A-561B-4E0C-A339-0B94DE957962}" type="slidenum">
              <a:rPr b="0" lang="es-CL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0" y="737856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Line 8"/>
          <p:cNvSpPr/>
          <p:nvPr/>
        </p:nvSpPr>
        <p:spPr>
          <a:xfrm>
            <a:off x="9720360" y="181080"/>
            <a:ext cx="1440" cy="7378560"/>
          </a:xfrm>
          <a:prstGeom prst="line">
            <a:avLst/>
          </a:prstGeom>
          <a:ln w="720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181440" y="177840"/>
            <a:ext cx="8993160" cy="11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6053040" y="708120"/>
            <a:ext cx="2766960" cy="7318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8999640" y="181080"/>
            <a:ext cx="900000" cy="7378560"/>
          </a:xfrm>
          <a:prstGeom prst="rect">
            <a:avLst/>
          </a:prstGeom>
          <a:solidFill>
            <a:srgbClr val="b3b3b3">
              <a:alpha val="50000"/>
            </a:srgbClr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8640360" y="8098920"/>
            <a:ext cx="2622600" cy="100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marL="294840" indent="-29484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504720" y="6886080"/>
            <a:ext cx="226872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47720" y="6886080"/>
            <a:ext cx="311796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651720" y="6840360"/>
            <a:ext cx="227016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3CE8477-53E4-4D31-9C87-2A601993DA1B}" type="slidenum">
              <a:rPr b="0" lang="es-CL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8"/>
          <p:cNvSpPr/>
          <p:nvPr/>
        </p:nvSpPr>
        <p:spPr>
          <a:xfrm>
            <a:off x="0" y="108000"/>
            <a:ext cx="10080720" cy="1440"/>
          </a:xfrm>
          <a:prstGeom prst="line">
            <a:avLst/>
          </a:prstGeom>
          <a:ln w="216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0" y="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0" y="737856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11" descr=""/>
          <p:cNvPicPr/>
          <p:nvPr/>
        </p:nvPicPr>
        <p:blipFill>
          <a:blip r:embed="rId3"/>
          <a:stretch/>
        </p:blipFill>
        <p:spPr>
          <a:xfrm>
            <a:off x="360360" y="1465200"/>
            <a:ext cx="5878440" cy="35751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2"/>
          <p:cNvSpPr/>
          <p:nvPr/>
        </p:nvSpPr>
        <p:spPr>
          <a:xfrm>
            <a:off x="3959280" y="3060720"/>
            <a:ext cx="5940360" cy="1979640"/>
          </a:xfrm>
          <a:prstGeom prst="rect">
            <a:avLst/>
          </a:prstGeom>
          <a:solidFill>
            <a:srgbClr val="e6e6ff">
              <a:alpha val="20000"/>
            </a:srgbClr>
          </a:solidFill>
          <a:ln w="9360">
            <a:solidFill>
              <a:srgbClr val="cc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6300720" y="5221440"/>
            <a:ext cx="3238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7480" bIns="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CL" sz="2400" spc="-1" strike="noStrike">
                <a:solidFill>
                  <a:srgbClr val="4c4c4c"/>
                </a:solidFill>
                <a:latin typeface="Times New Roman"/>
              </a:rPr>
              <a:t>IN3001-Otoño 200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3 Marcador de número de diapositiva"/>
          <p:cNvSpPr/>
          <p:nvPr/>
        </p:nvSpPr>
        <p:spPr>
          <a:xfrm>
            <a:off x="6651720" y="6840360"/>
            <a:ext cx="22701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9BD1BE-B16D-46F7-991B-CE51C13504E6}" type="slidenum">
              <a:rPr b="0" lang="es-CL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"/>
          <p:cNvSpPr/>
          <p:nvPr/>
        </p:nvSpPr>
        <p:spPr>
          <a:xfrm>
            <a:off x="4284720" y="3024360"/>
            <a:ext cx="550872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5120" bIns="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Clase Auxiliar Nº4: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¿Cómo realizar buenas presentaciones?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10 Rectángulo"/>
          <p:cNvSpPr/>
          <p:nvPr/>
        </p:nvSpPr>
        <p:spPr>
          <a:xfrm>
            <a:off x="6254640" y="5351400"/>
            <a:ext cx="2643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3001 Otoño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400" spc="-1" strike="noStrike">
                <a:solidFill>
                  <a:srgbClr val="ff0000"/>
                </a:solidFill>
                <a:latin typeface="Times New Roman"/>
              </a:rPr>
              <a:t>Motivación: ¿Qué piensa de las sgtes. PPT´s?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52" name="Picture 2" descr="http://www.panfletonegro.com/ae/wp-content/uploads/2007/11/worst_powerpoint_ever.jpg"/>
          <p:cNvPicPr/>
          <p:nvPr/>
        </p:nvPicPr>
        <p:blipFill>
          <a:blip r:embed="rId1"/>
          <a:stretch/>
        </p:blipFill>
        <p:spPr>
          <a:xfrm>
            <a:off x="254160" y="1136520"/>
            <a:ext cx="4651200" cy="31435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http://images.worldofapple.com/wwdc08_jobskeynote.png"/>
          <p:cNvPicPr/>
          <p:nvPr/>
        </p:nvPicPr>
        <p:blipFill>
          <a:blip r:embed="rId2"/>
          <a:stretch/>
        </p:blipFill>
        <p:spPr>
          <a:xfrm>
            <a:off x="5040360" y="4280040"/>
            <a:ext cx="4429080" cy="2869920"/>
          </a:xfrm>
          <a:prstGeom prst="rect">
            <a:avLst/>
          </a:prstGeom>
          <a:ln w="0">
            <a:noFill/>
          </a:ln>
        </p:spPr>
      </p:pic>
      <p:sp>
        <p:nvSpPr>
          <p:cNvPr id="154" name="6 CuadroTexto"/>
          <p:cNvSpPr/>
          <p:nvPr/>
        </p:nvSpPr>
        <p:spPr>
          <a:xfrm>
            <a:off x="5111640" y="1494000"/>
            <a:ext cx="414360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resa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masiada Informac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existe un esquema cla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etras no legi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7 CuadroTexto"/>
          <p:cNvSpPr/>
          <p:nvPr/>
        </p:nvSpPr>
        <p:spPr>
          <a:xfrm>
            <a:off x="754200" y="5137200"/>
            <a:ext cx="41432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mple y cla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formación de relevan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etras legi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atención se centra en el exposi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¿Cuál es el objetivo de una buena presentación?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objetivo de la presentación es lograr que el público capte mejor lo que se desea dec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presentación es un apoyo a su exposición, no es para reemplazar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presentación debe ser una historia clara y coherente, con una introducción, desarrollo y fi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Antes de comenzar a elaborar la presentación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Identifique a su audiencia (cliente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Establezca los objetivos que persigue la presentació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Definir la estructura que esta debe pose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Aft>
                <a:spcPts val="575"/>
              </a:spcAft>
              <a:buClr>
                <a:srgbClr val="000000"/>
              </a:buClr>
              <a:buFont typeface="Times New Roman"/>
              <a:buChar char="–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Introducció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Aft>
                <a:spcPts val="575"/>
              </a:spcAft>
              <a:buClr>
                <a:srgbClr val="000000"/>
              </a:buClr>
              <a:buFont typeface="Times New Roman"/>
              <a:buChar char="–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Desarrollo del tem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Aft>
                <a:spcPts val="575"/>
              </a:spcAft>
              <a:buClr>
                <a:srgbClr val="000000"/>
              </a:buClr>
              <a:buFont typeface="Times New Roman"/>
              <a:buChar char="–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Cierre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Aft>
                <a:spcPts val="575"/>
              </a:spcAft>
              <a:buClr>
                <a:srgbClr val="000000"/>
              </a:buClr>
              <a:buFont typeface="Times New Roman"/>
              <a:buChar char="–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Identifique las fuentes de información relevan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El Diseño General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504360" y="122184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marL="277560" indent="-27756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El diseño debe estar enfocado a destacar el contenid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74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Evite utilizar muchos color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74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Utilice videos y sonidos sólo cuando sea necesari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74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Los tipos de letras que se utilizan deben ser clar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No escriba grandes bloques de text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74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Regla del 7/7 (máximo 7 líneas de 7 palabras cada una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No utilice mas de tres gráficos o imágenes por diapositiv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Importante importar citas y reconocer derechos de aut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Durante la presentación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39280" y="1208160"/>
            <a:ext cx="8993160" cy="49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marL="284400" indent="-2844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De a conocer su nombre, tema central y fecha en la primera  hoj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Exponga, no le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No tiene que decir todo lo que está escrito en la PP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No entregue información que no aporta val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Mantenga contacto visual con la audienci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Tenga una actitud empátic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Contenidos mínimos de la presentación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39280" y="921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marL="401040" indent="-401040">
              <a:lnSpc>
                <a:spcPct val="15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nt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1040" indent="-401040">
              <a:lnSpc>
                <a:spcPct val="15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Quiebre detec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1040" indent="-401040">
              <a:lnSpc>
                <a:spcPct val="15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Oportunida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1040" indent="-40104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opuesta de 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lientes (¿Quién?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olución (¿Qué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egocio que lo sustenta (¿Cómo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1040" indent="-401040">
              <a:lnSpc>
                <a:spcPct val="15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1040" indent="-401040">
              <a:lnSpc>
                <a:spcPct val="15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nexos y bibliograf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1040" indent="-401040">
              <a:lnSpc>
                <a:spcPct val="15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mela</dc:creator>
  <dc:description/>
  <dc:language>en-US</dc:language>
  <cp:lastModifiedBy>WinuE</cp:lastModifiedBy>
  <dcterms:modified xsi:type="dcterms:W3CDTF">2010-05-09T00:20:26Z</dcterms:modified>
  <cp:revision>22</cp:revision>
  <dc:subject/>
  <dc:title>Diapositiva 1</dc:title>
</cp:coreProperties>
</file>