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2CDF6-0C45-4E4E-8263-1DC9A084423F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DB70C-4EA3-43D7-970F-28379F2A5A86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D97-D2F1-48A2-84C5-7E747C55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7D7-CAB2-4BE7-8382-25D4E8F2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12B-1429-48C9-987E-0A42A4A0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7EC-672C-4944-B3A6-F130ADA7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5C5A-0020-4FB4-A23C-EB046472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B475-F3AB-49F3-8B9D-C5DBF446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1695-1D45-4245-8F64-658C04B7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9DFD-84F1-47D2-B593-E1819433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750F-994B-4354-9A74-376535B5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E66F-F0F3-4ECE-B8F4-F4B2CF57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2593-2BE4-49D9-9993-72F7E180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919-95F3-4280-8178-E1325202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4D1C-B7F1-44CD-A43C-DAD08D19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2D98-8332-4074-AA13-C04B05EA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6DAB-382A-4E24-8587-BC0299FF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6283-8911-49BF-A22D-A62F1A2E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E5F1-F0A5-413F-8BA1-2BB3F38F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66E-80EE-4C17-800B-78CF037D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274-FE18-405C-B670-05B00D2A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CE0-5B36-42C7-BB9B-8165896D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A30-6372-438A-B37B-D7538041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062-118F-457D-9E75-B8058ACD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D85-8681-40A4-8717-B514F89F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6FE-C0D3-4D2D-8BEC-B1068600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A29D57-A083-471E-A2B2-B0D1B4D10988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9FA97F-7806-4252-8866-862D1AE627D6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AD5C6-4255-4F9C-8022-9E1F07C876C8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 Nº4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¿Cómo realizar buenas presentaciones?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Otoño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: ¿Qué piensa de las sgtes. PPT´s?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2" name="Picture 2" descr="http://www.panfletonegro.com/ae/wp-content/uploads/2007/11/worst_powerpoint_ever.jpg"/>
          <p:cNvPicPr/>
          <p:nvPr/>
        </p:nvPicPr>
        <p:blipFill>
          <a:blip r:embed="rId1"/>
          <a:stretch/>
        </p:blipFill>
        <p:spPr>
          <a:xfrm>
            <a:off x="254160" y="1136520"/>
            <a:ext cx="4651200" cy="314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images.worldofapple.com/wwdc08_jobskeynote.png"/>
          <p:cNvPicPr/>
          <p:nvPr/>
        </p:nvPicPr>
        <p:blipFill>
          <a:blip r:embed="rId2"/>
          <a:stretch/>
        </p:blipFill>
        <p:spPr>
          <a:xfrm>
            <a:off x="5040360" y="4280040"/>
            <a:ext cx="4429080" cy="2869920"/>
          </a:xfrm>
          <a:prstGeom prst="rect">
            <a:avLst/>
          </a:prstGeom>
          <a:ln w="0">
            <a:noFill/>
          </a:ln>
        </p:spPr>
      </p:pic>
      <p:sp>
        <p:nvSpPr>
          <p:cNvPr id="154" name="6 CuadroTexto"/>
          <p:cNvSpPr/>
          <p:nvPr/>
        </p:nvSpPr>
        <p:spPr>
          <a:xfrm>
            <a:off x="5111640" y="1494000"/>
            <a:ext cx="4143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res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siada Inform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xiste un esquema cla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tras no leg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7 CuadroTexto"/>
          <p:cNvSpPr/>
          <p:nvPr/>
        </p:nvSpPr>
        <p:spPr>
          <a:xfrm>
            <a:off x="754200" y="5137200"/>
            <a:ext cx="41432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mple y cl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de releva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tras leg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tención se centra en el expos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¿Cuál es el objetivo de una buena presentación?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de la presentación es lograr que el público capte mejor lo que se desea dec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presentación es un apoyo a su exposición, no es para reemplaz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presentación debe ser una historia clara y coherente, con una introducción, desarrollo y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ntes de comenzar a elaborar la present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dentifique a su audiencia (client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stablezca los objetivos que persigue la present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Definir la estructura que esta debe pos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Desarrollo del t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Cier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dentifique las fuentes de información relev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Diseño General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4360" y="122184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l diseño debe estar enfocado a destacar el conteni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vite utilizar muchos colo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Utilice videos y sonidos sólo cuando sea necesar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Los tipos de letras que se utilizan deben ser cla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escriba grandes bloques de tex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gla del 7/7 (máximo 7 líneas de 7 palabras cada un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utilice mas de tres gráficos o imágenes por diaposi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mportante importar citas y reconocer derechos de au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urante la present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280" y="1208160"/>
            <a:ext cx="89931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De a conocer su nombre, tema central y fecha en la primera  hoj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xponga, no l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tiene que decir todo lo que está escrito en la PP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entregue información que no aporta val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Mantenga contacto visual con la audien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Tenga una actitud empát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Contenidos mínimos de la present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280" y="921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uiebre detec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portun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puest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ientes (¿Quién?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olución (¿Qué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egocio que lo sustenta (¿Cómo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nexos y 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10-05-09T00:20:26Z</dcterms:modified>
  <cp:revision>22</cp:revision>
  <dc:subject/>
  <dc:title>Diapositiva 1</dc:title>
</cp:coreProperties>
</file>