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4BB05-E20D-4DDF-A600-9046630B35AB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87B9D-8DA2-4C14-BC69-75F935CC2904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746-2EC4-499D-B5AD-732FA65F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A28-7308-4750-A543-CD9B7B22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B53-233E-4A3E-A4CD-BB0416CC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547-0D2C-4315-82DF-4177F411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50F2-AEE6-48D0-9DA5-E014F5A4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E409-7EDE-4C3A-B4BD-CE9C3C80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0D30-C4FD-4C77-8323-58DD7455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FBF8-7489-408D-BD82-BB7D058F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DAC0-D5B2-4A83-98E8-1D630436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BA6C-2DDA-49C4-B316-80B400C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9344-2E87-485D-8F92-1EFEDBBA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141-0FFF-4CA4-BC5C-875E3604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9FC3-F41D-4ACF-99BC-E4DAF185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E988-96BB-4BC1-BCDC-FF06C03A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9647-D3D4-48A1-BBB1-4981AC5C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9546-897B-4662-81F5-EB8A5442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940F-A3C9-435E-A7A2-43DA3FC1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93C-4B58-47FE-8D27-903D585B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9F8-6173-4A5B-99C1-51C116AC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559-60DC-4375-9B32-4C07C007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BFA-C57A-4C95-935D-884D416C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217-40E1-4686-AF58-1396B232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103-E04F-4873-8933-9B7D8511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930-306B-49E4-B67E-E3A5DEE1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D64335-5C24-4241-B123-862C9F3B4853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DE16F6-5798-493A-B2BF-ED6803EA0976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BFC47-60C3-4799-A45B-033EB53DEB69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4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¿Cómo realizar buenas presentaciones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Otoño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: ¿Qué piensa de las sgtes. PPT´s?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2" name="Picture 2" descr="http://www.panfletonegro.com/ae/wp-content/uploads/2007/11/worst_powerpoint_ever.jpg"/>
          <p:cNvPicPr/>
          <p:nvPr/>
        </p:nvPicPr>
        <p:blipFill>
          <a:blip r:embed="rId1"/>
          <a:stretch/>
        </p:blipFill>
        <p:spPr>
          <a:xfrm>
            <a:off x="254160" y="1136520"/>
            <a:ext cx="4651200" cy="314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images.worldofapple.com/wwdc08_jobskeynote.png"/>
          <p:cNvPicPr/>
          <p:nvPr/>
        </p:nvPicPr>
        <p:blipFill>
          <a:blip r:embed="rId2"/>
          <a:stretch/>
        </p:blipFill>
        <p:spPr>
          <a:xfrm>
            <a:off x="5040360" y="4280040"/>
            <a:ext cx="4429080" cy="2869920"/>
          </a:xfrm>
          <a:prstGeom prst="rect">
            <a:avLst/>
          </a:prstGeom>
          <a:ln w="0">
            <a:noFill/>
          </a:ln>
        </p:spPr>
      </p:pic>
      <p:sp>
        <p:nvSpPr>
          <p:cNvPr id="154" name="6 CuadroTexto"/>
          <p:cNvSpPr/>
          <p:nvPr/>
        </p:nvSpPr>
        <p:spPr>
          <a:xfrm>
            <a:off x="5111640" y="1494000"/>
            <a:ext cx="4143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res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siada Inform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un esquema cla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tras no leg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7 CuadroTexto"/>
          <p:cNvSpPr/>
          <p:nvPr/>
        </p:nvSpPr>
        <p:spPr>
          <a:xfrm>
            <a:off x="754200" y="5137200"/>
            <a:ext cx="41432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mple y cl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de releva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tras leg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tención se centra en el expos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¿Cuál es el objetivo de una buena presentación?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de la presentación es lograr que el público capte mejor lo que se desea dec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presentación es un apoyo a su exposición, no es para reemplaz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presentación debe ser una historia clara y coherente, con una introducción, desarrollo y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ntes de comenzar a elaborar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dentifique a su audiencia (client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stablezca los objetivos que persigue la present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finir la estructura que esta debe pos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sarrollo del t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Cier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dentifique las fuentes de información relev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Diseño General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4360" y="122184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l diseño debe estar enfocado a destacar el conten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vite utilizar muchos colo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Utilice videos y sonidos sólo cuando sea necesa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Los tipos de letras que se utilizan deben ser cla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escriba grandes bloques de 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gla del 7/7 (máximo 7 líneas de 7 palabras cada u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utilice mas de tres gráficos o imágenes por diaposi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mportante importar citas y reconocer derechos de au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urante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280" y="1208160"/>
            <a:ext cx="89931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 a conocer su nombre, tema central y fecha en la primera  hoj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xponga, no l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tiene que decir todo lo que está escrito en la PP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entregue información que no aporta va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Mantenga contacto visual con la audi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Tenga una actitud empá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Contenidos mínimos de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280" y="921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uiebre detec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portun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puest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ientes (¿Quién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lución (¿Qué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egocio que lo sustenta (¿Cómo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nexos y 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10-05-09T00:20:26Z</dcterms:modified>
  <cp:revision>22</cp:revision>
  <dc:subject/>
  <dc:title>Diapositiva 1</dc:title>
</cp:coreProperties>
</file>