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AutoShape 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AutoShape 5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AutoShape 6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AutoShape 7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AutoShape 8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AutoShape 9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AutoShape 10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AutoShape 1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AutoShape 1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AutoShape 1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AutoShape 1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AutoShape 15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AutoShape 16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AutoShape 17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AutoShape 18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AutoShape 19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AutoShape 20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AutoShape 2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AutoShape 2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AutoShape 2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AutoShape 2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AutoShape 25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AutoShape 26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AutoShape 27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AutoShape 28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29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AutoShape 30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AutoShape 3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3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AutoShape 3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AutoShape 3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AutoShape 35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AutoShape 36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AutoShape 37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AutoShape 38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AutoShape 39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40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AutoShape 4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AutoShape 4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AutoShape 4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AutoShape 4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AutoShape 45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AutoShape 46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AutoShape 47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AutoShape 48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267160" cy="39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5970600" cy="47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01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dt" idx="7"/>
          </p:nvPr>
        </p:nvSpPr>
        <p:spPr>
          <a:xfrm>
            <a:off x="4280040" y="0"/>
            <a:ext cx="3201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0" y="10155240"/>
            <a:ext cx="3201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4280040" y="10155240"/>
            <a:ext cx="3201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7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7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17D05E-C7F2-45E5-82A5-98DA4437FF87}" type="slidenum">
              <a:rPr b="0" lang="es-CL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54"/>
          <p:cNvSpPr/>
          <p:nvPr/>
        </p:nvSpPr>
        <p:spPr>
          <a:xfrm>
            <a:off x="4280040" y="10155240"/>
            <a:ext cx="3201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7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FC9792-7D58-469A-8F11-DBBC71258997}" type="slidenum">
              <a:rPr b="0" lang="es-CL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5972040" cy="47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4D85-2D19-4920-A2A7-5EDE3B5AF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899316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60" y="4335480"/>
            <a:ext cx="899316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F914-B606-41CD-9F8D-EF1BB56A1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04360" y="433548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12720" y="433548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0B94-D44E-40A3-90D9-E9C1B1031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44920" y="176796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585480" y="176796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360" y="433548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44920" y="433548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585480" y="433548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B461-FD40-4CED-A067-2D6A1760E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A8DD7-7A93-47C3-A3AB-6D1CA1FFB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504360" y="1767960"/>
            <a:ext cx="899316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D0100-E3F7-4908-8278-C4B61B39D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899316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03C01-BA28-4043-B191-DF40052A9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B4B53-8E07-415A-80C2-430CBA708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C30E6-7FAB-4FF2-A59D-DE1E72E21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504360" y="48960"/>
            <a:ext cx="8993160" cy="54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DAA8A-1685-4C89-BCC1-B1F95FC6B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04360" y="433548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E0FC6-AC26-4935-8DB9-452A62149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04360" y="1767960"/>
            <a:ext cx="899316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2CD9-6463-4D9A-AE23-3B0A1E0A1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112720" y="433548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01843-450A-429F-AB98-D5046780E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360" y="4335480"/>
            <a:ext cx="899316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5CC45-6561-4DC4-8BA4-B0EB9E7A6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899316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360" y="4335480"/>
            <a:ext cx="899316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77B2D-B25A-46A8-8ABA-0710B529A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3548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112720" y="433548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64679-29FE-48E5-B840-C721D6DA5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44920" y="176796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585480" y="176796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04360" y="433548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44920" y="433548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585480" y="433548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B5498-E35E-4AB7-A1D2-8F9AD7D0D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899316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4197-95D7-4E5E-8F30-1F5FD2069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8F16-7F9B-42DA-B11A-A4DF9A14F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E594-83EC-4F6B-9828-E04D99E2E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04360" y="48960"/>
            <a:ext cx="8993160" cy="54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FD95-4B91-4507-90F6-7E879093D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4360" y="433548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3B82-BB67-4AAF-AB4E-6B162DBB6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12720" y="433548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5AA2-7E61-489E-B669-D26816A6B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4360" y="4335480"/>
            <a:ext cx="899316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36EE-F616-489D-804F-09F3028F7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400" spc="-1" strike="noStrike">
                <a:solidFill>
                  <a:srgbClr val="ff0000"/>
                </a:solidFill>
                <a:latin typeface="Times New Roman"/>
              </a:rPr>
              <a:t>Click to edit the title text format</a:t>
            </a: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4360" y="1767960"/>
            <a:ext cx="899316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4720" y="6886080"/>
            <a:ext cx="2268720" cy="4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17960" cy="4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271600" cy="4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CL" sz="14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F2D4D9E-1F67-4E80-AA18-492281E7AC75}" type="slidenum">
              <a:rPr b="0" lang="es-CL" sz="1400" spc="-1" strike="noStrike">
                <a:solidFill>
                  <a:srgbClr val="ff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0" y="0"/>
            <a:ext cx="10080720" cy="181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0" y="7378560"/>
            <a:ext cx="10080720" cy="181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Line 8"/>
          <p:cNvSpPr/>
          <p:nvPr/>
        </p:nvSpPr>
        <p:spPr>
          <a:xfrm>
            <a:off x="9720360" y="181080"/>
            <a:ext cx="1440" cy="7378560"/>
          </a:xfrm>
          <a:prstGeom prst="line">
            <a:avLst/>
          </a:prstGeom>
          <a:ln w="720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181440" y="177840"/>
            <a:ext cx="8993160" cy="118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2"/>
          <a:stretch/>
        </p:blipFill>
        <p:spPr>
          <a:xfrm>
            <a:off x="6053040" y="708120"/>
            <a:ext cx="2766960" cy="73188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3"/>
          <p:cNvSpPr/>
          <p:nvPr/>
        </p:nvSpPr>
        <p:spPr>
          <a:xfrm>
            <a:off x="8999640" y="181080"/>
            <a:ext cx="900000" cy="7378560"/>
          </a:xfrm>
          <a:prstGeom prst="rect">
            <a:avLst/>
          </a:prstGeom>
          <a:solidFill>
            <a:srgbClr val="b3b3b3">
              <a:alpha val="50000"/>
            </a:srgbClr>
          </a:solidFill>
          <a:ln w="9360">
            <a:solidFill>
              <a:srgbClr val="b3b3b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8640360" y="8098920"/>
            <a:ext cx="2622600" cy="1002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marL="294840" indent="-29484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504720" y="6886080"/>
            <a:ext cx="2268720" cy="4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447720" y="6886080"/>
            <a:ext cx="3117960" cy="4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651720" y="6840360"/>
            <a:ext cx="2270160" cy="4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1074A7C-6D57-4E3B-A527-19B33930935A}" type="slidenum">
              <a:rPr b="0" lang="es-CL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8"/>
          <p:cNvSpPr/>
          <p:nvPr/>
        </p:nvSpPr>
        <p:spPr>
          <a:xfrm>
            <a:off x="0" y="108000"/>
            <a:ext cx="10080720" cy="1440"/>
          </a:xfrm>
          <a:prstGeom prst="line">
            <a:avLst/>
          </a:prstGeom>
          <a:ln w="216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0" y="0"/>
            <a:ext cx="10080720" cy="181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0" y="7378560"/>
            <a:ext cx="10080720" cy="181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11" descr=""/>
          <p:cNvPicPr/>
          <p:nvPr/>
        </p:nvPicPr>
        <p:blipFill>
          <a:blip r:embed="rId3"/>
          <a:stretch/>
        </p:blipFill>
        <p:spPr>
          <a:xfrm>
            <a:off x="360360" y="1465200"/>
            <a:ext cx="5878440" cy="357516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2"/>
          <p:cNvSpPr/>
          <p:nvPr/>
        </p:nvSpPr>
        <p:spPr>
          <a:xfrm>
            <a:off x="3959280" y="3060720"/>
            <a:ext cx="5940360" cy="1979640"/>
          </a:xfrm>
          <a:prstGeom prst="rect">
            <a:avLst/>
          </a:prstGeom>
          <a:solidFill>
            <a:srgbClr val="e6e6ff">
              <a:alpha val="20000"/>
            </a:srgbClr>
          </a:solidFill>
          <a:ln w="9360">
            <a:solidFill>
              <a:srgbClr val="cccc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13"/>
          <p:cNvSpPr/>
          <p:nvPr/>
        </p:nvSpPr>
        <p:spPr>
          <a:xfrm>
            <a:off x="6300720" y="5221440"/>
            <a:ext cx="32385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7480" bIns="450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CL" sz="2400" spc="-1" strike="noStrike">
                <a:solidFill>
                  <a:srgbClr val="4c4c4c"/>
                </a:solidFill>
                <a:latin typeface="Times New Roman"/>
              </a:rPr>
              <a:t>IN3001-Otoño 200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3 Marcador de número de diapositiva"/>
          <p:cNvSpPr/>
          <p:nvPr/>
        </p:nvSpPr>
        <p:spPr>
          <a:xfrm>
            <a:off x="6651720" y="6840360"/>
            <a:ext cx="227016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7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9B6817-35EE-4778-B437-39D60F1D714F}" type="slidenum">
              <a:rPr b="0" lang="es-CL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1"/>
          <p:cNvSpPr/>
          <p:nvPr/>
        </p:nvSpPr>
        <p:spPr>
          <a:xfrm>
            <a:off x="4284720" y="3024360"/>
            <a:ext cx="550872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5120" bIns="450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956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0560"/>
                <a:tab algn="l" pos="9429840"/>
                <a:tab algn="l" pos="9879120"/>
                <a:tab algn="l" pos="10328400"/>
                <a:tab algn="l" pos="10779120"/>
                <a:tab algn="l" pos="10780560"/>
                <a:tab algn="l" pos="10782360"/>
              </a:tabLst>
            </a:pPr>
            <a:r>
              <a:rPr b="1" lang="es-CL" sz="37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CL" sz="37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CL" sz="37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CL" sz="37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CL" sz="3700" spc="-1" strike="noStrike">
                <a:solidFill>
                  <a:srgbClr val="000080"/>
                </a:solidFill>
                <a:latin typeface="Times New Roman"/>
              </a:rPr>
              <a:t>Clase Auxiliar Nº4: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6000"/>
              </a:lnSpc>
              <a:tabLst>
                <a:tab algn="l" pos="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956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0560"/>
                <a:tab algn="l" pos="9429840"/>
                <a:tab algn="l" pos="9879120"/>
                <a:tab algn="l" pos="10328400"/>
                <a:tab algn="l" pos="10779120"/>
                <a:tab algn="l" pos="10780560"/>
                <a:tab algn="l" pos="1078236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6000"/>
              </a:lnSpc>
              <a:tabLst>
                <a:tab algn="l" pos="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956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0560"/>
                <a:tab algn="l" pos="9429840"/>
                <a:tab algn="l" pos="9879120"/>
                <a:tab algn="l" pos="10328400"/>
                <a:tab algn="l" pos="10779120"/>
                <a:tab algn="l" pos="10780560"/>
                <a:tab algn="l" pos="10782360"/>
              </a:tabLst>
            </a:pPr>
            <a:r>
              <a:rPr b="1" lang="es-CL" sz="3700" spc="-1" strike="noStrike">
                <a:solidFill>
                  <a:srgbClr val="000080"/>
                </a:solidFill>
                <a:latin typeface="Times New Roman"/>
              </a:rPr>
              <a:t>¿Cómo realizar buenas presentaciones?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10 Rectángulo"/>
          <p:cNvSpPr/>
          <p:nvPr/>
        </p:nvSpPr>
        <p:spPr>
          <a:xfrm>
            <a:off x="6254640" y="5351400"/>
            <a:ext cx="264312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IN3001 Otoño 20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L" sz="3400" spc="-1" strike="noStrike">
                <a:solidFill>
                  <a:srgbClr val="ff0000"/>
                </a:solidFill>
                <a:latin typeface="Times New Roman"/>
              </a:rPr>
              <a:t>Motivación: ¿Qué piensa de las sgtes. PPT´s?</a:t>
            </a: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152" name="Picture 2" descr="http://www.panfletonegro.com/ae/wp-content/uploads/2007/11/worst_powerpoint_ever.jpg"/>
          <p:cNvPicPr/>
          <p:nvPr/>
        </p:nvPicPr>
        <p:blipFill>
          <a:blip r:embed="rId1"/>
          <a:stretch/>
        </p:blipFill>
        <p:spPr>
          <a:xfrm>
            <a:off x="254160" y="1136520"/>
            <a:ext cx="4651200" cy="31435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" descr="http://images.worldofapple.com/wwdc08_jobskeynote.png"/>
          <p:cNvPicPr/>
          <p:nvPr/>
        </p:nvPicPr>
        <p:blipFill>
          <a:blip r:embed="rId2"/>
          <a:stretch/>
        </p:blipFill>
        <p:spPr>
          <a:xfrm>
            <a:off x="5040360" y="4280040"/>
            <a:ext cx="4429080" cy="2869920"/>
          </a:xfrm>
          <a:prstGeom prst="rect">
            <a:avLst/>
          </a:prstGeom>
          <a:ln w="0">
            <a:noFill/>
          </a:ln>
        </p:spPr>
      </p:pic>
      <p:sp>
        <p:nvSpPr>
          <p:cNvPr id="154" name="6 CuadroTexto"/>
          <p:cNvSpPr/>
          <p:nvPr/>
        </p:nvSpPr>
        <p:spPr>
          <a:xfrm>
            <a:off x="5111640" y="1494000"/>
            <a:ext cx="4143600" cy="11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tresan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masiada Informació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 existe un esquema clar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etras no legib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7 CuadroTexto"/>
          <p:cNvSpPr/>
          <p:nvPr/>
        </p:nvSpPr>
        <p:spPr>
          <a:xfrm>
            <a:off x="754200" y="5137200"/>
            <a:ext cx="414324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imple y cla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formación de relevanc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etras legib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atención se centra en el exposi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3400" spc="-1" strike="noStrike">
                <a:solidFill>
                  <a:srgbClr val="ff0000"/>
                </a:solidFill>
                <a:latin typeface="Times New Roman"/>
              </a:rPr>
              <a:t>¿Cuál es el objetivo de una buena presentación?</a:t>
            </a: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04360" y="1767960"/>
            <a:ext cx="899316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l objetivo de la presentación es lograr que el público capte mejor lo que se desea dec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a presentación es un apoyo a su exposición, no es para reemplazar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a presentación debe ser una historia clara y coherente, con una introducción, desarrollo y fin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3400" spc="-1" strike="noStrike">
                <a:solidFill>
                  <a:srgbClr val="ff0000"/>
                </a:solidFill>
                <a:latin typeface="Times New Roman"/>
              </a:rPr>
              <a:t>Antes de comenzar a elaborar la presentación</a:t>
            </a: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04360" y="1767960"/>
            <a:ext cx="899316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Times New Roman"/>
              </a:rPr>
              <a:t>Identifique a su audiencia (clientes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Times New Roman"/>
              </a:rPr>
              <a:t>Establezca los objetivos que persigue la presentació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Times New Roman"/>
              </a:rPr>
              <a:t>Definir la estructura que esta debe pose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Aft>
                <a:spcPts val="575"/>
              </a:spcAft>
              <a:buClr>
                <a:srgbClr val="000000"/>
              </a:buClr>
              <a:buFont typeface="Times New Roman"/>
              <a:buChar char="–"/>
              <a:tabLst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Times New Roman"/>
              </a:rPr>
              <a:t>Introducció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Aft>
                <a:spcPts val="575"/>
              </a:spcAft>
              <a:buClr>
                <a:srgbClr val="000000"/>
              </a:buClr>
              <a:buFont typeface="Times New Roman"/>
              <a:buChar char="–"/>
              <a:tabLst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Times New Roman"/>
              </a:rPr>
              <a:t>Desarrollo del tem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Aft>
                <a:spcPts val="575"/>
              </a:spcAft>
              <a:buClr>
                <a:srgbClr val="000000"/>
              </a:buClr>
              <a:buFont typeface="Times New Roman"/>
              <a:buChar char="–"/>
              <a:tabLst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Times New Roman"/>
              </a:rPr>
              <a:t>Cierre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Aft>
                <a:spcPts val="575"/>
              </a:spcAft>
              <a:buClr>
                <a:srgbClr val="000000"/>
              </a:buClr>
              <a:buFont typeface="Times New Roman"/>
              <a:buChar char="–"/>
              <a:tabLst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Times New Roman"/>
              </a:rPr>
              <a:t>Identifique las fuentes de información relevant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3400" spc="-1" strike="noStrike">
                <a:solidFill>
                  <a:srgbClr val="ff0000"/>
                </a:solidFill>
                <a:latin typeface="Times New Roman"/>
              </a:rPr>
              <a:t>El Diseño General</a:t>
            </a: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504360" y="1221840"/>
            <a:ext cx="899316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marL="277560" indent="-27756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Times New Roman"/>
              </a:rPr>
              <a:t>El diseño debe estar enfocado a destacar el contenid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74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Times New Roman"/>
              </a:rPr>
              <a:t>Evite utilizar muchos color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74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Times New Roman"/>
              </a:rPr>
              <a:t>Utilice videos y sonidos sólo cuando sea necesari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74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Times New Roman"/>
              </a:rPr>
              <a:t>Los tipos de letras que se utilizan deben ser claro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Times New Roman"/>
              </a:rPr>
              <a:t>No escriba grandes bloques de text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74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Times New Roman"/>
              </a:rPr>
              <a:t>Regla del 7/7 (máximo 7 líneas de 7 palabras cada una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Times New Roman"/>
              </a:rPr>
              <a:t>No utilice mas de tres gráficos o imágenes por diapositiv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7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Times New Roman"/>
              </a:rPr>
              <a:t>Importante importar citas y reconocer derechos de auto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3400" spc="-1" strike="noStrike">
                <a:solidFill>
                  <a:srgbClr val="ff0000"/>
                </a:solidFill>
                <a:latin typeface="Times New Roman"/>
              </a:rPr>
              <a:t>Durante la presentación</a:t>
            </a: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539280" y="1208160"/>
            <a:ext cx="8993160" cy="49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marL="284400" indent="-28440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Times New Roman"/>
              </a:rPr>
              <a:t>De a conocer su nombre, tema central y fecha en la primera  hoj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7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Times New Roman"/>
              </a:rPr>
              <a:t>Exponga, no le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Times New Roman"/>
              </a:rPr>
              <a:t>No tiene que decir todo lo que está escrito en la PP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Times New Roman"/>
              </a:rPr>
              <a:t>No entregue información que no aporta valo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Times New Roman"/>
              </a:rPr>
              <a:t>Mantenga contacto visual con la audienci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Times New Roman"/>
              </a:rPr>
              <a:t>Tenga una actitud empátic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7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7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3400" spc="-1" strike="noStrike">
                <a:solidFill>
                  <a:srgbClr val="ff0000"/>
                </a:solidFill>
                <a:latin typeface="Times New Roman"/>
              </a:rPr>
              <a:t>Contenidos mínimos de la presentación</a:t>
            </a: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39280" y="921960"/>
            <a:ext cx="899316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marL="401040" indent="-401040">
              <a:lnSpc>
                <a:spcPct val="150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Introdu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01040" indent="-401040">
              <a:lnSpc>
                <a:spcPct val="150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Quiebre detect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01040" indent="-401040">
              <a:lnSpc>
                <a:spcPct val="150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Oportunida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01040" indent="-40104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ropuesta de val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lientes (¿Quién?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olución (¿Qué?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Negocio que lo sustenta (¿Cómo?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01040" indent="-401040">
              <a:lnSpc>
                <a:spcPct val="150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onclus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01040" indent="-401040">
              <a:lnSpc>
                <a:spcPct val="150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nexos y bibliograf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01040" indent="-401040">
              <a:lnSpc>
                <a:spcPct val="150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amela</dc:creator>
  <dc:description/>
  <dc:language>en-US</dc:language>
  <cp:lastModifiedBy>WinuE</cp:lastModifiedBy>
  <dcterms:modified xsi:type="dcterms:W3CDTF">2010-05-09T00:20:26Z</dcterms:modified>
  <cp:revision>22</cp:revision>
  <dc:subject/>
  <dc:title>Diapositiva 1</dc:title>
</cp:coreProperties>
</file>