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7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85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21E00-ABB7-40DA-A270-0F518A5068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EC705-BD92-4CF6-9F3C-B3414346F50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99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0F8-C4CA-4342-99AF-B50FD547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1B4-E742-4E16-BD5C-CA2122B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DE3-910B-4D3E-B900-4F273B1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053-4A16-4E77-98F1-7BDBE04D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1AC0-036B-446C-A4E7-2F4F78B0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1002-5627-4DB4-A932-41C79E9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A058-4C37-4F0A-9C5F-C581B33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3B6-ADBD-4277-9D80-A6B4C7B8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DEAF-1A91-45AD-BBA9-848925A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27AC-5E23-4AE2-9F55-5DB15FA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B90-2EF1-40A4-AF5C-24A7A791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771-B6BA-4EC7-B696-A2E9452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FA0F-5670-47FC-B29E-CEC2500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9FD2-4C2F-43E7-AF67-DD1ED8E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8A7F-12AF-4DB4-886E-2754CF5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5A66-E85F-4D0F-B004-268CDB1F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ECF-B694-455A-9DE6-EE829CEE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071-DCD6-49A6-89A5-0B58033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4AB-82D4-444F-B9DC-E654509E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494-33FC-4129-A2A4-88613E5F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821-F59A-4689-9969-6791B34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E0F-D42F-4A8D-BB6B-31B8757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D26-5C1D-4AC3-81C3-FEE6C79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A26-4BC4-4224-BEB0-53E1DEF4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952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CDFEC4-6CE3-42C1-8939-2BE1FEF768D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9001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30520" cy="10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BAC1A6-D0F0-4978-93A0-34CA7C95A78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CD5C8-2DB9-48BF-A1AB-CE142B05367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Handout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I</a:t>
            </a:r>
            <a:r>
              <a:rPr b="1" lang="es-CL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2 CuadroTexto"/>
          <p:cNvSpPr/>
          <p:nvPr/>
        </p:nvSpPr>
        <p:spPr>
          <a:xfrm>
            <a:off x="539640" y="1208160"/>
            <a:ext cx="857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s lo primero que se le viene a la mente con las siguientes imágen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http://t3.gstatic.com/images?q=tbn:T1ITACR-EHJpXM:http://cequiroza.files.wordpress.com/2007/11/michelle_bachelet.jpg"/>
          <p:cNvPicPr/>
          <p:nvPr/>
        </p:nvPicPr>
        <p:blipFill>
          <a:blip r:embed="rId1"/>
          <a:stretch/>
        </p:blipFill>
        <p:spPr>
          <a:xfrm>
            <a:off x="754200" y="1819440"/>
            <a:ext cx="1785960" cy="231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ontificia Universidad Católica de Chile"/>
          <p:cNvPicPr/>
          <p:nvPr/>
        </p:nvPicPr>
        <p:blipFill>
          <a:blip r:embed="rId2"/>
          <a:stretch/>
        </p:blipFill>
        <p:spPr>
          <a:xfrm>
            <a:off x="3540240" y="3144960"/>
            <a:ext cx="300024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6 CuadroTexto"/>
          <p:cNvSpPr/>
          <p:nvPr/>
        </p:nvSpPr>
        <p:spPr>
          <a:xfrm>
            <a:off x="3325680" y="5573880"/>
            <a:ext cx="328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http://bligoo.com/media/users/0/43463/images/public/2746/loco_bielsa.jpg"/>
          <p:cNvPicPr/>
          <p:nvPr/>
        </p:nvPicPr>
        <p:blipFill>
          <a:blip r:embed="rId3"/>
          <a:stretch/>
        </p:blipFill>
        <p:spPr>
          <a:xfrm>
            <a:off x="611280" y="4422600"/>
            <a:ext cx="2071440" cy="232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4.bp.blogspot.com/_jX85a3XmHr4/RvnJQwRtZDI/AAAAAAAABeY/eyFHvz-jgKs/s400/Dios+en+Cartagua.jpg"/>
          <p:cNvPicPr/>
          <p:nvPr/>
        </p:nvPicPr>
        <p:blipFill>
          <a:blip r:embed="rId4"/>
          <a:stretch/>
        </p:blipFill>
        <p:spPr>
          <a:xfrm>
            <a:off x="7040520" y="1851120"/>
            <a:ext cx="2367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http://3.bp.blogspot.com/_Srm9fh4YHjY/SLltY9pcuWI/AAAAAAAAB-w/Wlpjgy5EVUY/s400/3-1320-monito+2.jpg"/>
          <p:cNvPicPr/>
          <p:nvPr/>
        </p:nvPicPr>
        <p:blipFill>
          <a:blip r:embed="rId1"/>
          <a:stretch/>
        </p:blipFill>
        <p:spPr>
          <a:xfrm>
            <a:off x="5778360" y="4856040"/>
            <a:ext cx="3048120" cy="235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3.bp.blogspot.com/_Srm9fh4YHjY/SLltY48wImI/AAAAAAAAB-o/XoUbIHGQ7DA/s400/2-2-monito+3.png"/>
          <p:cNvPicPr/>
          <p:nvPr/>
        </p:nvPicPr>
        <p:blipFill>
          <a:blip r:embed="rId2"/>
          <a:stretch/>
        </p:blipFill>
        <p:spPr>
          <a:xfrm>
            <a:off x="5589720" y="1922400"/>
            <a:ext cx="3736800" cy="26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Picture 2" descr="http://4.bp.blogspot.com/_Srm9fh4YHjY/SLltYkB6ZBI/AAAAAAAAB-g/ickMWdwg7E0/s400/1-monos45.jpg"/>
          <p:cNvPicPr/>
          <p:nvPr/>
        </p:nvPicPr>
        <p:blipFill>
          <a:blip r:embed="rId3"/>
          <a:stretch/>
        </p:blipFill>
        <p:spPr>
          <a:xfrm>
            <a:off x="0" y="1565280"/>
            <a:ext cx="4111560" cy="2928960"/>
          </a:xfrm>
          <a:prstGeom prst="rect">
            <a:avLst/>
          </a:prstGeom>
          <a:ln w="0">
            <a:noFill/>
          </a:ln>
        </p:spPr>
      </p:pic>
      <p:sp>
        <p:nvSpPr>
          <p:cNvPr id="156" name="9 Flecha derecha"/>
          <p:cNvSpPr/>
          <p:nvPr/>
        </p:nvSpPr>
        <p:spPr>
          <a:xfrm>
            <a:off x="4540320" y="285120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11 CuadroTexto"/>
          <p:cNvSpPr/>
          <p:nvPr/>
        </p:nvSpPr>
        <p:spPr>
          <a:xfrm>
            <a:off x="5326200" y="636480"/>
            <a:ext cx="45003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un mono subía la escalera para coger los plátanos, los científicos lanzaban un chorro de agua fría sobre los que quedaban en el suel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2 Flecha derecha"/>
          <p:cNvSpPr/>
          <p:nvPr/>
        </p:nvSpPr>
        <p:spPr>
          <a:xfrm rot="5400000">
            <a:off x="7504560" y="4315320"/>
            <a:ext cx="71424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5 Flecha derecha"/>
          <p:cNvSpPr/>
          <p:nvPr/>
        </p:nvSpPr>
        <p:spPr>
          <a:xfrm rot="10800000">
            <a:off x="4611240" y="5565600"/>
            <a:ext cx="857160" cy="857520"/>
          </a:xfrm>
          <a:prstGeom prst="rightArrow">
            <a:avLst>
              <a:gd name="adj1" fmla="val 4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1" descr="http://s3.amazonaws.com/lcp/gallos-de-marzo/myfiles/Paliza-monos-1.jpg"/>
          <p:cNvPicPr/>
          <p:nvPr/>
        </p:nvPicPr>
        <p:blipFill>
          <a:blip r:embed="rId4"/>
          <a:stretch/>
        </p:blipFill>
        <p:spPr>
          <a:xfrm>
            <a:off x="682560" y="5153040"/>
            <a:ext cx="324792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21 Flecha derecha"/>
          <p:cNvSpPr/>
          <p:nvPr/>
        </p:nvSpPr>
        <p:spPr>
          <a:xfrm rot="16200000">
            <a:off x="2004120" y="4386600"/>
            <a:ext cx="71460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istinción de “Paradigm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Picture 2" descr="http://sepiensa.org.mx/contenidos/2005/s_razasHum/img/razhum_1.jpg"/>
          <p:cNvPicPr/>
          <p:nvPr/>
        </p:nvPicPr>
        <p:blipFill>
          <a:blip r:embed="rId1"/>
          <a:stretch/>
        </p:blipFill>
        <p:spPr>
          <a:xfrm>
            <a:off x="396720" y="1136520"/>
            <a:ext cx="5214960" cy="5380200"/>
          </a:xfrm>
          <a:prstGeom prst="rect">
            <a:avLst/>
          </a:prstGeom>
          <a:ln w="0">
            <a:noFill/>
          </a:ln>
        </p:spPr>
      </p:pic>
      <p:sp>
        <p:nvSpPr>
          <p:cNvPr id="164" name="13 CuadroTexto"/>
          <p:cNvSpPr/>
          <p:nvPr/>
        </p:nvSpPr>
        <p:spPr>
          <a:xfrm>
            <a:off x="5826240" y="1279440"/>
            <a:ext cx="37144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paradig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 conjunto de reg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rigen una determinada disciplina. Estas "reglas" se asumen normalmente como verdades incuestionables y  "universalmente" reconocidas, que durante un tiempo proporcionan modelos de problemas y soluciones para los miembros de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a determinad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Cambio Paradigmátic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4 CuadroTexto"/>
          <p:cNvSpPr/>
          <p:nvPr/>
        </p:nvSpPr>
        <p:spPr>
          <a:xfrm>
            <a:off x="539640" y="120816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os Paradigmas no son buenos ni malos, sino que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des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para lograr un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 Flecha abajo"/>
          <p:cNvSpPr/>
          <p:nvPr/>
        </p:nvSpPr>
        <p:spPr>
          <a:xfrm>
            <a:off x="3968640" y="235116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396720" y="34862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ando los Paradigmas existentes no responden a las necesidades actuales, ocurre un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AMBIO PARADIGMÁTICO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7 Flecha abajo"/>
          <p:cNvSpPr/>
          <p:nvPr/>
        </p:nvSpPr>
        <p:spPr>
          <a:xfrm>
            <a:off x="3968640" y="428004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254160" y="5386320"/>
            <a:ext cx="91440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Solamente Reflexionemos sobre todos los cambios paradigmáticos que hemos vivido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El Paradigma del “Sonido y la Músic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Picture 2" descr="http://www.monografias.com/trabajos30/reproductores-de-musica/Image2304.gif"/>
          <p:cNvPicPr/>
          <p:nvPr/>
        </p:nvPicPr>
        <p:blipFill>
          <a:blip r:embed="rId1"/>
          <a:stretch/>
        </p:blipFill>
        <p:spPr>
          <a:xfrm>
            <a:off x="325440" y="1486080"/>
            <a:ext cx="2500200" cy="149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monografias.com/trabajos30/reproductores-de-musica/rep1.jpg"/>
          <p:cNvPicPr/>
          <p:nvPr/>
        </p:nvPicPr>
        <p:blipFill>
          <a:blip r:embed="rId2"/>
          <a:stretch/>
        </p:blipFill>
        <p:spPr>
          <a:xfrm>
            <a:off x="3968640" y="1417680"/>
            <a:ext cx="1428840" cy="164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monografias.com/trabajos30/reproductores-de-musica/rep2.jpg"/>
          <p:cNvPicPr/>
          <p:nvPr/>
        </p:nvPicPr>
        <p:blipFill>
          <a:blip r:embed="rId3"/>
          <a:stretch/>
        </p:blipFill>
        <p:spPr>
          <a:xfrm>
            <a:off x="6540480" y="149400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monografias.com/trabajos30/reproductores-de-musica/rep4.jpg"/>
          <p:cNvPicPr/>
          <p:nvPr/>
        </p:nvPicPr>
        <p:blipFill>
          <a:blip r:embed="rId4"/>
          <a:stretch/>
        </p:blipFill>
        <p:spPr>
          <a:xfrm>
            <a:off x="6754680" y="3762360"/>
            <a:ext cx="221472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www.monografias.com/trabajos30/reproductores-de-musica/rep3.jpg"/>
          <p:cNvPicPr/>
          <p:nvPr/>
        </p:nvPicPr>
        <p:blipFill>
          <a:blip r:embed="rId5"/>
          <a:stretch/>
        </p:blipFill>
        <p:spPr>
          <a:xfrm>
            <a:off x="8255160" y="4691160"/>
            <a:ext cx="121428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monografias.com/trabajos30/reproductores-de-musica/rep5.jpg"/>
          <p:cNvPicPr/>
          <p:nvPr/>
        </p:nvPicPr>
        <p:blipFill>
          <a:blip r:embed="rId6"/>
          <a:stretch/>
        </p:blipFill>
        <p:spPr>
          <a:xfrm>
            <a:off x="3968640" y="3851280"/>
            <a:ext cx="175896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http://www.monografias.com/trabajos30/reproductores-de-musica/rep9.jpg"/>
          <p:cNvPicPr/>
          <p:nvPr/>
        </p:nvPicPr>
        <p:blipFill>
          <a:blip r:embed="rId7"/>
          <a:stretch/>
        </p:blipFill>
        <p:spPr>
          <a:xfrm>
            <a:off x="1539720" y="3494160"/>
            <a:ext cx="1452600" cy="150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monografias.com/trabajos30/reproductores-de-musica/rep11.jpg"/>
          <p:cNvPicPr/>
          <p:nvPr/>
        </p:nvPicPr>
        <p:blipFill>
          <a:blip r:embed="rId8"/>
          <a:stretch/>
        </p:blipFill>
        <p:spPr>
          <a:xfrm>
            <a:off x="968400" y="6066000"/>
            <a:ext cx="1380960" cy="1141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http://www.monografias.com/trabajos30/reproductores-de-musica/rep13.jpg"/>
          <p:cNvPicPr/>
          <p:nvPr/>
        </p:nvPicPr>
        <p:blipFill>
          <a:blip r:embed="rId9"/>
          <a:stretch/>
        </p:blipFill>
        <p:spPr>
          <a:xfrm>
            <a:off x="3611520" y="592308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181" name="12 Flecha derecha"/>
          <p:cNvSpPr/>
          <p:nvPr/>
        </p:nvSpPr>
        <p:spPr>
          <a:xfrm>
            <a:off x="296856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3 Flecha derecha"/>
          <p:cNvSpPr/>
          <p:nvPr/>
        </p:nvSpPr>
        <p:spPr>
          <a:xfrm>
            <a:off x="554040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4 Flecha curvada hacia la izquierda"/>
          <p:cNvSpPr/>
          <p:nvPr/>
        </p:nvSpPr>
        <p:spPr>
          <a:xfrm>
            <a:off x="8826480" y="2637000"/>
            <a:ext cx="642960" cy="1428480"/>
          </a:xfrm>
          <a:custGeom>
            <a:avLst/>
            <a:gdLst>
              <a:gd name="textAreaLeft" fmla="*/ 86040 w 642960"/>
              <a:gd name="textAreaRight" fmla="*/ 556920 w 642960"/>
              <a:gd name="textAreaTop" fmla="*/ 296640 h 1428480"/>
              <a:gd name="textAreaBottom" fmla="*/ 105120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3489012"/>
                <a:lnTo>
                  <a:pt x="5400" y="21315"/>
                </a:lnTo>
                <a:lnTo>
                  <a:pt x="0" y="19170"/>
                </a:lnTo>
                <a:lnTo>
                  <a:pt x="5400" y="16455"/>
                </a:lnTo>
                <a:lnTo>
                  <a:pt x="5400" y="17670"/>
                </a:lnTo>
                <a:arcTo wR="21600" hR="8978" stAng="3489012" swAng="-3294052"/>
                <a:lnTo>
                  <a:pt x="21401" y="10193"/>
                </a:lnTo>
                <a:arcTo wR="21600" hR="8978" stAng="-194960" swAng="-5205040"/>
                <a:close/>
              </a:path>
              <a:path fill="darkenLess"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-194960"/>
                <a:lnTo>
                  <a:pt x="21401" y="10193"/>
                </a:lnTo>
                <a:arcTo wR="21600" hR="8978" stAng="-194960" swAng="-520504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5 Flecha derecha"/>
          <p:cNvSpPr/>
          <p:nvPr/>
        </p:nvSpPr>
        <p:spPr>
          <a:xfrm rot="10800000">
            <a:off x="5754240" y="442260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http://www.monografias.com/trabajos30/reproductores-de-musica/rep8.jpg"/>
          <p:cNvPicPr/>
          <p:nvPr/>
        </p:nvPicPr>
        <p:blipFill>
          <a:blip r:embed="rId10"/>
          <a:stretch/>
        </p:blipFill>
        <p:spPr>
          <a:xfrm>
            <a:off x="825480" y="46371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86" name="16 Flecha derecha"/>
          <p:cNvSpPr/>
          <p:nvPr/>
        </p:nvSpPr>
        <p:spPr>
          <a:xfrm rot="10800000">
            <a:off x="3040200" y="4565520"/>
            <a:ext cx="785520" cy="2858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7 Flecha curvada hacia la izquierda"/>
          <p:cNvSpPr/>
          <p:nvPr/>
        </p:nvSpPr>
        <p:spPr>
          <a:xfrm flipH="1">
            <a:off x="142920" y="5208480"/>
            <a:ext cx="611280" cy="1571760"/>
          </a:xfrm>
          <a:custGeom>
            <a:avLst/>
            <a:gdLst>
              <a:gd name="textAreaLeft" fmla="*/ 81720 w 611280"/>
              <a:gd name="textAreaRight" fmla="*/ 529560 w 611280"/>
              <a:gd name="textAreaTop" fmla="*/ 335520 h 1571760"/>
              <a:gd name="textAreaBottom" fmla="*/ 11599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3530663"/>
                <a:lnTo>
                  <a:pt x="5400" y="21307"/>
                </a:lnTo>
                <a:lnTo>
                  <a:pt x="0" y="19500"/>
                </a:lnTo>
                <a:lnTo>
                  <a:pt x="5400" y="17107"/>
                </a:lnTo>
                <a:lnTo>
                  <a:pt x="5400" y="18157"/>
                </a:lnTo>
                <a:arcTo wR="21600" hR="9225" stAng="3530663" swAng="-3362591"/>
                <a:lnTo>
                  <a:pt x="21460" y="10275"/>
                </a:lnTo>
                <a:arcTo wR="21600" hR="9225" stAng="-168072" swAng="-523192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-168072"/>
                <a:lnTo>
                  <a:pt x="21460" y="10275"/>
                </a:lnTo>
                <a:arcTo wR="21600" hR="9225" stAng="-168072" swAng="-523192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18 Flecha derecha"/>
          <p:cNvSpPr/>
          <p:nvPr/>
        </p:nvSpPr>
        <p:spPr>
          <a:xfrm>
            <a:off x="2540160" y="6566040"/>
            <a:ext cx="785520" cy="2854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1539720" y="28512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895 - 19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4683240" y="3003480"/>
            <a:ext cx="14284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30 - 195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6826320" y="29941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55 - 197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2 CuadroTexto"/>
          <p:cNvSpPr/>
          <p:nvPr/>
        </p:nvSpPr>
        <p:spPr>
          <a:xfrm>
            <a:off x="7326360" y="55656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75 - 198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3 CuadroTexto"/>
          <p:cNvSpPr/>
          <p:nvPr/>
        </p:nvSpPr>
        <p:spPr>
          <a:xfrm>
            <a:off x="4897440" y="54943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85 - 199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4 CuadroTexto"/>
          <p:cNvSpPr/>
          <p:nvPr/>
        </p:nvSpPr>
        <p:spPr>
          <a:xfrm>
            <a:off x="1968480" y="506556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93 - 20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5 CuadroTexto"/>
          <p:cNvSpPr/>
          <p:nvPr/>
        </p:nvSpPr>
        <p:spPr>
          <a:xfrm>
            <a:off x="196848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6 CuadroTexto"/>
          <p:cNvSpPr/>
          <p:nvPr/>
        </p:nvSpPr>
        <p:spPr>
          <a:xfrm>
            <a:off x="504036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4-04T16:44:30Z</dcterms:modified>
  <cp:revision>8</cp:revision>
  <dc:subject/>
  <dc:title>Diapositiva 1</dc:title>
</cp:coreProperties>
</file>