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7508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85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80867-5DD7-4E4D-9BE8-7F81A07E435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9"/>
          <p:cNvSpPr/>
          <p:nvPr/>
        </p:nvSpPr>
        <p:spPr>
          <a:xfrm>
            <a:off x="4280040" y="10155240"/>
            <a:ext cx="320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385F0-69CF-458F-90BB-254A94DB2EB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996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399-59AF-4D56-973B-8D362A3B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256-A6B5-4E67-A8D9-61DC558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593-0441-4E70-8BCB-B2EA3505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5D0-5159-47BD-87AA-B65AE612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70FF-F5C2-43C0-94D9-E920EA62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D599-FDEB-45FD-B2F8-D3FC0E5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FE0-325F-4E26-B9F8-5DDE172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40E-BCCD-45AD-8025-76E01DAE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61EC-B12F-4A84-BB1F-3B93224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4A35-52B1-48FB-A908-691359C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8341-A1EB-4B64-AB81-E3AC360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2CB-1894-4180-BFF5-BA8CCC59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464F-011B-458D-B2DF-7D20588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8BF8-8131-474E-8C6D-49BFA99E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7CC3-92A6-485E-91DD-60CF9D3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050E-A26B-4CBB-AF19-2FBA16F3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780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90880" y="176796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780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90880" y="4339440"/>
            <a:ext cx="28980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382-F04B-470F-BFE2-A72E9C05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782-BD56-41BC-B642-6D48512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75D-CDF2-4702-A8A1-01566ED7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587-2ADB-4DAA-99C8-61A06920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900108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156-2774-4040-BCC4-6B36025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7BC-4E75-4137-A47F-FFB6601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680" y="433944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7F9-11DB-4C81-B7FF-18006041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680" y="1767960"/>
            <a:ext cx="439236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9440"/>
            <a:ext cx="900108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4FF-D9C8-47F9-82BD-33C4D78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900108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952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802EE9-4E8C-4FBE-8A38-AE0DAF36F66F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90010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30520" cy="10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7664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9BCE2-1676-4108-8745-32B1C16EBEF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651720" y="6840360"/>
            <a:ext cx="2278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B6A67-1292-4892-8895-77C51DD4009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Handout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aradigmas I</a:t>
            </a:r>
            <a:r>
              <a:rPr b="1" lang="es-CL" sz="3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2 CuadroTexto"/>
          <p:cNvSpPr/>
          <p:nvPr/>
        </p:nvSpPr>
        <p:spPr>
          <a:xfrm>
            <a:off x="539640" y="1208160"/>
            <a:ext cx="8572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Qué es lo primero que se le viene a la mente con las siguientes imágene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http://t3.gstatic.com/images?q=tbn:T1ITACR-EHJpXM:http://cequiroza.files.wordpress.com/2007/11/michelle_bachelet.jpg"/>
          <p:cNvPicPr/>
          <p:nvPr/>
        </p:nvPicPr>
        <p:blipFill>
          <a:blip r:embed="rId1"/>
          <a:stretch/>
        </p:blipFill>
        <p:spPr>
          <a:xfrm>
            <a:off x="754200" y="1819440"/>
            <a:ext cx="1785960" cy="231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Pontificia Universidad Católica de Chile"/>
          <p:cNvPicPr/>
          <p:nvPr/>
        </p:nvPicPr>
        <p:blipFill>
          <a:blip r:embed="rId2"/>
          <a:stretch/>
        </p:blipFill>
        <p:spPr>
          <a:xfrm>
            <a:off x="3540240" y="3144960"/>
            <a:ext cx="3000240" cy="2365200"/>
          </a:xfrm>
          <a:prstGeom prst="rect">
            <a:avLst/>
          </a:prstGeom>
          <a:ln w="0">
            <a:noFill/>
          </a:ln>
        </p:spPr>
      </p:pic>
      <p:sp>
        <p:nvSpPr>
          <p:cNvPr id="149" name="6 CuadroTexto"/>
          <p:cNvSpPr/>
          <p:nvPr/>
        </p:nvSpPr>
        <p:spPr>
          <a:xfrm>
            <a:off x="3325680" y="5573880"/>
            <a:ext cx="328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C - Ingenie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http://bligoo.com/media/users/0/43463/images/public/2746/loco_bielsa.jpg"/>
          <p:cNvPicPr/>
          <p:nvPr/>
        </p:nvPicPr>
        <p:blipFill>
          <a:blip r:embed="rId3"/>
          <a:stretch/>
        </p:blipFill>
        <p:spPr>
          <a:xfrm>
            <a:off x="611280" y="4422600"/>
            <a:ext cx="2071440" cy="232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4.bp.blogspot.com/_jX85a3XmHr4/RvnJQwRtZDI/AAAAAAAABeY/eyFHvz-jgKs/s400/Dios+en+Cartagua.jpg"/>
          <p:cNvPicPr/>
          <p:nvPr/>
        </p:nvPicPr>
        <p:blipFill>
          <a:blip r:embed="rId4"/>
          <a:stretch/>
        </p:blipFill>
        <p:spPr>
          <a:xfrm>
            <a:off x="7040520" y="1851120"/>
            <a:ext cx="2367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http://3.bp.blogspot.com/_Srm9fh4YHjY/SLltY9pcuWI/AAAAAAAAB-w/Wlpjgy5EVUY/s400/3-1320-monito+2.jpg"/>
          <p:cNvPicPr/>
          <p:nvPr/>
        </p:nvPicPr>
        <p:blipFill>
          <a:blip r:embed="rId1"/>
          <a:stretch/>
        </p:blipFill>
        <p:spPr>
          <a:xfrm>
            <a:off x="5778360" y="4856040"/>
            <a:ext cx="3048120" cy="235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http://3.bp.blogspot.com/_Srm9fh4YHjY/SLltY48wImI/AAAAAAAAB-o/XoUbIHGQ7DA/s400/2-2-monito+3.png"/>
          <p:cNvPicPr/>
          <p:nvPr/>
        </p:nvPicPr>
        <p:blipFill>
          <a:blip r:embed="rId2"/>
          <a:stretch/>
        </p:blipFill>
        <p:spPr>
          <a:xfrm>
            <a:off x="5589720" y="1922400"/>
            <a:ext cx="3736800" cy="2627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Los monos y el agua fría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5" name="Picture 2" descr="http://4.bp.blogspot.com/_Srm9fh4YHjY/SLltYkB6ZBI/AAAAAAAAB-g/ickMWdwg7E0/s400/1-monos45.jpg"/>
          <p:cNvPicPr/>
          <p:nvPr/>
        </p:nvPicPr>
        <p:blipFill>
          <a:blip r:embed="rId3"/>
          <a:stretch/>
        </p:blipFill>
        <p:spPr>
          <a:xfrm>
            <a:off x="0" y="1565280"/>
            <a:ext cx="4111560" cy="2928960"/>
          </a:xfrm>
          <a:prstGeom prst="rect">
            <a:avLst/>
          </a:prstGeom>
          <a:ln w="0">
            <a:noFill/>
          </a:ln>
        </p:spPr>
      </p:pic>
      <p:sp>
        <p:nvSpPr>
          <p:cNvPr id="156" name="9 Flecha derecha"/>
          <p:cNvSpPr/>
          <p:nvPr/>
        </p:nvSpPr>
        <p:spPr>
          <a:xfrm>
            <a:off x="4540320" y="285120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11 CuadroTexto"/>
          <p:cNvSpPr/>
          <p:nvPr/>
        </p:nvSpPr>
        <p:spPr>
          <a:xfrm>
            <a:off x="5326200" y="636480"/>
            <a:ext cx="450036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un mono subía la escalera para coger los plátanos, los científicos lanzaban un chorro de agua fría sobre los que quedaban en el suel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2 Flecha derecha"/>
          <p:cNvSpPr/>
          <p:nvPr/>
        </p:nvSpPr>
        <p:spPr>
          <a:xfrm rot="5400000">
            <a:off x="7504560" y="4315320"/>
            <a:ext cx="71424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5 Flecha derecha"/>
          <p:cNvSpPr/>
          <p:nvPr/>
        </p:nvSpPr>
        <p:spPr>
          <a:xfrm rot="10800000">
            <a:off x="4611240" y="5565600"/>
            <a:ext cx="857160" cy="857520"/>
          </a:xfrm>
          <a:prstGeom prst="rightArrow">
            <a:avLst>
              <a:gd name="adj1" fmla="val 4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1" descr="http://s3.amazonaws.com/lcp/gallos-de-marzo/myfiles/Paliza-monos-1.jpg"/>
          <p:cNvPicPr/>
          <p:nvPr/>
        </p:nvPicPr>
        <p:blipFill>
          <a:blip r:embed="rId4"/>
          <a:stretch/>
        </p:blipFill>
        <p:spPr>
          <a:xfrm>
            <a:off x="682560" y="5153040"/>
            <a:ext cx="324792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21 Flecha derecha"/>
          <p:cNvSpPr/>
          <p:nvPr/>
        </p:nvSpPr>
        <p:spPr>
          <a:xfrm rot="16200000">
            <a:off x="2004120" y="4386600"/>
            <a:ext cx="714600" cy="785880"/>
          </a:xfrm>
          <a:prstGeom prst="rightArrow">
            <a:avLst>
              <a:gd name="adj1" fmla="val 50000"/>
              <a:gd name="adj2" fmla="val 533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Distinción de “Paradigm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3" name="Picture 2" descr="http://sepiensa.org.mx/contenidos/2005/s_razasHum/img/razhum_1.jpg"/>
          <p:cNvPicPr/>
          <p:nvPr/>
        </p:nvPicPr>
        <p:blipFill>
          <a:blip r:embed="rId1"/>
          <a:stretch/>
        </p:blipFill>
        <p:spPr>
          <a:xfrm>
            <a:off x="396720" y="1136520"/>
            <a:ext cx="5214960" cy="5380200"/>
          </a:xfrm>
          <a:prstGeom prst="rect">
            <a:avLst/>
          </a:prstGeom>
          <a:ln w="0">
            <a:noFill/>
          </a:ln>
        </p:spPr>
      </p:pic>
      <p:sp>
        <p:nvSpPr>
          <p:cNvPr id="164" name="13 CuadroTexto"/>
          <p:cNvSpPr/>
          <p:nvPr/>
        </p:nvSpPr>
        <p:spPr>
          <a:xfrm>
            <a:off x="5826240" y="1279440"/>
            <a:ext cx="37144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paradig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 conjunto de reg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rigen una determinada disciplina. Estas "reglas" se asumen normalmente como verdades incuestionables y  "universalmente" reconocidas, que durante un tiempo proporcionan modelos de problemas y soluciones para los miembros de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una determinad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Cambio Paradigmático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4 CuadroTexto"/>
          <p:cNvSpPr/>
          <p:nvPr/>
        </p:nvSpPr>
        <p:spPr>
          <a:xfrm>
            <a:off x="539640" y="120816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Los Paradigmas no son buenos ni malos, sino que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deshabilitantes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para lograr un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5 Flecha abajo"/>
          <p:cNvSpPr/>
          <p:nvPr/>
        </p:nvSpPr>
        <p:spPr>
          <a:xfrm>
            <a:off x="3968640" y="235116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396720" y="3486240"/>
            <a:ext cx="89298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ando los Paradigmas existentes no responden a las necesidades actuales, ocurre un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AMBIO PARADIGMÁTICO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7 Flecha abajo"/>
          <p:cNvSpPr/>
          <p:nvPr/>
        </p:nvSpPr>
        <p:spPr>
          <a:xfrm>
            <a:off x="3968640" y="4280040"/>
            <a:ext cx="785880" cy="9284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254160" y="5386320"/>
            <a:ext cx="91440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Solamente Reflexionemos sobre todos los cambios paradigmáticos que hemos vivido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900108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El Paradigma del “Sonido y la Música”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Picture 2" descr="http://www.monografias.com/trabajos30/reproductores-de-musica/Image2304.gif"/>
          <p:cNvPicPr/>
          <p:nvPr/>
        </p:nvPicPr>
        <p:blipFill>
          <a:blip r:embed="rId1"/>
          <a:stretch/>
        </p:blipFill>
        <p:spPr>
          <a:xfrm>
            <a:off x="325440" y="1486080"/>
            <a:ext cx="2500200" cy="1495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monografias.com/trabajos30/reproductores-de-musica/rep1.jpg"/>
          <p:cNvPicPr/>
          <p:nvPr/>
        </p:nvPicPr>
        <p:blipFill>
          <a:blip r:embed="rId2"/>
          <a:stretch/>
        </p:blipFill>
        <p:spPr>
          <a:xfrm>
            <a:off x="3968640" y="1417680"/>
            <a:ext cx="1428840" cy="164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monografias.com/trabajos30/reproductores-de-musica/rep2.jpg"/>
          <p:cNvPicPr/>
          <p:nvPr/>
        </p:nvPicPr>
        <p:blipFill>
          <a:blip r:embed="rId3"/>
          <a:stretch/>
        </p:blipFill>
        <p:spPr>
          <a:xfrm>
            <a:off x="6540480" y="1494000"/>
            <a:ext cx="2028960" cy="150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monografias.com/trabajos30/reproductores-de-musica/rep4.jpg"/>
          <p:cNvPicPr/>
          <p:nvPr/>
        </p:nvPicPr>
        <p:blipFill>
          <a:blip r:embed="rId4"/>
          <a:stretch/>
        </p:blipFill>
        <p:spPr>
          <a:xfrm>
            <a:off x="6754680" y="3762360"/>
            <a:ext cx="221472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http://www.monografias.com/trabajos30/reproductores-de-musica/rep3.jpg"/>
          <p:cNvPicPr/>
          <p:nvPr/>
        </p:nvPicPr>
        <p:blipFill>
          <a:blip r:embed="rId5"/>
          <a:stretch/>
        </p:blipFill>
        <p:spPr>
          <a:xfrm>
            <a:off x="8255160" y="4691160"/>
            <a:ext cx="1214280" cy="80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http://www.monografias.com/trabajos30/reproductores-de-musica/rep5.jpg"/>
          <p:cNvPicPr/>
          <p:nvPr/>
        </p:nvPicPr>
        <p:blipFill>
          <a:blip r:embed="rId6"/>
          <a:stretch/>
        </p:blipFill>
        <p:spPr>
          <a:xfrm>
            <a:off x="3968640" y="3851280"/>
            <a:ext cx="175896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http://www.monografias.com/trabajos30/reproductores-de-musica/rep9.jpg"/>
          <p:cNvPicPr/>
          <p:nvPr/>
        </p:nvPicPr>
        <p:blipFill>
          <a:blip r:embed="rId7"/>
          <a:stretch/>
        </p:blipFill>
        <p:spPr>
          <a:xfrm>
            <a:off x="1539720" y="3494160"/>
            <a:ext cx="1452600" cy="150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http://www.monografias.com/trabajos30/reproductores-de-musica/rep11.jpg"/>
          <p:cNvPicPr/>
          <p:nvPr/>
        </p:nvPicPr>
        <p:blipFill>
          <a:blip r:embed="rId8"/>
          <a:stretch/>
        </p:blipFill>
        <p:spPr>
          <a:xfrm>
            <a:off x="968400" y="6066000"/>
            <a:ext cx="1380960" cy="1141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http://www.monografias.com/trabajos30/reproductores-de-musica/rep13.jpg"/>
          <p:cNvPicPr/>
          <p:nvPr/>
        </p:nvPicPr>
        <p:blipFill>
          <a:blip r:embed="rId9"/>
          <a:stretch/>
        </p:blipFill>
        <p:spPr>
          <a:xfrm>
            <a:off x="3611520" y="5923080"/>
            <a:ext cx="1428840" cy="1393560"/>
          </a:xfrm>
          <a:prstGeom prst="rect">
            <a:avLst/>
          </a:prstGeom>
          <a:ln w="0">
            <a:noFill/>
          </a:ln>
        </p:spPr>
      </p:pic>
      <p:sp>
        <p:nvSpPr>
          <p:cNvPr id="181" name="12 Flecha derecha"/>
          <p:cNvSpPr/>
          <p:nvPr/>
        </p:nvSpPr>
        <p:spPr>
          <a:xfrm>
            <a:off x="296856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3 Flecha derecha"/>
          <p:cNvSpPr/>
          <p:nvPr/>
        </p:nvSpPr>
        <p:spPr>
          <a:xfrm>
            <a:off x="5540400" y="206532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4 Flecha curvada hacia la izquierda"/>
          <p:cNvSpPr/>
          <p:nvPr/>
        </p:nvSpPr>
        <p:spPr>
          <a:xfrm>
            <a:off x="8826480" y="2637000"/>
            <a:ext cx="642960" cy="1428480"/>
          </a:xfrm>
          <a:custGeom>
            <a:avLst/>
            <a:gdLst>
              <a:gd name="textAreaLeft" fmla="*/ 86040 w 642960"/>
              <a:gd name="textAreaRight" fmla="*/ 556920 w 642960"/>
              <a:gd name="textAreaTop" fmla="*/ 296640 h 1428480"/>
              <a:gd name="textAreaBottom" fmla="*/ 105120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3489012"/>
                <a:lnTo>
                  <a:pt x="5400" y="21315"/>
                </a:lnTo>
                <a:lnTo>
                  <a:pt x="0" y="19170"/>
                </a:lnTo>
                <a:lnTo>
                  <a:pt x="5400" y="16455"/>
                </a:lnTo>
                <a:lnTo>
                  <a:pt x="5400" y="17670"/>
                </a:lnTo>
                <a:arcTo wR="21600" hR="8978" stAng="3489012" swAng="-3294052"/>
                <a:lnTo>
                  <a:pt x="21401" y="10193"/>
                </a:lnTo>
                <a:arcTo wR="21600" hR="8978" stAng="-194960" swAng="-5205040"/>
                <a:close/>
              </a:path>
              <a:path fill="darkenLess" w="21600" h="21600">
                <a:moveTo>
                  <a:pt x="0" y="0"/>
                </a:moveTo>
                <a:arcTo wR="21600" hR="8978" stAng="-5400000" swAng="5400000"/>
                <a:lnTo>
                  <a:pt x="21600" y="11408"/>
                </a:lnTo>
                <a:arcTo wR="21600" hR="8978" stAng="0" swAng="-194960"/>
                <a:lnTo>
                  <a:pt x="21401" y="10193"/>
                </a:lnTo>
                <a:arcTo wR="21600" hR="8978" stAng="-194960" swAng="-520504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5 Flecha derecha"/>
          <p:cNvSpPr/>
          <p:nvPr/>
        </p:nvSpPr>
        <p:spPr>
          <a:xfrm rot="10800000">
            <a:off x="5754240" y="442260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http://www.monografias.com/trabajos30/reproductores-de-musica/rep8.jpg"/>
          <p:cNvPicPr/>
          <p:nvPr/>
        </p:nvPicPr>
        <p:blipFill>
          <a:blip r:embed="rId10"/>
          <a:stretch/>
        </p:blipFill>
        <p:spPr>
          <a:xfrm>
            <a:off x="825480" y="4637160"/>
            <a:ext cx="1071720" cy="1057320"/>
          </a:xfrm>
          <a:prstGeom prst="rect">
            <a:avLst/>
          </a:prstGeom>
          <a:ln w="0">
            <a:noFill/>
          </a:ln>
        </p:spPr>
      </p:pic>
      <p:sp>
        <p:nvSpPr>
          <p:cNvPr id="186" name="16 Flecha derecha"/>
          <p:cNvSpPr/>
          <p:nvPr/>
        </p:nvSpPr>
        <p:spPr>
          <a:xfrm rot="10800000">
            <a:off x="3040200" y="4565520"/>
            <a:ext cx="785520" cy="2858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7 Flecha curvada hacia la izquierda"/>
          <p:cNvSpPr/>
          <p:nvPr/>
        </p:nvSpPr>
        <p:spPr>
          <a:xfrm flipH="1">
            <a:off x="142920" y="5208480"/>
            <a:ext cx="611280" cy="1571760"/>
          </a:xfrm>
          <a:custGeom>
            <a:avLst/>
            <a:gdLst>
              <a:gd name="textAreaLeft" fmla="*/ 81720 w 611280"/>
              <a:gd name="textAreaRight" fmla="*/ 529560 w 611280"/>
              <a:gd name="textAreaTop" fmla="*/ 335520 h 1571760"/>
              <a:gd name="textAreaBottom" fmla="*/ 115992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3530663"/>
                <a:lnTo>
                  <a:pt x="5400" y="21307"/>
                </a:lnTo>
                <a:lnTo>
                  <a:pt x="0" y="19500"/>
                </a:lnTo>
                <a:lnTo>
                  <a:pt x="5400" y="17107"/>
                </a:lnTo>
                <a:lnTo>
                  <a:pt x="5400" y="18157"/>
                </a:lnTo>
                <a:arcTo wR="21600" hR="9225" stAng="3530663" swAng="-3362591"/>
                <a:lnTo>
                  <a:pt x="21460" y="10275"/>
                </a:lnTo>
                <a:arcTo wR="21600" hR="9225" stAng="-168072" swAng="-5231928"/>
                <a:close/>
              </a:path>
              <a:path fill="darkenLess" w="21600" h="21600">
                <a:moveTo>
                  <a:pt x="0" y="0"/>
                </a:moveTo>
                <a:arcTo wR="21600" hR="9225" stAng="-5400000" swAng="5400000"/>
                <a:lnTo>
                  <a:pt x="21600" y="11325"/>
                </a:lnTo>
                <a:arcTo wR="21600" hR="9225" stAng="0" swAng="-168072"/>
                <a:lnTo>
                  <a:pt x="21460" y="10275"/>
                </a:lnTo>
                <a:arcTo wR="21600" hR="9225" stAng="-168072" swAng="-523192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18 Flecha derecha"/>
          <p:cNvSpPr/>
          <p:nvPr/>
        </p:nvSpPr>
        <p:spPr>
          <a:xfrm>
            <a:off x="2540160" y="6566040"/>
            <a:ext cx="785520" cy="2854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19 CuadroTexto"/>
          <p:cNvSpPr/>
          <p:nvPr/>
        </p:nvSpPr>
        <p:spPr>
          <a:xfrm>
            <a:off x="1539720" y="28512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895 - 193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0 CuadroTexto"/>
          <p:cNvSpPr/>
          <p:nvPr/>
        </p:nvSpPr>
        <p:spPr>
          <a:xfrm>
            <a:off x="4683240" y="3003480"/>
            <a:ext cx="14284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30 - 195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21 CuadroTexto"/>
          <p:cNvSpPr/>
          <p:nvPr/>
        </p:nvSpPr>
        <p:spPr>
          <a:xfrm>
            <a:off x="6826320" y="29941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55 - 197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22 CuadroTexto"/>
          <p:cNvSpPr/>
          <p:nvPr/>
        </p:nvSpPr>
        <p:spPr>
          <a:xfrm>
            <a:off x="7326360" y="556560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75 - 198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23 CuadroTexto"/>
          <p:cNvSpPr/>
          <p:nvPr/>
        </p:nvSpPr>
        <p:spPr>
          <a:xfrm>
            <a:off x="4897440" y="549432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85 - 199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24 CuadroTexto"/>
          <p:cNvSpPr/>
          <p:nvPr/>
        </p:nvSpPr>
        <p:spPr>
          <a:xfrm>
            <a:off x="1968480" y="506556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1993 - 200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25 CuadroTexto"/>
          <p:cNvSpPr/>
          <p:nvPr/>
        </p:nvSpPr>
        <p:spPr>
          <a:xfrm>
            <a:off x="196848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0 - 200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26 CuadroTexto"/>
          <p:cNvSpPr/>
          <p:nvPr/>
        </p:nvSpPr>
        <p:spPr>
          <a:xfrm>
            <a:off x="5040360" y="6994440"/>
            <a:ext cx="14288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10-04-04T16:44:30Z</dcterms:modified>
  <cp:revision>8</cp:revision>
  <dc:subject/>
  <dc:title>Diapositiva 1</dc:title>
</cp:coreProperties>
</file>