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F84-D901-4C63-8D97-FCF5A485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931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280" y="4012200"/>
            <a:ext cx="7931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AA5-B4E7-43E9-B0AD-5EE700B1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280" y="401220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9680" y="401220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06C-873A-4A60-8528-EC9EC8F7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6920" y="170028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8200" y="170028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280" y="401220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6920" y="401220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8200" y="401220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647-AD78-4078-A1B9-A3E3EAA1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93116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B4F-34E5-4CF6-8AEB-8AF09573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93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666-099E-432F-BF35-7109F821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FDD-D5E2-4022-9FC2-0D85EEC0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C73D-D00E-4D02-AF88-0875DE9F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2BD-56AE-4B19-BD4E-5939556B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280" y="401220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0FE0-AFC1-4B67-AB13-257CAB20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9680" y="401220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1C85-334F-41F7-BFC7-77DBF8E2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280" y="4012200"/>
            <a:ext cx="7931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9B7-1D94-464E-9FD7-E26D90EF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studiantes"/>
          <p:cNvPicPr/>
          <p:nvPr/>
        </p:nvPicPr>
        <p:blipFill>
          <a:blip r:embed="rId2"/>
          <a:stretch/>
        </p:blipFill>
        <p:spPr>
          <a:xfrm>
            <a:off x="468360" y="1549440"/>
            <a:ext cx="8207280" cy="4467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280" y="1700280"/>
            <a:ext cx="793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8997-25E2-4086-937F-FBB732695A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logo DII"/>
          <p:cNvPicPr/>
          <p:nvPr/>
        </p:nvPicPr>
        <p:blipFill>
          <a:blip r:embed="rId3"/>
          <a:stretch/>
        </p:blipFill>
        <p:spPr>
          <a:xfrm>
            <a:off x="5867280" y="6093000"/>
            <a:ext cx="25923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7280" y="98100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0000"/>
                </a:solidFill>
                <a:latin typeface="Arial"/>
              </a:rPr>
              <a:t>Taller de Ingeniería Industrial I</a:t>
            </a:r>
            <a:endParaRPr b="0" lang="en-US" sz="4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7964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f. Ricardo San Martín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Arial"/>
              </a:rPr>
              <a:t>Ingeniería Industrial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400" y="1700280"/>
            <a:ext cx="84294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lgunas 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esión en la que se aplic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uiciosament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conocimiento de las ciencias matemáticas y naturales obtenidos mediante el estudio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eriencia y la prác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con el fin de determinar las maneras de utiliza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conómicament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los materiales y las fuerzas de la naturaleza en bien de la humanidad y en form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é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que se ocupa del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eñ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joramient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lant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 sistemas integrado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perso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materiales, equipos y energía. Se vale de los conocimientos y posibilidades especiales de las ciencias matemáticas, física y sociales, junto con los principios y métodos del análisis y los diseños de ingeniería, para especificar, presidir y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luar los resultad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e se obtendrán de dichos siste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9"/>
          <p:cNvGrpSpPr/>
          <p:nvPr/>
        </p:nvGrpSpPr>
        <p:grpSpPr>
          <a:xfrm>
            <a:off x="428760" y="857160"/>
            <a:ext cx="8319960" cy="4643640"/>
            <a:chOff x="428760" y="857160"/>
            <a:chExt cx="8319960" cy="4643640"/>
          </a:xfrm>
        </p:grpSpPr>
        <p:sp>
          <p:nvSpPr>
            <p:cNvPr id="48" name="Oval 3"/>
            <p:cNvSpPr/>
            <p:nvPr/>
          </p:nvSpPr>
          <p:spPr>
            <a:xfrm>
              <a:off x="39420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>
              <a:off x="27846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>
              <a:off x="3362400" y="20397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>
              <a:off x="39420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>
              <a:off x="27846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>
              <a:off x="3362400" y="20397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9"/>
            <p:cNvSpPr/>
            <p:nvPr/>
          </p:nvSpPr>
          <p:spPr>
            <a:xfrm>
              <a:off x="391068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0"/>
            <p:cNvSpPr/>
            <p:nvPr/>
          </p:nvSpPr>
          <p:spPr>
            <a:xfrm>
              <a:off x="27846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1"/>
            <p:cNvSpPr/>
            <p:nvPr/>
          </p:nvSpPr>
          <p:spPr>
            <a:xfrm>
              <a:off x="3362400" y="20397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2"/>
            <p:cNvSpPr/>
            <p:nvPr/>
          </p:nvSpPr>
          <p:spPr>
            <a:xfrm>
              <a:off x="2990520" y="1234440"/>
              <a:ext cx="1446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l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3"/>
            <p:cNvSpPr/>
            <p:nvPr/>
          </p:nvSpPr>
          <p:spPr>
            <a:xfrm>
              <a:off x="4649040" y="1236600"/>
              <a:ext cx="1446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ogn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3606480" y="3224880"/>
              <a:ext cx="210816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Habil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428760" y="1708200"/>
              <a:ext cx="2272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Intereses 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Preocup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7"/>
            <p:cNvSpPr/>
            <p:nvPr/>
          </p:nvSpPr>
          <p:spPr>
            <a:xfrm>
              <a:off x="3032640" y="4783320"/>
              <a:ext cx="280980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Gestión del Proye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Dirección del Proye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8"/>
            <p:cNvSpPr/>
            <p:nvPr/>
          </p:nvSpPr>
          <p:spPr>
            <a:xfrm>
              <a:off x="6370920" y="1305360"/>
              <a:ext cx="237780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Diseñ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Model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Implement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Ope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Arial"/>
              </a:rPr>
              <a:t>Un poco de historia….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99680" y="1700280"/>
            <a:ext cx="83581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Depto. Ingeniería Industrial (DII) fue fundado en la década de los 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Fue creada con una fuerte componente de relación con la “Industria” y en particular con la manufactur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la actualidad esta relacionada con todos los ámbitos de la economía (servicios, gubernamental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Arial"/>
              </a:rPr>
              <a:t>Campo Laboral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55280" y="1356840"/>
            <a:ext cx="7931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Áreas Comerciales, de Finanzas, de Operaciones, de RR.HH, Desarrollo e Innovación en distintas industrias (Bancaria, Investigación de Mercados, Industria Manufacturera y de Servicios, Ministerios gubernamental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Área Empresarial y/o de 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Área de Investigación y/o Acadé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55280" y="731520"/>
            <a:ext cx="79311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Un egresado(a) de la especialidad de Ingeniería Industrial del DII debería poseer los siguientes atribu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Un desarrollado pensamiento racional. Sabe discriminar entre los datos disponibles la información útil para identificar y resolver problemas complejos, tanto en el trabajo como en la vida. Se basa en habilidades cuantitativas robustas, pero también cuenta con la habilidad de manejar la complejidad y la ambigüe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Sólidos conocimientos en las áreas funcionales de la gestión - operaciones, marketing, finanzas y RR.HH. También posee una formación económica y tecnológica, aplicando la capacidad de modelamiento matemático y estadístico a problemas de gestión y economí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Capacidad de relacionar sus conocimientos con los problemas que enfrenta. Es intelectualmente curioso y está motivado para mantener un proceso de aprendizaje continuo y de por vid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Mostrar cualidades y valores, honestidad, tolerancia y rigor. Estas cualidades le permiten razonar en forma crítica, y tener un punto de vista propio en temas éticos y morales. La confianza en sus medios lo hace adaptable a los camb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Al balancear reflexión y acción, debería estar ligeramente inclinado a la acción y a aprender de la experienc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Es capaz de comunicarse en forma clara y efectiva, lo que unido a lo anterior, lo hace trabajar bien con otros (en múltiples roles) y hacer una contribución sustancial al objetivo comú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7:51:38Z</dcterms:created>
  <dc:creator>Karen Gutierrez</dc:creator>
  <dc:description/>
  <dc:language>en-US</dc:language>
  <cp:lastModifiedBy>Ricardo San Martin</cp:lastModifiedBy>
  <dcterms:modified xsi:type="dcterms:W3CDTF">2010-03-31T03:41:02Z</dcterms:modified>
  <cp:revision>37</cp:revision>
  <dc:subject/>
  <dc:title>INTRODUCCIÓN A LOS TALLERES DE TÍTULO</dc:title>
</cp:coreProperties>
</file>