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712-762A-48C3-8D3F-A7335321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280" y="401220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CBD-CABB-4806-B0E5-4899CA28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96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205-F0BD-4C9A-9035-14B15982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692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820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28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692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820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B05-856D-4166-BACB-E5CF0851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E2B-9F28-40A8-BE31-E6D7238F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32C-1D61-4D40-88DA-BD654C51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867-3028-46D0-A213-0F9829CA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CE2-5FDA-45B8-9E2D-268264F6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7D4-67BD-4D64-83F4-8371E2B2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5DC-6B09-4248-8496-BB0A3650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96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345-B1BF-45DF-8291-D1C8D3D7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BFD-CF88-4C98-8D7D-13E209B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studiantes"/>
          <p:cNvPicPr/>
          <p:nvPr/>
        </p:nvPicPr>
        <p:blipFill>
          <a:blip r:embed="rId2"/>
          <a:stretch/>
        </p:blipFill>
        <p:spPr>
          <a:xfrm>
            <a:off x="468360" y="1549440"/>
            <a:ext cx="8207280" cy="4467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5E75-1704-40EE-AADE-EC3AA7F618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logo DII"/>
          <p:cNvPicPr/>
          <p:nvPr/>
        </p:nvPicPr>
        <p:blipFill>
          <a:blip r:embed="rId3"/>
          <a:stretch/>
        </p:blipFill>
        <p:spPr>
          <a:xfrm>
            <a:off x="5867280" y="6093000"/>
            <a:ext cx="25923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280" y="98100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Arial"/>
              </a:rPr>
              <a:t>Taller de Ingeniería Industrial I</a:t>
            </a:r>
            <a:endParaRPr b="0" lang="en-US" sz="4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7964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f. Ricardo San Martín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Ingeniería Industrial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1700280"/>
            <a:ext cx="84294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gunas 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ión en la que se aplic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uiciosament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onocimiento de las ciencias matemáticas y naturales obtenidos mediante el estudio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eriencia y la prác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con el fin de determinar las maneras de utiliz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conómicament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los materiales y las fuerzas de la naturaleza en bien de la humanidad y en form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é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que se ocupa d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eñ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joramien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ant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sistemas integrado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perso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materiales, equipos y energía. Se vale de los conocimientos y posibilidades especiales de las ciencias matemáticas, física y sociales, junto con los principios y métodos del análisis y los diseños de ingeniería, para especificar, presidir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luar los resultad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se obtendrán de dichos siste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9"/>
          <p:cNvGrpSpPr/>
          <p:nvPr/>
        </p:nvGrpSpPr>
        <p:grpSpPr>
          <a:xfrm>
            <a:off x="428760" y="857160"/>
            <a:ext cx="8319960" cy="4643640"/>
            <a:chOff x="428760" y="857160"/>
            <a:chExt cx="8319960" cy="4643640"/>
          </a:xfrm>
        </p:grpSpPr>
        <p:sp>
          <p:nvSpPr>
            <p:cNvPr id="48" name="Oval 3"/>
            <p:cNvSpPr/>
            <p:nvPr/>
          </p:nvSpPr>
          <p:spPr>
            <a:xfrm>
              <a:off x="39420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>
              <a:off x="39420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9"/>
            <p:cNvSpPr/>
            <p:nvPr/>
          </p:nvSpPr>
          <p:spPr>
            <a:xfrm>
              <a:off x="391068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1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2"/>
            <p:cNvSpPr/>
            <p:nvPr/>
          </p:nvSpPr>
          <p:spPr>
            <a:xfrm>
              <a:off x="2990520" y="1234440"/>
              <a:ext cx="1446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3"/>
            <p:cNvSpPr/>
            <p:nvPr/>
          </p:nvSpPr>
          <p:spPr>
            <a:xfrm>
              <a:off x="4649040" y="1236600"/>
              <a:ext cx="1446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ogn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3606480" y="3224880"/>
              <a:ext cx="210816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abil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428760" y="1708200"/>
              <a:ext cx="2272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Intereses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Preocup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7"/>
            <p:cNvSpPr/>
            <p:nvPr/>
          </p:nvSpPr>
          <p:spPr>
            <a:xfrm>
              <a:off x="3032640" y="4783320"/>
              <a:ext cx="28098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Gestión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Dirección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8"/>
            <p:cNvSpPr/>
            <p:nvPr/>
          </p:nvSpPr>
          <p:spPr>
            <a:xfrm>
              <a:off x="6370920" y="1305360"/>
              <a:ext cx="23778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Dise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Model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Implement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Un poco de historia….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9680" y="1700280"/>
            <a:ext cx="83581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pto. Ingeniería Industrial (DII) fue fundado en la década de los 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ue creada con una fuerte componente de relación con la “Industria” y en particular con la manufactur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la actualidad esta relacionada con todos los ámbitos de la economía (servicios, gubernamental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Campo Laboral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5280" y="1356840"/>
            <a:ext cx="7931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reas Comerciales, de Finanzas, de Operaciones, de RR.HH, Desarrollo e Innovación en distintas industrias (Bancaria, Investigación de Mercados, Industria Manufacturera y de Servicios, Ministerios gubernamenta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Área Empresarial y/o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Área de Investigación y/o Acadé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55280" y="731520"/>
            <a:ext cx="79311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Un egresado(a) de la especialidad de Ingeniería Industrial del DII debería poseer los siguientes atribu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Un desarrollado pensamiento racional. Sabe discriminar entre los datos disponibles la información útil para identificar y resolver problemas complejos, tanto en el trabajo como en la vida. Se basa en habilidades cuantitativas robustas, pero también cuenta con la habilidad de manejar la complejidad y la ambigü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ólidos conocimientos en las áreas funcionales de la gestión - operaciones, marketing, finanzas y RR.HH. También posee una formación económica y tecnológica, aplicando la capacidad de modelamiento matemático y estadístico a problemas de gestión y economí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Capacidad de relacionar sus conocimientos con los problemas que enfrenta. Es intelectualmente curioso y está motivado para mantener un proceso de aprendizaje continuo y de por vi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Mostrar cualidades y valores, honestidad, tolerancia y rigor. Estas cualidades le permiten razonar en forma crítica, y tener un punto de vista propio en temas éticos y morales. La confianza en sus medios lo hace adaptable a los camb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Al balancear reflexión y acción, debería estar ligeramente inclinado a la acción y a aprender de la experienc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Es capaz de comunicarse en forma clara y efectiva, lo que unido a lo anterior, lo hace trabajar bien con otros (en múltiples roles) y hacer una contribución sustancial al objetivo comú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51:38Z</dcterms:created>
  <dc:creator>Karen Gutierrez</dc:creator>
  <dc:description/>
  <dc:language>en-US</dc:language>
  <cp:lastModifiedBy>Ricardo San Martin</cp:lastModifiedBy>
  <dcterms:modified xsi:type="dcterms:W3CDTF">2010-03-31T03:41:02Z</dcterms:modified>
  <cp:revision>37</cp:revision>
  <dc:subject/>
  <dc:title>INTRODUCCIÓN A LOS TALLERES DE TÍTULO</dc:title>
</cp:coreProperties>
</file>