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780-FE6C-4C6D-8CC3-5EAA9F68C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E31-9F16-4868-8C68-62C2DC13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64B3-FC91-4CB8-B1E4-ED0893ED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692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18200" y="170028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28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692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18200" y="4012200"/>
            <a:ext cx="25534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8B5-5993-45CD-9F43-66F29FF0C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2A8-07FE-4D5F-A8CE-941F159A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86A7-5E36-4B92-932C-802E1EB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B06A-A6C3-41E2-9803-AFDA616A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88C0-52CF-4215-9972-CBCB3B55B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775-7358-49CD-8C39-FA55AB38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8339-2726-44D1-9F32-4A2D2CE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9680" y="401220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4D-0687-4DC3-A7F2-CCF1F4A9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9680" y="1700280"/>
            <a:ext cx="38703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280" y="4012200"/>
            <a:ext cx="7931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406A-C6FB-450A-A0AA-6EA2975F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studiantes"/>
          <p:cNvPicPr/>
          <p:nvPr/>
        </p:nvPicPr>
        <p:blipFill>
          <a:blip r:embed="rId2"/>
          <a:stretch/>
        </p:blipFill>
        <p:spPr>
          <a:xfrm>
            <a:off x="468360" y="1549440"/>
            <a:ext cx="8207280" cy="4467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280" y="1700280"/>
            <a:ext cx="793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8862-BF39-479A-AF5E-A2D69C1EA1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logo DII"/>
          <p:cNvPicPr/>
          <p:nvPr/>
        </p:nvPicPr>
        <p:blipFill>
          <a:blip r:embed="rId3"/>
          <a:stretch/>
        </p:blipFill>
        <p:spPr>
          <a:xfrm>
            <a:off x="5867280" y="6093000"/>
            <a:ext cx="25923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47280" y="981000"/>
            <a:ext cx="62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cc0000"/>
                </a:solidFill>
                <a:latin typeface="Arial"/>
              </a:rPr>
              <a:t>Taller de Ingeniería Industrial I</a:t>
            </a:r>
            <a:endParaRPr b="0" lang="en-US" sz="4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7964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. Ricardo San Martín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Ingeniería Industri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28400" y="1700280"/>
            <a:ext cx="84294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gunas defin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fesión en la que se aplic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iciosament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conocimiento de las ciencias matemáticas y naturales obtenidos mediante el estudio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eriencia y la prác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con el fin de determinar las maneras de utiliz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conómicament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los materiales y las fuerzas de la naturaleza en bien de la humanidad y en form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étic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que se ocupa 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joramient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an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de sistemas integrado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person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materiales, equipos y energía. Se vale de los conocimientos y posibilidades especiales de las ciencias matemáticas, física y sociales, junto con los principios y métodos del análisis y los diseños de ingeniería, para especificar, presidir y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luar los resultad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ue se obtendrán de dichos siste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9"/>
          <p:cNvGrpSpPr/>
          <p:nvPr/>
        </p:nvGrpSpPr>
        <p:grpSpPr>
          <a:xfrm>
            <a:off x="428760" y="857160"/>
            <a:ext cx="8319960" cy="4643640"/>
            <a:chOff x="428760" y="857160"/>
            <a:chExt cx="8319960" cy="4643640"/>
          </a:xfrm>
        </p:grpSpPr>
        <p:sp>
          <p:nvSpPr>
            <p:cNvPr id="48" name="Oval 3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>
              <a:off x="39420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9"/>
            <p:cNvSpPr/>
            <p:nvPr/>
          </p:nvSpPr>
          <p:spPr>
            <a:xfrm>
              <a:off x="391068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0"/>
            <p:cNvSpPr/>
            <p:nvPr/>
          </p:nvSpPr>
          <p:spPr>
            <a:xfrm>
              <a:off x="2784600" y="8571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1"/>
            <p:cNvSpPr/>
            <p:nvPr/>
          </p:nvSpPr>
          <p:spPr>
            <a:xfrm>
              <a:off x="3362400" y="2039760"/>
              <a:ext cx="2108160" cy="2365560"/>
            </a:xfrm>
            <a:prstGeom prst="ellipse">
              <a:avLst/>
            </a:prstGeom>
            <a:solidFill>
              <a:srgbClr val="9999cc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2990520" y="123444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l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13"/>
            <p:cNvSpPr/>
            <p:nvPr/>
          </p:nvSpPr>
          <p:spPr>
            <a:xfrm>
              <a:off x="4649040" y="1236600"/>
              <a:ext cx="144684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ogn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4"/>
            <p:cNvSpPr/>
            <p:nvPr/>
          </p:nvSpPr>
          <p:spPr>
            <a:xfrm>
              <a:off x="3606480" y="3224880"/>
              <a:ext cx="210816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Habilida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428760" y="1708200"/>
              <a:ext cx="22723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ntereses 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Preocupac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7"/>
            <p:cNvSpPr/>
            <p:nvPr/>
          </p:nvSpPr>
          <p:spPr>
            <a:xfrm>
              <a:off x="3032640" y="4783320"/>
              <a:ext cx="280980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Gest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rección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8"/>
            <p:cNvSpPr/>
            <p:nvPr/>
          </p:nvSpPr>
          <p:spPr>
            <a:xfrm>
              <a:off x="6370920" y="1305360"/>
              <a:ext cx="237780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Diseñ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Modela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Implement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333366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Un poco de historia….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9680" y="1700280"/>
            <a:ext cx="83581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pto. Ingeniería Industrial (DII) fue fundado en la década de los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ue creada con una fuerte componente de relación con la “Industria” y en particular con la manufactu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 la actualidad esta relacionada con todos los ámbitos de la economía (servicios, gubernamenta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Arial"/>
              </a:rPr>
              <a:t>Campo Laboral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755280" y="1356840"/>
            <a:ext cx="7931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Comerciales, de Finanzas, de Operaciones, de RR.HH, Desarrollo e Innovación en distintas industrias (Bancaria, Investigación de Mercados, Industria Manufacturera y de Servicios, Ministerios gubernamental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Empresarial y/o de Innov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Área de Investigación y/o Acadé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55280" y="731520"/>
            <a:ext cx="79311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Un egresado(a) de la especialidad de Ingeniería Industrial del DII debería poseer los siguientes atribu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Un desarrollado pensamiento racional. Sabe discriminar entre los datos disponibles la información útil para identificar y resolver problemas complejos, tanto en el trabajo como en la vida. Se basa en habilidades cuantitativas robustas, pero también cuenta con la habilidad de manejar la complejidad y la ambigü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Sólidos conocimientos en las áreas funcionales de la gestión - operaciones, marketing, finanzas y RR.HH. También posee una formación económica y tecnológica, aplicando la capacidad de modelamiento matemático y estadístico a problemas de gestión y economí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Capacidad de relacionar sus conocimientos con los problemas que enfrenta. Es intelectualmente curioso y está motivado para mantener un proceso de aprendizaje continuo y de por vid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Mostrar cualidades y valores, honestidad, tolerancia y rigor. Estas cualidades le permiten razonar en forma crítica, y tener un punto de vista propio en temas éticos y morales. La confianza en sus medios lo hace adaptable a los cambi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Al balancear reflexión y acción, debería estar ligeramente inclinado a la acción y a aprender de la experienc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s-CL" sz="1200" spc="-1" strike="noStrike">
                <a:solidFill>
                  <a:srgbClr val="000000"/>
                </a:solidFill>
                <a:latin typeface="Arial"/>
              </a:rPr>
              <a:t>Es capaz de comunicarse en forma clara y efectiva, lo que unido a lo anterior, lo hace trabajar bien con otros (en múltiples roles) y hacer una contribución sustancial al objetivo comú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7:51:38Z</dcterms:created>
  <dc:creator>Karen Gutierrez</dc:creator>
  <dc:description/>
  <dc:language>en-US</dc:language>
  <cp:lastModifiedBy>Ricardo San Martin</cp:lastModifiedBy>
  <dcterms:modified xsi:type="dcterms:W3CDTF">2010-03-31T03:41:02Z</dcterms:modified>
  <cp:revision>37</cp:revision>
  <dc:subject/>
  <dc:title>INTRODUCCIÓN A LOS TALLERES DE TÍTULO</dc:title>
</cp:coreProperties>
</file>