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15E-A10F-4EC7-9691-0BD0FBEB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4CA-C142-41AA-8DE2-27E44CF1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B2A-0454-49B4-92BD-ED0D7903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692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820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692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820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431-6EB7-497A-A421-4C4E1DD5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DEE-A8D1-4641-B7CB-310D1174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D15-ACA0-4C14-AA26-B38D3C50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7CA-F3AD-482D-8A2F-4F911EC7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A1BF-D7DB-4A93-8627-5B26B344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66C-367B-4A29-96DE-27190FFD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A49-EF82-4BC1-96CF-50A4CA4C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B4B-35B6-4C47-B5E4-0B4B04B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264-4FAE-4ADF-88BF-EF137EC6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tudiantes"/>
          <p:cNvPicPr/>
          <p:nvPr/>
        </p:nvPicPr>
        <p:blipFill>
          <a:blip r:embed="rId2"/>
          <a:stretch/>
        </p:blipFill>
        <p:spPr>
          <a:xfrm>
            <a:off x="468360" y="1549440"/>
            <a:ext cx="8207280" cy="446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CE1D-A061-4688-AB37-0C8093EF15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logo DII"/>
          <p:cNvPicPr/>
          <p:nvPr/>
        </p:nvPicPr>
        <p:blipFill>
          <a:blip r:embed="rId3"/>
          <a:stretch/>
        </p:blipFill>
        <p:spPr>
          <a:xfrm>
            <a:off x="5867280" y="6093000"/>
            <a:ext cx="25923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98100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Arial"/>
              </a:rPr>
              <a:t>Taller de Ingeniería Industrial I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. Ricardo San Martín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Ingeniería Industri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700280"/>
            <a:ext cx="84294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unas 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ón en la que se aplic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iciosament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ocimiento de las ciencias matemáticas y naturales obtenidos mediante el estudi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eriencia y la prác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n el fin de determinar las maneras de utiliz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nómicame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materiales y las fuerzas de la naturaleza en bien de la humanidad y en for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que se ocup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jora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an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sistemas integrad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ers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materiales, equipos y energía. Se vale de los conocimientos y posibilidades especiales de las ciencias matemáticas, física y sociales, junto con los principios y métodos del análisis y los diseños de ingeniería, para especificar, presidir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luar los resulta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obtendrán de dich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9"/>
          <p:cNvGrpSpPr/>
          <p:nvPr/>
        </p:nvGrpSpPr>
        <p:grpSpPr>
          <a:xfrm>
            <a:off x="428760" y="857160"/>
            <a:ext cx="8319960" cy="4643640"/>
            <a:chOff x="428760" y="857160"/>
            <a:chExt cx="8319960" cy="4643640"/>
          </a:xfrm>
        </p:grpSpPr>
        <p:sp>
          <p:nvSpPr>
            <p:cNvPr id="48" name="Oval 3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391068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990520" y="123444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4649040" y="123660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ogn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3606480" y="3224880"/>
              <a:ext cx="2108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a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28760" y="1708200"/>
              <a:ext cx="2272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nterese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Preocup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032640" y="4783320"/>
              <a:ext cx="2809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Gest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recc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70920" y="1305360"/>
              <a:ext cx="2377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Model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mplem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Un poco de historia….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00280"/>
            <a:ext cx="83581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pto. Ingeniería Industrial (DII) fue fundado en la década de lo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ue creada con una fuerte componente de relación con la “Industria” y en particular con la manufactu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actualidad esta relacionada con todos los ámbitos de la economía (servicios, gubernament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Campo Labor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356840"/>
            <a:ext cx="7931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Comerciales, de Finanzas, de Operaciones, de RR.HH, Desarrollo e Innovación en distintas industrias (Bancaria, Investigación de Mercados, Industria Manufacturera y de Servicios, Ministerios gubernament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Empresarial y/o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de Investigación y/o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731520"/>
            <a:ext cx="7931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n egresado(a) de la especialidad de Ingeniería Industrial del DII debería poseer los siguientes atribu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Un desarrollado pensamiento racional. Sabe discriminar entre los datos disponibles la información útil para identificar y resolver problemas complejos, tanto en el trabajo como en la vida. Se basa en habilidades cuantitativas robustas, pero también cuenta con la habilidad de manejar la complejidad y la ambigü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ólidos conocimientos en las áreas funcionales de la gestión - operaciones, marketing, finanzas y RR.HH. También posee una formación económica y tecnológica, aplicando la capacidad de modelamiento matemático y estadístico a problemas de gestión y econom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Capacidad de relacionar sus conocimientos con los problemas que enfrenta. Es intelectualmente curioso y está motivado para mantener un proceso de aprendizaje continuo y de por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Mostrar cualidades y valores, honestidad, tolerancia y rigor. Estas cualidades le permiten razonar en forma crítica, y tener un punto de vista propio en temas éticos y morales. La confianza en sus medios lo hace adaptable a los camb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Al balancear reflexión y acción, debería estar ligeramente inclinado a la acción y a aprender de la experi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s capaz de comunicarse en forma clara y efectiva, lo que unido a lo anterior, lo hace trabajar bien con otros (en múltiples roles) y hacer una contribución sustancial al objetiv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51:38Z</dcterms:created>
  <dc:creator>Karen Gutierrez</dc:creator>
  <dc:description/>
  <dc:language>en-US</dc:language>
  <cp:lastModifiedBy>Ricardo San Martin</cp:lastModifiedBy>
  <dcterms:modified xsi:type="dcterms:W3CDTF">2010-03-31T03:41:02Z</dcterms:modified>
  <cp:revision>37</cp:revision>
  <dc:subject/>
  <dc:title>INTRODUCCIÓN A LOS TALLERES DE TÍTULO</dc:title>
</cp:coreProperties>
</file>