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3FF-4254-4A1A-8EFB-6C412098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BD5-ACE6-4120-AE0B-DB1E8B9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2C5-0E61-4478-9A83-830C0FF5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692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820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692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820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94C-AF63-4FE1-9787-7775FC5C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417-49E7-4DF3-AC66-8E1B5BF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54F-0F04-4BE3-B0D9-76CC44F4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F6D-FB7D-4FC4-942D-1792D26B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7C1-11B8-4D4C-BA76-6592DF5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2A5-8FE5-4E4C-A11E-65F357C6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03F-C603-4183-8D40-62DA6AA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837-B104-49A6-92ED-C4A2DC10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196-0A2D-4B06-B4AE-B7B800ED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tudiantes"/>
          <p:cNvPicPr/>
          <p:nvPr/>
        </p:nvPicPr>
        <p:blipFill>
          <a:blip r:embed="rId2"/>
          <a:stretch/>
        </p:blipFill>
        <p:spPr>
          <a:xfrm>
            <a:off x="468360" y="1549440"/>
            <a:ext cx="8207280" cy="446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E64-2120-4348-8509-F7C0E8B10B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logo DII"/>
          <p:cNvPicPr/>
          <p:nvPr/>
        </p:nvPicPr>
        <p:blipFill>
          <a:blip r:embed="rId3"/>
          <a:stretch/>
        </p:blipFill>
        <p:spPr>
          <a:xfrm>
            <a:off x="5867280" y="6093000"/>
            <a:ext cx="25923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98100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Arial"/>
              </a:rPr>
              <a:t>Taller de Ingeniería Industrial I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. Ricardo San Martín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Ingeniería Industri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700280"/>
            <a:ext cx="84294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unas 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ón en la que se aplic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iciosament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ocimiento de las ciencias matemáticas y naturales obtenidos mediante el estudi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eriencia y la prác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n el fin de determinar las maneras de utiliz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nómicame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materiales y las fuerzas de la naturaleza en bien de la humanidad y en for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que se ocup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jora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an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sistemas integrad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ers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materiales, equipos y energía. Se vale de los conocimientos y posibilidades especiales de las ciencias matemáticas, física y sociales, junto con los principios y métodos del análisis y los diseños de ingeniería, para especificar, presidir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luar los resulta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obtendrán de dich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9"/>
          <p:cNvGrpSpPr/>
          <p:nvPr/>
        </p:nvGrpSpPr>
        <p:grpSpPr>
          <a:xfrm>
            <a:off x="428760" y="857160"/>
            <a:ext cx="8319960" cy="4643640"/>
            <a:chOff x="428760" y="857160"/>
            <a:chExt cx="8319960" cy="4643640"/>
          </a:xfrm>
        </p:grpSpPr>
        <p:sp>
          <p:nvSpPr>
            <p:cNvPr id="48" name="Oval 3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391068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990520" y="123444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4649040" y="123660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ogn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3606480" y="3224880"/>
              <a:ext cx="2108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a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28760" y="1708200"/>
              <a:ext cx="2272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nterese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Preocup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032640" y="4783320"/>
              <a:ext cx="2809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Gest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recc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70920" y="1305360"/>
              <a:ext cx="2377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Model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mplem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Un poco de historia….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00280"/>
            <a:ext cx="83581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pto. Ingeniería Industrial (DII) fue fundado en la década de lo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ue creada con una fuerte componente de relación con la “Industria” y en particular con la manufactu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actualidad esta relacionada con todos los ámbitos de la economía (servicios, gubernament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Campo Labor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356840"/>
            <a:ext cx="7931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Comerciales, de Finanzas, de Operaciones, de RR.HH, Desarrollo e Innovación en distintas industrias (Bancaria, Investigación de Mercados, Industria Manufacturera y de Servicios, Ministerios gubernament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Empresarial y/o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de Investigación y/o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731520"/>
            <a:ext cx="7931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n egresado(a) de la especialidad de Ingeniería Industrial del DII debería poseer los siguientes atribu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Un desarrollado pensamiento racional. Sabe discriminar entre los datos disponibles la información útil para identificar y resolver problemas complejos, tanto en el trabajo como en la vida. Se basa en habilidades cuantitativas robustas, pero también cuenta con la habilidad de manejar la complejidad y la ambigü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ólidos conocimientos en las áreas funcionales de la gestión - operaciones, marketing, finanzas y RR.HH. También posee una formación económica y tecnológica, aplicando la capacidad de modelamiento matemático y estadístico a problemas de gestión y econom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Capacidad de relacionar sus conocimientos con los problemas que enfrenta. Es intelectualmente curioso y está motivado para mantener un proceso de aprendizaje continuo y de por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Mostrar cualidades y valores, honestidad, tolerancia y rigor. Estas cualidades le permiten razonar en forma crítica, y tener un punto de vista propio en temas éticos y morales. La confianza en sus medios lo hace adaptable a los camb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Al balancear reflexión y acción, debería estar ligeramente inclinado a la acción y a aprender de la experi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s capaz de comunicarse en forma clara y efectiva, lo que unido a lo anterior, lo hace trabajar bien con otros (en múltiples roles) y hacer una contribución sustancial al objetiv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51:38Z</dcterms:created>
  <dc:creator>Karen Gutierrez</dc:creator>
  <dc:description/>
  <dc:language>en-US</dc:language>
  <cp:lastModifiedBy>Ricardo San Martin</cp:lastModifiedBy>
  <dcterms:modified xsi:type="dcterms:W3CDTF">2010-03-31T03:41:02Z</dcterms:modified>
  <cp:revision>37</cp:revision>
  <dc:subject/>
  <dc:title>INTRODUCCIÓN A LOS TALLERES DE TÍTULO</dc:title>
</cp:coreProperties>
</file>