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30B-2A50-4911-B654-EB792B4B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E64-DF0A-4EAC-8717-6495B408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3AB-4CFD-4CBB-A6BC-6BB16BE2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5B3-980D-4CEE-A564-4EB8E511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7BBA-DA00-472D-9B81-DEAFB27C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49F-64F3-48A0-824B-FEC2330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7208-707C-468F-852E-D6567C20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A7F-5A79-4EF9-BCEF-2EF7C8A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822-A50D-4A3F-B068-B9F91CA3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9BD-FBC3-4FC1-9A06-DD24D546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DA3-30EC-4DE6-A9E6-7B0C86D5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4CD-BD2B-460F-A574-1F18488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12C9-84A2-48EF-B167-1B28D589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962B-DB99-4D70-A552-5118029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33F6-B220-4C3E-B4D8-E3FAA37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FBDE-D44A-4B3D-9DD9-2CFEA6AF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E89-23AD-4E73-9325-6607E18C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70B-4DB4-4044-A107-EF37A9E5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06F-F793-429E-8EB9-2B26A89A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728-37FB-4631-B72A-518B621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B1C-4FBC-41EE-BB63-F29CCAF1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E65-8944-43CF-A64A-93284BB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2C-7176-4157-A6F8-E0057F6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F97-2B39-44A8-9BA3-A5B8AADA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1B0F-BF13-4E3E-9F48-8114C3C33B3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E01-0B8E-4819-99F3-8FDEB287C32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9528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480" y="2518560"/>
            <a:ext cx="3180960" cy="220212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516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04812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37339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6040" y="27432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66040" y="3429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3733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9760" y="4952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32720" y="4979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720" y="4191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048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528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04812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080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3960" y="1822320"/>
            <a:ext cx="4144320" cy="516600"/>
            <a:chOff x="4503960" y="1822320"/>
            <a:chExt cx="4144320" cy="516600"/>
          </a:xfrm>
        </p:grpSpPr>
        <p:sp>
          <p:nvSpPr>
            <p:cNvPr id="133" name=""/>
            <p:cNvSpPr/>
            <p:nvPr/>
          </p:nvSpPr>
          <p:spPr>
            <a:xfrm>
              <a:off x="450396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2057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23280" y="1828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1240" y="18223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03960" y="2508120"/>
            <a:ext cx="4073040" cy="516600"/>
            <a:chOff x="4503960" y="2508120"/>
            <a:chExt cx="4073040" cy="516600"/>
          </a:xfrm>
        </p:grpSpPr>
        <p:sp>
          <p:nvSpPr>
            <p:cNvPr id="139" name=""/>
            <p:cNvSpPr/>
            <p:nvPr/>
          </p:nvSpPr>
          <p:spPr>
            <a:xfrm>
              <a:off x="450396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29200" y="2743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23280" y="25146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50812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90512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05120" y="2971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106960" y="1600200"/>
            <a:ext cx="3668400" cy="459720"/>
            <a:chOff x="5106960" y="1600200"/>
            <a:chExt cx="3668400" cy="459720"/>
          </a:xfrm>
        </p:grpSpPr>
        <p:sp>
          <p:nvSpPr>
            <p:cNvPr id="52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9320" y="1600200"/>
              <a:ext cx="20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C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106960" y="1981080"/>
            <a:ext cx="3571920" cy="466200"/>
            <a:chOff x="5106960" y="1981080"/>
            <a:chExt cx="3571920" cy="466200"/>
          </a:xfrm>
        </p:grpSpPr>
        <p:sp>
          <p:nvSpPr>
            <p:cNvPr id="53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8960" y="1981080"/>
              <a:ext cx="19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D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860880" y="2971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34320" y="28954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6668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249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06960" y="2438280"/>
            <a:ext cx="3410640" cy="459720"/>
            <a:chOff x="5106960" y="2438280"/>
            <a:chExt cx="3410640" cy="459720"/>
          </a:xfrm>
        </p:grpSpPr>
        <p:sp>
          <p:nvSpPr>
            <p:cNvPr id="562" name=""/>
            <p:cNvSpPr/>
            <p:nvPr/>
          </p:nvSpPr>
          <p:spPr>
            <a:xfrm>
              <a:off x="510696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00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771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9320" y="2438280"/>
              <a:ext cx="18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12408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, sin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41720" y="5181480"/>
            <a:ext cx="63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583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0640" y="1523880"/>
            <a:ext cx="3203280" cy="466200"/>
            <a:chOff x="5030640" y="1523880"/>
            <a:chExt cx="3203280" cy="466200"/>
          </a:xfrm>
        </p:grpSpPr>
        <p:sp>
          <p:nvSpPr>
            <p:cNvPr id="589" name=""/>
            <p:cNvSpPr/>
            <p:nvPr/>
          </p:nvSpPr>
          <p:spPr>
            <a:xfrm>
              <a:off x="503064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5520" y="1530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0800" y="1758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31200" y="15238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175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708984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448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352680" y="2971800"/>
            <a:ext cx="5335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504600" y="3048120"/>
            <a:ext cx="75960" cy="759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62520" y="2971800"/>
            <a:ext cx="7596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53000" y="5181480"/>
            <a:ext cx="66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uest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030640" y="2286000"/>
            <a:ext cx="3799800" cy="459720"/>
            <a:chOff x="5030640" y="2286000"/>
            <a:chExt cx="3799800" cy="459720"/>
          </a:xfrm>
        </p:grpSpPr>
        <p:sp>
          <p:nvSpPr>
            <p:cNvPr id="617" name=""/>
            <p:cNvSpPr/>
            <p:nvPr/>
          </p:nvSpPr>
          <p:spPr>
            <a:xfrm>
              <a:off x="50306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38680" y="2286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0080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3360" y="22860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0080" y="2514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907720" y="2792160"/>
            <a:ext cx="2042640" cy="96660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2205000"/>
            <a:ext cx="27000" cy="297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308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38840" y="5181480"/>
            <a:ext cx="60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7560" y="2666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30640" y="1905120"/>
            <a:ext cx="3262320" cy="459720"/>
            <a:chOff x="5030640" y="1905120"/>
            <a:chExt cx="3262320" cy="459720"/>
          </a:xfrm>
        </p:grpSpPr>
        <p:sp>
          <p:nvSpPr>
            <p:cNvPr id="636" name=""/>
            <p:cNvSpPr/>
            <p:nvPr/>
          </p:nvSpPr>
          <p:spPr>
            <a:xfrm>
              <a:off x="503064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63868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00800" y="2133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32640" y="19051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133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078160" y="2276640"/>
            <a:ext cx="3351600" cy="465840"/>
            <a:chOff x="5078160" y="2276640"/>
            <a:chExt cx="3351600" cy="465840"/>
          </a:xfrm>
        </p:grpSpPr>
        <p:sp>
          <p:nvSpPr>
            <p:cNvPr id="642" name=""/>
            <p:cNvSpPr/>
            <p:nvPr/>
          </p:nvSpPr>
          <p:spPr>
            <a:xfrm>
              <a:off x="5078160" y="2282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3040" y="2282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48320" y="2511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79440" y="227664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57600" y="2511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806160" y="2852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28195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3276720"/>
            <a:ext cx="98136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7080" y="4149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00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352680" y="4572000"/>
            <a:ext cx="12193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l consumo de origen local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860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8280" y="297180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0"/>
                </a:moveTo>
                <a:lnTo>
                  <a:pt x="0" y="192"/>
                </a:lnTo>
                <a:lnTo>
                  <a:pt x="576" y="192"/>
                </a:lnTo>
                <a:lnTo>
                  <a:pt x="38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2971800"/>
            <a:ext cx="76320" cy="2286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2971800"/>
            <a:ext cx="76320" cy="15228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11280" y="2971800"/>
            <a:ext cx="936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14600" y="36576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lnTo>
                  <a:pt x="1680" y="0"/>
                </a:lnTo>
                <a:lnTo>
                  <a:pt x="1152" y="432"/>
                </a:lnTo>
                <a:lnTo>
                  <a:pt x="0" y="432"/>
                </a:lnTo>
                <a:lnTo>
                  <a:pt x="0" y="0"/>
                </a:lnTo>
                <a:close/>
              </a:path>
            </a:pathLst>
          </a:custGeom>
          <a:solidFill>
            <a:srgbClr val="a1bd6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5909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302640" y="3263760"/>
            <a:ext cx="2295000" cy="1943280"/>
          </a:xfrm>
          <a:prstGeom prst="line">
            <a:avLst/>
          </a:prstGeom>
          <a:ln w="572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328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514600" y="3657600"/>
            <a:ext cx="266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14600" y="434340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6040" y="33526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66040" y="403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34340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6152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3440" y="5562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6576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4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0960" y="1523880"/>
            <a:ext cx="3835800" cy="516600"/>
            <a:chOff x="3360960" y="1523880"/>
            <a:chExt cx="3835800" cy="516600"/>
          </a:xfrm>
        </p:grpSpPr>
        <p:sp>
          <p:nvSpPr>
            <p:cNvPr id="164" name=""/>
            <p:cNvSpPr/>
            <p:nvPr/>
          </p:nvSpPr>
          <p:spPr>
            <a:xfrm>
              <a:off x="336096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1758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0280" y="1530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758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7520" y="152388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60960" y="2209680"/>
            <a:ext cx="3907440" cy="516600"/>
            <a:chOff x="3360960" y="2209680"/>
            <a:chExt cx="3907440" cy="516600"/>
          </a:xfrm>
        </p:grpSpPr>
        <p:sp>
          <p:nvSpPr>
            <p:cNvPr id="170" name=""/>
            <p:cNvSpPr/>
            <p:nvPr/>
          </p:nvSpPr>
          <p:spPr>
            <a:xfrm>
              <a:off x="336096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244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0280" y="2216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2444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7520" y="2209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05120" y="3657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438280" y="3276720"/>
            <a:ext cx="1828800" cy="609480"/>
          </a:xfrm>
          <a:custGeom>
            <a:avLst/>
            <a:gdLst/>
            <a:ahLst/>
            <a:rect l="l" t="t" r="r" b="b"/>
            <a:pathLst>
              <a:path w="1152" h="384">
                <a:moveTo>
                  <a:pt x="0" y="384"/>
                </a:moveTo>
                <a:lnTo>
                  <a:pt x="1152" y="384"/>
                </a:lnTo>
                <a:lnTo>
                  <a:pt x="528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3886200"/>
            <a:ext cx="1828800" cy="45720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0"/>
                </a:moveTo>
                <a:lnTo>
                  <a:pt x="115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88620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528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76720"/>
            <a:ext cx="83844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0"/>
                </a:move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Impuest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2971800"/>
            <a:ext cx="2286000" cy="14479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8640"/>
            <a:ext cx="2209680" cy="106668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37920" y="32767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62320" y="4343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343400"/>
            <a:ext cx="0" cy="8380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85480" y="5181480"/>
            <a:ext cx="56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6080" y="320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437920" y="38862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411880" y="1523880"/>
            <a:ext cx="3165120" cy="466200"/>
            <a:chOff x="5411880" y="1523880"/>
            <a:chExt cx="3165120" cy="466200"/>
          </a:xfrm>
        </p:grpSpPr>
        <p:sp>
          <p:nvSpPr>
            <p:cNvPr id="202" name=""/>
            <p:cNvSpPr/>
            <p:nvPr/>
          </p:nvSpPr>
          <p:spPr>
            <a:xfrm>
              <a:off x="5411880" y="153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28200" y="15238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1752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600" y="1523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11880" y="1981080"/>
            <a:ext cx="2915280" cy="466200"/>
            <a:chOff x="5411880" y="1981080"/>
            <a:chExt cx="2915280" cy="466200"/>
          </a:xfrm>
        </p:grpSpPr>
        <p:sp>
          <p:nvSpPr>
            <p:cNvPr id="208" name=""/>
            <p:cNvSpPr/>
            <p:nvPr/>
          </p:nvSpPr>
          <p:spPr>
            <a:xfrm>
              <a:off x="541188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28200" y="19810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7880" y="198108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1880" y="2362320"/>
            <a:ext cx="3224160" cy="465840"/>
            <a:chOff x="5411880" y="2362320"/>
            <a:chExt cx="3224160" cy="465840"/>
          </a:xfrm>
        </p:grpSpPr>
        <p:sp>
          <p:nvSpPr>
            <p:cNvPr id="214" name=""/>
            <p:cNvSpPr/>
            <p:nvPr/>
          </p:nvSpPr>
          <p:spPr>
            <a:xfrm>
              <a:off x="5411880" y="2368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7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61240" y="236232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2590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132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1880" y="2743200"/>
            <a:ext cx="2991240" cy="466200"/>
            <a:chOff x="5411880" y="2743200"/>
            <a:chExt cx="2991240" cy="466200"/>
          </a:xfrm>
        </p:grpSpPr>
        <p:sp>
          <p:nvSpPr>
            <p:cNvPr id="222" name=""/>
            <p:cNvSpPr/>
            <p:nvPr/>
          </p:nvSpPr>
          <p:spPr>
            <a:xfrm>
              <a:off x="5411880" y="2749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7840" y="27432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60160" y="274320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9132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60880" y="31240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748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1066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88620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962520"/>
            <a:ext cx="152280" cy="3045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429000"/>
            <a:ext cx="304560" cy="457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2438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3962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36880" y="2729160"/>
            <a:ext cx="101304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276720"/>
            <a:ext cx="2133720" cy="838080"/>
          </a:xfrm>
          <a:custGeom>
            <a:avLst/>
            <a:gdLst/>
            <a:ahLst/>
            <a:rect l="l" t="t" r="r" b="b"/>
            <a:pathLst>
              <a:path w="1344" h="528">
                <a:moveTo>
                  <a:pt x="0" y="0"/>
                </a:moveTo>
                <a:lnTo>
                  <a:pt x="1344" y="0"/>
                </a:lnTo>
                <a:lnTo>
                  <a:pt x="1344" y="528"/>
                </a:lnTo>
                <a:lnTo>
                  <a:pt x="0" y="528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276720"/>
            <a:ext cx="2133720" cy="609480"/>
          </a:xfrm>
          <a:custGeom>
            <a:avLst/>
            <a:gdLst/>
            <a:ahLst/>
            <a:rect l="l" t="t" r="r" b="b"/>
            <a:pathLst>
              <a:path w="1344" h="384">
                <a:moveTo>
                  <a:pt x="0" y="0"/>
                </a:moveTo>
                <a:lnTo>
                  <a:pt x="1344" y="0"/>
                </a:lnTo>
                <a:lnTo>
                  <a:pt x="1152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3352680"/>
            <a:ext cx="38124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Variación de Excedent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221304"/>
                </a:solidFill>
                <a:latin typeface="Times New Roman"/>
              </a:rPr>
              <a:t>Subsidi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437920" y="327672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4114800"/>
            <a:ext cx="2133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800" y="2971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4114800"/>
            <a:ext cx="0" cy="1066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51814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800" y="4114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840" y="365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11880" y="2590920"/>
            <a:ext cx="3109680" cy="465840"/>
            <a:chOff x="5411880" y="2590920"/>
            <a:chExt cx="3109680" cy="465840"/>
          </a:xfrm>
        </p:grpSpPr>
        <p:sp>
          <p:nvSpPr>
            <p:cNvPr id="259" name=""/>
            <p:cNvSpPr/>
            <p:nvPr/>
          </p:nvSpPr>
          <p:spPr>
            <a:xfrm>
              <a:off x="5411880" y="2597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8200" y="25909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2819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61240" y="2590920"/>
              <a:ext cx="16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132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411880" y="2057400"/>
            <a:ext cx="3151800" cy="465840"/>
            <a:chOff x="5411880" y="2057400"/>
            <a:chExt cx="3151800" cy="465840"/>
          </a:xfrm>
        </p:grpSpPr>
        <p:sp>
          <p:nvSpPr>
            <p:cNvPr id="265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2057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0520" y="20574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410080" y="1676520"/>
            <a:ext cx="2273760" cy="459720"/>
            <a:chOff x="5410080" y="1676520"/>
            <a:chExt cx="2273760" cy="459720"/>
          </a:xfrm>
        </p:grpSpPr>
        <p:sp>
          <p:nvSpPr>
            <p:cNvPr id="273" name=""/>
            <p:cNvSpPr/>
            <p:nvPr/>
          </p:nvSpPr>
          <p:spPr>
            <a:xfrm>
              <a:off x="541008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3080" y="1905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6120" y="167652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012440" y="31240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200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276720"/>
            <a:ext cx="0" cy="838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3733920"/>
            <a:ext cx="7632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232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886200"/>
            <a:ext cx="2133720" cy="228600"/>
          </a:xfrm>
          <a:custGeom>
            <a:avLst/>
            <a:gdLst/>
            <a:ahLst/>
            <a:rect l="l" t="t" r="r" b="b"/>
            <a:pathLst>
              <a:path w="1344" h="144">
                <a:moveTo>
                  <a:pt x="0" y="0"/>
                </a:moveTo>
                <a:lnTo>
                  <a:pt x="1152" y="0"/>
                </a:lnTo>
                <a:lnTo>
                  <a:pt x="1344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886200"/>
            <a:ext cx="76320" cy="228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2640" y="16765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-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2362320" cy="761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756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11880" y="1600200"/>
            <a:ext cx="3312720" cy="466200"/>
            <a:chOff x="5411880" y="1600200"/>
            <a:chExt cx="3312720" cy="466200"/>
          </a:xfrm>
        </p:grpSpPr>
        <p:sp>
          <p:nvSpPr>
            <p:cNvPr id="304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1600" y="1600200"/>
              <a:ext cx="186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411880" y="2057400"/>
            <a:ext cx="3080160" cy="465840"/>
            <a:chOff x="5411880" y="2057400"/>
            <a:chExt cx="3080160" cy="465840"/>
          </a:xfrm>
        </p:grpSpPr>
        <p:sp>
          <p:nvSpPr>
            <p:cNvPr id="310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60520" y="20574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-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809880"/>
            <a:ext cx="75960" cy="2286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556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2767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3505320"/>
            <a:ext cx="1219320" cy="76176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3657600"/>
            <a:ext cx="38088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720" y="4343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8840" y="2514600"/>
            <a:ext cx="4209480" cy="510120"/>
            <a:chOff x="4578840" y="2514600"/>
            <a:chExt cx="4209480" cy="510120"/>
          </a:xfrm>
        </p:grpSpPr>
        <p:sp>
          <p:nvSpPr>
            <p:cNvPr id="342" name=""/>
            <p:cNvSpPr/>
            <p:nvPr/>
          </p:nvSpPr>
          <p:spPr>
            <a:xfrm>
              <a:off x="4578840" y="251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5146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1956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7760" y="25146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124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5320"/>
            <a:ext cx="10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578840" y="1523880"/>
            <a:ext cx="3603600" cy="586440"/>
            <a:chOff x="4578840" y="1523880"/>
            <a:chExt cx="3603600" cy="586440"/>
          </a:xfrm>
        </p:grpSpPr>
        <p:sp>
          <p:nvSpPr>
            <p:cNvPr id="360" name=""/>
            <p:cNvSpPr/>
            <p:nvPr/>
          </p:nvSpPr>
          <p:spPr>
            <a:xfrm>
              <a:off x="655560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884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0560" y="16002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8840" y="1981080"/>
            <a:ext cx="3578760" cy="586440"/>
            <a:chOff x="4578840" y="1981080"/>
            <a:chExt cx="3578760" cy="586440"/>
          </a:xfrm>
        </p:grpSpPr>
        <p:sp>
          <p:nvSpPr>
            <p:cNvPr id="368" name=""/>
            <p:cNvSpPr/>
            <p:nvPr/>
          </p:nvSpPr>
          <p:spPr>
            <a:xfrm>
              <a:off x="6554880" y="19810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884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0560" y="2057400"/>
              <a:ext cx="98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Arancel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50532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3809880"/>
            <a:ext cx="0" cy="137160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32480" y="2952000"/>
            <a:ext cx="2260080" cy="14875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426708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5360" y="2438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11600" y="403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35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807440" y="2438280"/>
            <a:ext cx="4107960" cy="609480"/>
            <a:chOff x="4807440" y="2438280"/>
            <a:chExt cx="4107960" cy="609480"/>
          </a:xfrm>
        </p:grpSpPr>
        <p:sp>
          <p:nvSpPr>
            <p:cNvPr id="396" name=""/>
            <p:cNvSpPr/>
            <p:nvPr/>
          </p:nvSpPr>
          <p:spPr>
            <a:xfrm>
              <a:off x="4807440" y="2438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96840" y="2438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624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34080" y="243828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B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800" y="2666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0640" y="304776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868360" y="5181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4267080"/>
            <a:ext cx="2362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535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6040" y="464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809880"/>
            <a:ext cx="1676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362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809880"/>
            <a:ext cx="236232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056" y="0"/>
                </a:lnTo>
                <a:lnTo>
                  <a:pt x="0" y="0"/>
                </a:lnTo>
                <a:lnTo>
                  <a:pt x="0" y="28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38280" y="380988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lnTo>
                  <a:pt x="672" y="0"/>
                </a:lnTo>
                <a:lnTo>
                  <a:pt x="528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3200" y="3809880"/>
            <a:ext cx="380880" cy="4572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075120" y="2576880"/>
            <a:ext cx="1012680" cy="20847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38098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384" y="0"/>
                </a:lnTo>
                <a:lnTo>
                  <a:pt x="384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273920" y="1981080"/>
            <a:ext cx="3994200" cy="536040"/>
            <a:chOff x="4273920" y="1981080"/>
            <a:chExt cx="3994200" cy="536040"/>
          </a:xfrm>
        </p:grpSpPr>
        <p:sp>
          <p:nvSpPr>
            <p:cNvPr id="415" name=""/>
            <p:cNvSpPr/>
            <p:nvPr/>
          </p:nvSpPr>
          <p:spPr>
            <a:xfrm>
              <a:off x="5792400" y="1981080"/>
              <a:ext cx="24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(imp)  = +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0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7392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87360" y="205740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657600" y="3962520"/>
            <a:ext cx="76320" cy="228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4038480"/>
            <a:ext cx="7632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4114800"/>
            <a:ext cx="7632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5181480"/>
            <a:ext cx="79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11444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Restricción cuantitativa a las im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112360" y="1523880"/>
            <a:ext cx="3222360" cy="459720"/>
            <a:chOff x="5112360" y="1523880"/>
            <a:chExt cx="3222360" cy="459720"/>
          </a:xfrm>
        </p:grpSpPr>
        <p:sp>
          <p:nvSpPr>
            <p:cNvPr id="430" name=""/>
            <p:cNvSpPr/>
            <p:nvPr/>
          </p:nvSpPr>
          <p:spPr>
            <a:xfrm>
              <a:off x="6707880" y="152388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2448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12360" y="1523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360" y="1828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1400" y="15238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8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7600" y="3505320"/>
            <a:ext cx="0" cy="1676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38280" y="2971800"/>
            <a:ext cx="1219320" cy="53352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0"/>
                </a:moveTo>
                <a:lnTo>
                  <a:pt x="768" y="0"/>
                </a:lnTo>
                <a:lnTo>
                  <a:pt x="1488" y="48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792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34640" y="2797920"/>
            <a:ext cx="1485360" cy="156672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6760" y="5181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5112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0640" y="4038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7560" y="27432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88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411880" y="1600200"/>
            <a:ext cx="3038040" cy="466200"/>
            <a:chOff x="5411880" y="1600200"/>
            <a:chExt cx="3038040" cy="466200"/>
          </a:xfrm>
        </p:grpSpPr>
        <p:sp>
          <p:nvSpPr>
            <p:cNvPr id="451" name=""/>
            <p:cNvSpPr/>
            <p:nvPr/>
          </p:nvSpPr>
          <p:spPr>
            <a:xfrm>
              <a:off x="5411880" y="16066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26760" y="1600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61240" y="160020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C = -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11880" y="2057400"/>
            <a:ext cx="3278520" cy="465840"/>
            <a:chOff x="5411880" y="2057400"/>
            <a:chExt cx="3278520" cy="465840"/>
          </a:xfrm>
        </p:grpSpPr>
        <p:sp>
          <p:nvSpPr>
            <p:cNvPr id="457" name=""/>
            <p:cNvSpPr/>
            <p:nvPr/>
          </p:nvSpPr>
          <p:spPr>
            <a:xfrm>
              <a:off x="5411880" y="2063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760" y="2057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60880" y="2057400"/>
              <a:ext cx="182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7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132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41040" y="25146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6232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70080" y="518148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5760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9714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971800"/>
            <a:ext cx="1752840" cy="5335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2971800"/>
            <a:ext cx="381240" cy="4572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5200" y="4648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304812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35268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95120" y="2787480"/>
            <a:ext cx="2042640" cy="9669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3623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51814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9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3276720"/>
            <a:ext cx="0" cy="190476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984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21160" y="2514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8360" y="4191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87560" y="3048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106960" y="1600200"/>
            <a:ext cx="3228120" cy="459720"/>
            <a:chOff x="5106960" y="1600200"/>
            <a:chExt cx="3228120" cy="459720"/>
          </a:xfrm>
        </p:grpSpPr>
        <p:sp>
          <p:nvSpPr>
            <p:cNvPr id="489" name=""/>
            <p:cNvSpPr/>
            <p:nvPr/>
          </p:nvSpPr>
          <p:spPr>
            <a:xfrm>
              <a:off x="5106960" y="1600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150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08240" y="1600200"/>
              <a:ext cx="162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P = +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106960" y="1981080"/>
            <a:ext cx="3351600" cy="466200"/>
            <a:chOff x="5106960" y="1981080"/>
            <a:chExt cx="3351600" cy="466200"/>
          </a:xfrm>
        </p:grpSpPr>
        <p:sp>
          <p:nvSpPr>
            <p:cNvPr id="495" name=""/>
            <p:cNvSpPr/>
            <p:nvPr/>
          </p:nvSpPr>
          <p:spPr>
            <a:xfrm>
              <a:off x="5106960" y="1987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21840" y="1987560"/>
              <a:ext cx="77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77120" y="221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08240" y="19810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  = -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22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60160" y="2514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 =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5146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7480" y="5105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38280" y="3276720"/>
            <a:ext cx="1447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36232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5181480"/>
            <a:ext cx="66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3800" y="44956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33200" y="2799360"/>
            <a:ext cx="2102760" cy="1789560"/>
          </a:xfrm>
          <a:prstGeom prst="line">
            <a:avLst/>
          </a:prstGeom>
          <a:ln w="28440">
            <a:solidFill>
              <a:srgbClr val="369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0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971800"/>
            <a:ext cx="213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0" y="2971800"/>
            <a:ext cx="0" cy="2209680"/>
          </a:xfrm>
          <a:prstGeom prst="line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5268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768" h="480">
                <a:moveTo>
                  <a:pt x="0" y="0"/>
                </a:moveTo>
                <a:lnTo>
                  <a:pt x="768" y="0"/>
                </a:lnTo>
                <a:lnTo>
                  <a:pt x="528" y="480"/>
                </a:lnTo>
                <a:lnTo>
                  <a:pt x="0" y="480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1344" y="0"/>
                </a:lnTo>
                <a:lnTo>
                  <a:pt x="13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38280" y="2971800"/>
            <a:ext cx="2133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0"/>
                </a:moveTo>
                <a:lnTo>
                  <a:pt x="0" y="192"/>
                </a:lnTo>
                <a:lnTo>
                  <a:pt x="1344" y="192"/>
                </a:lnTo>
                <a:lnTo>
                  <a:pt x="13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43400" y="3124080"/>
            <a:ext cx="76320" cy="763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2971800"/>
            <a:ext cx="7632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9320" y="5181480"/>
            <a:ext cx="4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Variación de Excedentes 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Comercio Internacional</a:t>
            </a:r>
            <a:br>
              <a:rPr sz="2400"/>
            </a:br>
            <a:r>
              <a:rPr b="1" i="1" lang="en-US" sz="2400" spc="-1" strike="noStrike">
                <a:solidFill>
                  <a:srgbClr val="221304"/>
                </a:solidFill>
                <a:latin typeface="Times New Roman"/>
              </a:rPr>
              <a:t>Subsidio a las Exportacione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3:24:24Z</dcterms:created>
  <dc:creator>Marco Hauva</dc:creator>
  <dc:description/>
  <dc:language>en-US</dc:language>
  <cp:lastModifiedBy>Marco Hauva</cp:lastModifiedBy>
  <dcterms:modified xsi:type="dcterms:W3CDTF">2004-10-07T13:37:40Z</dcterms:modified>
  <cp:revision>32</cp:revision>
  <dc:subject/>
  <dc:title>Análisis de Variación de Excedentes</dc:title>
</cp:coreProperties>
</file>