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BC5-7044-4BCF-9162-DC51ACDE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F31-A875-4ABE-86D2-8291D142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806-AABB-4672-BB55-DE3D4827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1D2-C589-42B6-8661-695C8B57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CF18-D630-4698-B80F-E2A92883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536F-A7A5-444A-B843-3A0F30D9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33A6-17A1-4127-A0DB-E3C5D53C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A7C8-EC7D-463A-8546-9DD2C4C5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A2F5-40B0-4948-A6F5-BBED7265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4EA5-BA1E-4FE5-9DF4-A50325AA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8A12-43BC-4C3B-A77C-37E9F507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3D5-0F58-4FCA-8DCF-0BBC8092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BA3F-2592-4BB6-B6E8-2236200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4692-6E5D-4AE0-8298-DB244C6E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B7EF-46B4-43BD-B481-1A9A93C9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6D4C-AD92-46FA-B933-57C073AE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7266-5520-4791-9942-D3045705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680-4285-4EBD-A3D3-0D2F1E13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2B1-3A27-462D-AC17-B3D1E8F6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24F-3798-4294-B6BA-F87E31EC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CEF-0CC5-48D8-A5A7-C89C5C63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D3E-DFEC-49A7-8223-F434AA81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DF9-492A-4B7A-9193-C802D860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003-42FE-466E-8ED2-72557450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2D38-327D-438C-B53D-7A724B3247E8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B7CD-AC81-4A7E-94DA-1506A7024E25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consumid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9528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2480" y="2518560"/>
            <a:ext cx="3180960" cy="220212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328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160" y="182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14600" y="304812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37339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6040" y="27432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66040" y="3429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3733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9760" y="4952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32720" y="4979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720" y="4191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048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528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048120"/>
            <a:ext cx="0" cy="19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536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080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3960" y="1822320"/>
            <a:ext cx="4144320" cy="516600"/>
            <a:chOff x="4503960" y="1822320"/>
            <a:chExt cx="4144320" cy="516600"/>
          </a:xfrm>
        </p:grpSpPr>
        <p:sp>
          <p:nvSpPr>
            <p:cNvPr id="133" name=""/>
            <p:cNvSpPr/>
            <p:nvPr/>
          </p:nvSpPr>
          <p:spPr>
            <a:xfrm>
              <a:off x="450396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2057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2328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61240" y="182232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03960" y="2508120"/>
            <a:ext cx="4073040" cy="516600"/>
            <a:chOff x="4503960" y="2508120"/>
            <a:chExt cx="4073040" cy="516600"/>
          </a:xfrm>
        </p:grpSpPr>
        <p:sp>
          <p:nvSpPr>
            <p:cNvPr id="139" name=""/>
            <p:cNvSpPr/>
            <p:nvPr/>
          </p:nvSpPr>
          <p:spPr>
            <a:xfrm>
              <a:off x="450396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29200" y="2743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2328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4480" y="2743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1600" y="250812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05120" y="304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905120" y="2971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106960" y="1600200"/>
            <a:ext cx="3668400" cy="459720"/>
            <a:chOff x="5106960" y="1600200"/>
            <a:chExt cx="3668400" cy="459720"/>
          </a:xfrm>
        </p:grpSpPr>
        <p:sp>
          <p:nvSpPr>
            <p:cNvPr id="52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9320" y="1600200"/>
              <a:ext cx="20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C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106960" y="1981080"/>
            <a:ext cx="3571920" cy="466200"/>
            <a:chOff x="5106960" y="1981080"/>
            <a:chExt cx="3571920" cy="466200"/>
          </a:xfrm>
        </p:grpSpPr>
        <p:sp>
          <p:nvSpPr>
            <p:cNvPr id="53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8960" y="1981080"/>
              <a:ext cx="19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D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860880" y="2971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28954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6668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249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48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106960" y="2438280"/>
            <a:ext cx="3410640" cy="459720"/>
            <a:chOff x="5106960" y="2438280"/>
            <a:chExt cx="3410640" cy="459720"/>
          </a:xfrm>
        </p:grpSpPr>
        <p:sp>
          <p:nvSpPr>
            <p:cNvPr id="562" name=""/>
            <p:cNvSpPr/>
            <p:nvPr/>
          </p:nvSpPr>
          <p:spPr>
            <a:xfrm>
              <a:off x="510696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00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7712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09320" y="2438280"/>
              <a:ext cx="18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1240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, sin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41720" y="5181480"/>
            <a:ext cx="63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583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030640" y="1523880"/>
            <a:ext cx="3203280" cy="466200"/>
            <a:chOff x="5030640" y="1523880"/>
            <a:chExt cx="3203280" cy="466200"/>
          </a:xfrm>
        </p:grpSpPr>
        <p:sp>
          <p:nvSpPr>
            <p:cNvPr id="589" name=""/>
            <p:cNvSpPr/>
            <p:nvPr/>
          </p:nvSpPr>
          <p:spPr>
            <a:xfrm>
              <a:off x="503064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45520" y="15303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1758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31200" y="15238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10080" y="175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089840" y="28954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448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526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352680" y="2971800"/>
            <a:ext cx="5335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504600" y="3048120"/>
            <a:ext cx="75960" cy="759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5181480"/>
            <a:ext cx="66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uest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030640" y="2286000"/>
            <a:ext cx="3799800" cy="459720"/>
            <a:chOff x="5030640" y="2286000"/>
            <a:chExt cx="3799800" cy="459720"/>
          </a:xfrm>
        </p:grpSpPr>
        <p:sp>
          <p:nvSpPr>
            <p:cNvPr id="617" name=""/>
            <p:cNvSpPr/>
            <p:nvPr/>
          </p:nvSpPr>
          <p:spPr>
            <a:xfrm>
              <a:off x="503064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8680" y="2286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0080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33360" y="228600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0080" y="25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96216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11280" y="2205000"/>
            <a:ext cx="27000" cy="297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308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8840" y="5181480"/>
            <a:ext cx="60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636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078160" y="2276640"/>
            <a:ext cx="3351600" cy="465840"/>
            <a:chOff x="5078160" y="2276640"/>
            <a:chExt cx="3351600" cy="465840"/>
          </a:xfrm>
        </p:grpSpPr>
        <p:sp>
          <p:nvSpPr>
            <p:cNvPr id="642" name=""/>
            <p:cNvSpPr/>
            <p:nvPr/>
          </p:nvSpPr>
          <p:spPr>
            <a:xfrm>
              <a:off x="5078160" y="2282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3040" y="2282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48320" y="2511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79440" y="227664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57600" y="2511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806160" y="2852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3276720"/>
            <a:ext cx="981360" cy="7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37080" y="4149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4572000"/>
            <a:ext cx="121932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l consumo de origen local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11280" y="2971800"/>
            <a:ext cx="936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14600" y="3657600"/>
            <a:ext cx="2666880" cy="685800"/>
          </a:xfrm>
          <a:custGeom>
            <a:avLst/>
            <a:gdLst/>
            <a:ahLst/>
            <a:rect l="l" t="t" r="r" b="b"/>
            <a:pathLst>
              <a:path w="1680" h="432">
                <a:moveTo>
                  <a:pt x="0" y="0"/>
                </a:moveTo>
                <a:lnTo>
                  <a:pt x="1680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produ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25909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55627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302640" y="3263760"/>
            <a:ext cx="2295000" cy="194328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328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516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3657600"/>
            <a:ext cx="2666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14600" y="434340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040" y="33526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66040" y="40384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34340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6152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344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6576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4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60960" y="1523880"/>
            <a:ext cx="3835800" cy="516600"/>
            <a:chOff x="3360960" y="1523880"/>
            <a:chExt cx="3835800" cy="516600"/>
          </a:xfrm>
        </p:grpSpPr>
        <p:sp>
          <p:nvSpPr>
            <p:cNvPr id="164" name=""/>
            <p:cNvSpPr/>
            <p:nvPr/>
          </p:nvSpPr>
          <p:spPr>
            <a:xfrm>
              <a:off x="336096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1758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028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758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7520" y="152388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60960" y="2209680"/>
            <a:ext cx="3907440" cy="516600"/>
            <a:chOff x="3360960" y="2209680"/>
            <a:chExt cx="3907440" cy="516600"/>
          </a:xfrm>
        </p:grpSpPr>
        <p:sp>
          <p:nvSpPr>
            <p:cNvPr id="170" name=""/>
            <p:cNvSpPr/>
            <p:nvPr/>
          </p:nvSpPr>
          <p:spPr>
            <a:xfrm>
              <a:off x="336096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2444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028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2444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7520" y="220968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90512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05120" y="36572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438280" y="3276720"/>
            <a:ext cx="1828800" cy="609480"/>
          </a:xfrm>
          <a:custGeom>
            <a:avLst/>
            <a:gdLst/>
            <a:ahLst/>
            <a:rect l="l" t="t" r="r" b="b"/>
            <a:pathLst>
              <a:path w="1152" h="384">
                <a:moveTo>
                  <a:pt x="0" y="384"/>
                </a:moveTo>
                <a:lnTo>
                  <a:pt x="1152" y="384"/>
                </a:lnTo>
                <a:lnTo>
                  <a:pt x="528" y="0"/>
                </a:lnTo>
                <a:lnTo>
                  <a:pt x="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3886200"/>
            <a:ext cx="1828800" cy="45720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0"/>
                </a:moveTo>
                <a:lnTo>
                  <a:pt x="115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886200"/>
            <a:ext cx="83844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0" y="0"/>
                </a:moveTo>
                <a:lnTo>
                  <a:pt x="528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276720"/>
            <a:ext cx="83844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0"/>
                </a:move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Impuest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971800"/>
            <a:ext cx="2286000" cy="14479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3428640"/>
            <a:ext cx="2209680" cy="106668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37920" y="32767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62320" y="4343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343400"/>
            <a:ext cx="0" cy="8380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85480" y="5181480"/>
            <a:ext cx="56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6080" y="320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3886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411880" y="1523880"/>
            <a:ext cx="3165120" cy="466200"/>
            <a:chOff x="5411880" y="1523880"/>
            <a:chExt cx="3165120" cy="466200"/>
          </a:xfrm>
        </p:grpSpPr>
        <p:sp>
          <p:nvSpPr>
            <p:cNvPr id="202" name=""/>
            <p:cNvSpPr/>
            <p:nvPr/>
          </p:nvSpPr>
          <p:spPr>
            <a:xfrm>
              <a:off x="541188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8200" y="15238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1752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600" y="15238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11880" y="1981080"/>
            <a:ext cx="2915280" cy="466200"/>
            <a:chOff x="5411880" y="1981080"/>
            <a:chExt cx="2915280" cy="466200"/>
          </a:xfrm>
        </p:grpSpPr>
        <p:sp>
          <p:nvSpPr>
            <p:cNvPr id="208" name=""/>
            <p:cNvSpPr/>
            <p:nvPr/>
          </p:nvSpPr>
          <p:spPr>
            <a:xfrm>
              <a:off x="541188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28200" y="19810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7880" y="198108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13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1880" y="2362320"/>
            <a:ext cx="3224160" cy="465840"/>
            <a:chOff x="5411880" y="2362320"/>
            <a:chExt cx="3224160" cy="465840"/>
          </a:xfrm>
        </p:grpSpPr>
        <p:sp>
          <p:nvSpPr>
            <p:cNvPr id="214" name=""/>
            <p:cNvSpPr/>
            <p:nvPr/>
          </p:nvSpPr>
          <p:spPr>
            <a:xfrm>
              <a:off x="5411880" y="2368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7840" y="23623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61240" y="236232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1880" y="2743200"/>
            <a:ext cx="2991240" cy="466200"/>
            <a:chOff x="5411880" y="2743200"/>
            <a:chExt cx="2991240" cy="466200"/>
          </a:xfrm>
        </p:grpSpPr>
        <p:sp>
          <p:nvSpPr>
            <p:cNvPr id="222" name=""/>
            <p:cNvSpPr/>
            <p:nvPr/>
          </p:nvSpPr>
          <p:spPr>
            <a:xfrm>
              <a:off x="5411880" y="2749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7840" y="27432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771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60160" y="2743200"/>
              <a:ext cx="15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132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60880" y="31240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748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276720"/>
            <a:ext cx="0" cy="1066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88620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962520"/>
            <a:ext cx="152280" cy="3045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429000"/>
            <a:ext cx="304560" cy="457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24382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36880" y="2729160"/>
            <a:ext cx="101304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3276720"/>
            <a:ext cx="2133720" cy="838080"/>
          </a:xfrm>
          <a:custGeom>
            <a:avLst/>
            <a:gdLst/>
            <a:ahLst/>
            <a:rect l="l" t="t" r="r" b="b"/>
            <a:pathLst>
              <a:path w="1344" h="528">
                <a:moveTo>
                  <a:pt x="0" y="0"/>
                </a:moveTo>
                <a:lnTo>
                  <a:pt x="1344" y="0"/>
                </a:lnTo>
                <a:lnTo>
                  <a:pt x="1344" y="528"/>
                </a:lnTo>
                <a:lnTo>
                  <a:pt x="0" y="528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276720"/>
            <a:ext cx="2133720" cy="609480"/>
          </a:xfrm>
          <a:custGeom>
            <a:avLst/>
            <a:gdLst/>
            <a:ahLst/>
            <a:rect l="l" t="t" r="r" b="b"/>
            <a:pathLst>
              <a:path w="1344" h="384">
                <a:moveTo>
                  <a:pt x="0" y="0"/>
                </a:moveTo>
                <a:lnTo>
                  <a:pt x="1344" y="0"/>
                </a:lnTo>
                <a:lnTo>
                  <a:pt x="1152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Subsidi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437920" y="327672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437920" y="411480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4114800"/>
            <a:ext cx="0" cy="1066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2320" y="51814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11880" y="2590920"/>
            <a:ext cx="3109680" cy="465840"/>
            <a:chOff x="5411880" y="2590920"/>
            <a:chExt cx="3109680" cy="465840"/>
          </a:xfrm>
        </p:grpSpPr>
        <p:sp>
          <p:nvSpPr>
            <p:cNvPr id="259" name=""/>
            <p:cNvSpPr/>
            <p:nvPr/>
          </p:nvSpPr>
          <p:spPr>
            <a:xfrm>
              <a:off x="5411880" y="2597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28200" y="259092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2819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61240" y="25909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132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411880" y="2057400"/>
            <a:ext cx="3151800" cy="465840"/>
            <a:chOff x="5411880" y="2057400"/>
            <a:chExt cx="3151800" cy="465840"/>
          </a:xfrm>
        </p:grpSpPr>
        <p:sp>
          <p:nvSpPr>
            <p:cNvPr id="265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27840" y="2057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0520" y="20574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10080" y="1676520"/>
            <a:ext cx="2273760" cy="459720"/>
            <a:chOff x="5410080" y="1676520"/>
            <a:chExt cx="2273760" cy="459720"/>
          </a:xfrm>
        </p:grpSpPr>
        <p:sp>
          <p:nvSpPr>
            <p:cNvPr id="273" name=""/>
            <p:cNvSpPr/>
            <p:nvPr/>
          </p:nvSpPr>
          <p:spPr>
            <a:xfrm>
              <a:off x="5410080" y="1676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1905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6120" y="167652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012440" y="31240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276720"/>
            <a:ext cx="0" cy="838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733920"/>
            <a:ext cx="7632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886200"/>
            <a:ext cx="2133720" cy="228600"/>
          </a:xfrm>
          <a:custGeom>
            <a:avLst/>
            <a:gdLst/>
            <a:ahLst/>
            <a:rect l="l" t="t" r="r" b="b"/>
            <a:pathLst>
              <a:path w="1344" h="144">
                <a:moveTo>
                  <a:pt x="0" y="0"/>
                </a:moveTo>
                <a:lnTo>
                  <a:pt x="1152" y="0"/>
                </a:lnTo>
                <a:lnTo>
                  <a:pt x="1344" y="14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886200"/>
            <a:ext cx="76320" cy="228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2640" y="16765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-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505320"/>
            <a:ext cx="2362320" cy="76176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756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11880" y="1600200"/>
            <a:ext cx="3312720" cy="466200"/>
            <a:chOff x="5411880" y="1600200"/>
            <a:chExt cx="3312720" cy="466200"/>
          </a:xfrm>
        </p:grpSpPr>
        <p:sp>
          <p:nvSpPr>
            <p:cNvPr id="304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1600" y="1600200"/>
              <a:ext cx="186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411880" y="2057400"/>
            <a:ext cx="3080160" cy="465840"/>
            <a:chOff x="5411880" y="2057400"/>
            <a:chExt cx="3080160" cy="465840"/>
          </a:xfrm>
        </p:grpSpPr>
        <p:sp>
          <p:nvSpPr>
            <p:cNvPr id="310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60520" y="2057400"/>
              <a:ext cx="16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809880"/>
            <a:ext cx="7596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556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2767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3505320"/>
            <a:ext cx="1219320" cy="76176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3657600"/>
            <a:ext cx="38088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720" y="4343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8840" y="2514600"/>
            <a:ext cx="4209480" cy="510120"/>
            <a:chOff x="4578840" y="2514600"/>
            <a:chExt cx="4209480" cy="510120"/>
          </a:xfrm>
        </p:grpSpPr>
        <p:sp>
          <p:nvSpPr>
            <p:cNvPr id="342" name=""/>
            <p:cNvSpPr/>
            <p:nvPr/>
          </p:nvSpPr>
          <p:spPr>
            <a:xfrm>
              <a:off x="4578840" y="251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4240" y="25146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1956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57760" y="251460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3124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5320"/>
            <a:ext cx="10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78840" y="1523880"/>
            <a:ext cx="3603600" cy="586440"/>
            <a:chOff x="4578840" y="1523880"/>
            <a:chExt cx="3603600" cy="586440"/>
          </a:xfrm>
        </p:grpSpPr>
        <p:sp>
          <p:nvSpPr>
            <p:cNvPr id="360" name=""/>
            <p:cNvSpPr/>
            <p:nvPr/>
          </p:nvSpPr>
          <p:spPr>
            <a:xfrm>
              <a:off x="655560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220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884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00560" y="16002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8840" y="1981080"/>
            <a:ext cx="3578760" cy="586440"/>
            <a:chOff x="4578840" y="1981080"/>
            <a:chExt cx="3578760" cy="586440"/>
          </a:xfrm>
        </p:grpSpPr>
        <p:sp>
          <p:nvSpPr>
            <p:cNvPr id="368" name=""/>
            <p:cNvSpPr/>
            <p:nvPr/>
          </p:nvSpPr>
          <p:spPr>
            <a:xfrm>
              <a:off x="6554880" y="19810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7220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884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0560" y="20574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Arancel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807440" y="2438280"/>
            <a:ext cx="4107960" cy="609480"/>
            <a:chOff x="4807440" y="2438280"/>
            <a:chExt cx="4107960" cy="609480"/>
          </a:xfrm>
        </p:grpSpPr>
        <p:sp>
          <p:nvSpPr>
            <p:cNvPr id="396" name=""/>
            <p:cNvSpPr/>
            <p:nvPr/>
          </p:nvSpPr>
          <p:spPr>
            <a:xfrm>
              <a:off x="4807440" y="243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96840" y="2438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624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34080" y="243828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78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10640" y="304776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051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273920" y="1981080"/>
            <a:ext cx="3994200" cy="536040"/>
            <a:chOff x="4273920" y="1981080"/>
            <a:chExt cx="3994200" cy="536040"/>
          </a:xfrm>
        </p:grpSpPr>
        <p:sp>
          <p:nvSpPr>
            <p:cNvPr id="415" name=""/>
            <p:cNvSpPr/>
            <p:nvPr/>
          </p:nvSpPr>
          <p:spPr>
            <a:xfrm>
              <a:off x="5792400" y="1981080"/>
              <a:ext cx="247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(imp)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008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7392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87360" y="205740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242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Restricción cuantitativa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112360" y="1523880"/>
            <a:ext cx="3222360" cy="459720"/>
            <a:chOff x="5112360" y="1523880"/>
            <a:chExt cx="3222360" cy="459720"/>
          </a:xfrm>
        </p:grpSpPr>
        <p:sp>
          <p:nvSpPr>
            <p:cNvPr id="430" name=""/>
            <p:cNvSpPr/>
            <p:nvPr/>
          </p:nvSpPr>
          <p:spPr>
            <a:xfrm>
              <a:off x="670788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2448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12360" y="1523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360" y="1828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01400" y="15238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2971800"/>
            <a:ext cx="1219320" cy="53352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34640" y="2797920"/>
            <a:ext cx="1485360" cy="15667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511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7560" y="2743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411880" y="1600200"/>
            <a:ext cx="3038040" cy="466200"/>
            <a:chOff x="5411880" y="1600200"/>
            <a:chExt cx="3038040" cy="466200"/>
          </a:xfrm>
        </p:grpSpPr>
        <p:sp>
          <p:nvSpPr>
            <p:cNvPr id="451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61240" y="160020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411880" y="2057400"/>
            <a:ext cx="3278520" cy="465840"/>
            <a:chOff x="5411880" y="2057400"/>
            <a:chExt cx="3278520" cy="465840"/>
          </a:xfrm>
        </p:grpSpPr>
        <p:sp>
          <p:nvSpPr>
            <p:cNvPr id="457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60880" y="2057400"/>
              <a:ext cx="182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2971800"/>
            <a:ext cx="1752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3623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700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576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9714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971800"/>
            <a:ext cx="1752840" cy="5335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2971800"/>
            <a:ext cx="38124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5200" y="4648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04812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984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106960" y="1600200"/>
            <a:ext cx="3228120" cy="459720"/>
            <a:chOff x="5106960" y="1600200"/>
            <a:chExt cx="3228120" cy="459720"/>
          </a:xfrm>
        </p:grpSpPr>
        <p:sp>
          <p:nvSpPr>
            <p:cNvPr id="48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08240" y="160020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106960" y="1981080"/>
            <a:ext cx="3351600" cy="466200"/>
            <a:chOff x="5106960" y="1981080"/>
            <a:chExt cx="3351600" cy="466200"/>
          </a:xfrm>
        </p:grpSpPr>
        <p:sp>
          <p:nvSpPr>
            <p:cNvPr id="49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08240" y="198108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60160" y="25146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268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297180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3:24:24Z</dcterms:created>
  <dc:creator>Marco Hauva</dc:creator>
  <dc:description/>
  <dc:language>en-US</dc:language>
  <cp:lastModifiedBy>Marco Hauva</cp:lastModifiedBy>
  <dcterms:modified xsi:type="dcterms:W3CDTF">2004-10-07T13:37:40Z</dcterms:modified>
  <cp:revision>32</cp:revision>
  <dc:subject/>
  <dc:title>Análisis de Variación de Excedentes</dc:title>
</cp:coreProperties>
</file>