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A298-0A94-4B0B-8B24-9A56E0D98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129E-F64F-437D-AD6A-83579131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D0A4-6306-46DE-9604-5338B1774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79C0-9297-4E71-991C-8E5E9F440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AFBE-C642-4518-994C-87339A799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7560-F0A6-4D16-9458-CACEE6CC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628E-4BC4-4726-AA99-1B552D13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CB2E-2243-4CAE-961A-49858EA0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3337-6146-40CD-8681-E2728D64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7BA1-8FC9-4705-A55C-42E4A490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AFC1-061E-42B4-9B27-9C91009D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1687-761A-4579-B543-6786E747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DB95-3971-453A-9CC7-10475A0A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3597-89F8-41D8-A169-54DCED5E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8A38-53DA-44F0-9080-7DE01DD0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790E-58DF-4E29-B00E-1AEF3B2EE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E18E-23C7-43C1-9D6D-C6D0E1E02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F25F-1AB3-4E3B-B67D-A53BA688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7CDC-AF36-4040-993B-CA67747E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9862-2744-4BD9-A04C-152F536A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0DE1-05BE-4B73-BD84-3834395C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C4BE-9012-44B3-ABA9-71F48ABA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EDA6-0B1D-4D73-82D9-6DCBBB27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955B-589D-41B2-9E92-352E533C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FB0C-5728-4A29-8A12-C21C424B5A05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58D6-FA4E-416A-A832-F9E6121AB70F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cedente del consumido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198108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4600" y="4952880"/>
            <a:ext cx="4038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62480" y="2518560"/>
            <a:ext cx="3180960" cy="2202120"/>
          </a:xfrm>
          <a:prstGeom prst="line">
            <a:avLst/>
          </a:prstGeom>
          <a:ln w="572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3280" y="49528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35160" y="18288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514600" y="304812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514600" y="3733920"/>
            <a:ext cx="1828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66040" y="274320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66040" y="342900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3733920"/>
            <a:ext cx="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9760" y="4952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32720" y="4979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15720" y="41911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3048120"/>
            <a:ext cx="1828800" cy="685800"/>
          </a:xfrm>
          <a:custGeom>
            <a:avLst/>
            <a:gdLst/>
            <a:ahLst/>
            <a:rect l="l" t="t" r="r" b="b"/>
            <a:pathLst>
              <a:path w="1152" h="432">
                <a:moveTo>
                  <a:pt x="0" y="0"/>
                </a:moveTo>
                <a:lnTo>
                  <a:pt x="528" y="0"/>
                </a:lnTo>
                <a:lnTo>
                  <a:pt x="1152" y="432"/>
                </a:lnTo>
                <a:lnTo>
                  <a:pt x="0" y="432"/>
                </a:lnTo>
                <a:lnTo>
                  <a:pt x="0" y="0"/>
                </a:lnTo>
                <a:close/>
              </a:path>
            </a:pathLst>
          </a:custGeom>
          <a:solidFill>
            <a:srgbClr val="a1bd6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3048120"/>
            <a:ext cx="0" cy="1904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45360" y="3276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30800" y="3276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03960" y="1822320"/>
            <a:ext cx="4144320" cy="516600"/>
            <a:chOff x="4503960" y="1822320"/>
            <a:chExt cx="4144320" cy="516600"/>
          </a:xfrm>
        </p:grpSpPr>
        <p:sp>
          <p:nvSpPr>
            <p:cNvPr id="133" name=""/>
            <p:cNvSpPr/>
            <p:nvPr/>
          </p:nvSpPr>
          <p:spPr>
            <a:xfrm>
              <a:off x="4503960" y="18288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29200" y="20574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723280" y="18288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24480" y="20574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861240" y="1822320"/>
              <a:ext cx="178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+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503960" y="2508120"/>
            <a:ext cx="4073040" cy="516600"/>
            <a:chOff x="4503960" y="2508120"/>
            <a:chExt cx="4073040" cy="516600"/>
          </a:xfrm>
        </p:grpSpPr>
        <p:sp>
          <p:nvSpPr>
            <p:cNvPr id="139" name=""/>
            <p:cNvSpPr/>
            <p:nvPr/>
          </p:nvSpPr>
          <p:spPr>
            <a:xfrm>
              <a:off x="4503960" y="25146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29200" y="27432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23280" y="25146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24480" y="27432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61600" y="2508120"/>
              <a:ext cx="171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-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905120" y="30481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905120" y="297144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3352680" y="3276720"/>
            <a:ext cx="0" cy="190476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2895120" y="2787480"/>
            <a:ext cx="2042640" cy="9669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3276720"/>
            <a:ext cx="0" cy="190476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421160" y="25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78360" y="4191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87560" y="30481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5106960" y="1600200"/>
            <a:ext cx="3668400" cy="459720"/>
            <a:chOff x="5106960" y="1600200"/>
            <a:chExt cx="3668400" cy="459720"/>
          </a:xfrm>
        </p:grpSpPr>
        <p:sp>
          <p:nvSpPr>
            <p:cNvPr id="529" name=""/>
            <p:cNvSpPr/>
            <p:nvPr/>
          </p:nvSpPr>
          <p:spPr>
            <a:xfrm>
              <a:off x="5106960" y="16002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715000" y="16002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477120" y="1828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709320" y="1600200"/>
              <a:ext cx="20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+ C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486400" y="1828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5106960" y="1981080"/>
            <a:ext cx="3571920" cy="466200"/>
            <a:chOff x="5106960" y="1981080"/>
            <a:chExt cx="3571920" cy="466200"/>
          </a:xfrm>
        </p:grpSpPr>
        <p:sp>
          <p:nvSpPr>
            <p:cNvPr id="535" name=""/>
            <p:cNvSpPr/>
            <p:nvPr/>
          </p:nvSpPr>
          <p:spPr>
            <a:xfrm>
              <a:off x="5106960" y="19875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721840" y="1987560"/>
              <a:ext cx="77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477120" y="2216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708960" y="1981080"/>
              <a:ext cx="196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 = - D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86400" y="22161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860880" y="297180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934320" y="28954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87480" y="5105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438280" y="3276720"/>
            <a:ext cx="14479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2362320" y="2971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343400" y="5181480"/>
            <a:ext cx="662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583800" y="44956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600200" y="2743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438280" y="2971800"/>
            <a:ext cx="2133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57200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8120" y="4572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768" h="480">
                <a:moveTo>
                  <a:pt x="0" y="0"/>
                </a:moveTo>
                <a:lnTo>
                  <a:pt x="768" y="0"/>
                </a:lnTo>
                <a:lnTo>
                  <a:pt x="528" y="480"/>
                </a:lnTo>
                <a:lnTo>
                  <a:pt x="0" y="480"/>
                </a:lnTo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1344" y="0"/>
                </a:lnTo>
                <a:lnTo>
                  <a:pt x="1344" y="19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0" y="192"/>
                </a:lnTo>
                <a:lnTo>
                  <a:pt x="1344" y="192"/>
                </a:lnTo>
                <a:lnTo>
                  <a:pt x="134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4343400" y="3124080"/>
            <a:ext cx="76320" cy="763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505320" y="2971800"/>
            <a:ext cx="75960" cy="22860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73932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438280" y="2971800"/>
            <a:ext cx="914400" cy="304920"/>
          </a:xfrm>
          <a:custGeom>
            <a:avLst/>
            <a:gdLst/>
            <a:ahLst/>
            <a:rect l="l" t="t" r="r" b="b"/>
            <a:pathLst>
              <a:path w="576" h="192">
                <a:moveTo>
                  <a:pt x="0" y="0"/>
                </a:moveTo>
                <a:lnTo>
                  <a:pt x="0" y="192"/>
                </a:lnTo>
                <a:lnTo>
                  <a:pt x="576" y="192"/>
                </a:lnTo>
                <a:lnTo>
                  <a:pt x="38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666880" y="3124080"/>
            <a:ext cx="76320" cy="763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82492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30481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5106960" y="2438280"/>
            <a:ext cx="3410640" cy="459720"/>
            <a:chOff x="5106960" y="2438280"/>
            <a:chExt cx="3410640" cy="459720"/>
          </a:xfrm>
        </p:grpSpPr>
        <p:sp>
          <p:nvSpPr>
            <p:cNvPr id="562" name=""/>
            <p:cNvSpPr/>
            <p:nvPr/>
          </p:nvSpPr>
          <p:spPr>
            <a:xfrm>
              <a:off x="5106960" y="24382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000" y="24382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477120" y="2666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709320" y="2438280"/>
              <a:ext cx="180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- 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486400" y="2666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304812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124080" y="3124080"/>
            <a:ext cx="76320" cy="763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833200" y="2799360"/>
            <a:ext cx="2102760" cy="17895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Subsidio a las exportaciones, sin importacione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304812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352680" y="3276720"/>
            <a:ext cx="0" cy="190476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2907720" y="2792160"/>
            <a:ext cx="2042640" cy="96660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886200" y="3276720"/>
            <a:ext cx="0" cy="190476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141720" y="5181480"/>
            <a:ext cx="636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421160" y="25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878360" y="4191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87560" y="2666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030640" y="1905120"/>
            <a:ext cx="3262320" cy="459720"/>
            <a:chOff x="5030640" y="1905120"/>
            <a:chExt cx="3262320" cy="459720"/>
          </a:xfrm>
        </p:grpSpPr>
        <p:sp>
          <p:nvSpPr>
            <p:cNvPr id="583" name=""/>
            <p:cNvSpPr/>
            <p:nvPr/>
          </p:nvSpPr>
          <p:spPr>
            <a:xfrm>
              <a:off x="5030640" y="19051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638680" y="1905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00800" y="21337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632640" y="1905120"/>
              <a:ext cx="166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+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10080" y="2133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5030640" y="1523880"/>
            <a:ext cx="3203280" cy="466200"/>
            <a:chOff x="5030640" y="1523880"/>
            <a:chExt cx="3203280" cy="466200"/>
          </a:xfrm>
        </p:grpSpPr>
        <p:sp>
          <p:nvSpPr>
            <p:cNvPr id="589" name=""/>
            <p:cNvSpPr/>
            <p:nvPr/>
          </p:nvSpPr>
          <p:spPr>
            <a:xfrm>
              <a:off x="5030640" y="15303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645520" y="1530360"/>
              <a:ext cx="74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400800" y="1758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631200" y="1523880"/>
              <a:ext cx="160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 = +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410080" y="1758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7089840" y="289548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934320" y="28195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487480" y="5105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438280" y="3276720"/>
            <a:ext cx="14479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2362320" y="2971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343400" y="5181480"/>
            <a:ext cx="6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354480" y="40384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60020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2971800"/>
            <a:ext cx="2133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57200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3526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1344" y="0"/>
                </a:lnTo>
                <a:lnTo>
                  <a:pt x="1344" y="19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768" h="480">
                <a:moveTo>
                  <a:pt x="0" y="0"/>
                </a:moveTo>
                <a:lnTo>
                  <a:pt x="768" y="0"/>
                </a:lnTo>
                <a:lnTo>
                  <a:pt x="528" y="480"/>
                </a:lnTo>
                <a:lnTo>
                  <a:pt x="0" y="480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352680" y="2971800"/>
            <a:ext cx="5335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0" y="192"/>
                </a:lnTo>
                <a:lnTo>
                  <a:pt x="1344" y="192"/>
                </a:lnTo>
                <a:lnTo>
                  <a:pt x="134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3504600" y="3048120"/>
            <a:ext cx="75960" cy="7596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962520" y="2971800"/>
            <a:ext cx="75960" cy="22860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753000" y="5181480"/>
            <a:ext cx="669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Impuesto a las Exportacione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74860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38280" y="2971800"/>
            <a:ext cx="914400" cy="304920"/>
          </a:xfrm>
          <a:custGeom>
            <a:avLst/>
            <a:gdLst/>
            <a:ahLst/>
            <a:rect l="l" t="t" r="r" b="b"/>
            <a:pathLst>
              <a:path w="576" h="192">
                <a:moveTo>
                  <a:pt x="0" y="0"/>
                </a:moveTo>
                <a:lnTo>
                  <a:pt x="0" y="192"/>
                </a:lnTo>
                <a:lnTo>
                  <a:pt x="576" y="192"/>
                </a:lnTo>
                <a:lnTo>
                  <a:pt x="384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666880" y="2971800"/>
            <a:ext cx="76320" cy="2286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200400" y="2971800"/>
            <a:ext cx="76320" cy="15228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5030640" y="2286000"/>
            <a:ext cx="3799800" cy="459720"/>
            <a:chOff x="5030640" y="2286000"/>
            <a:chExt cx="3799800" cy="459720"/>
          </a:xfrm>
        </p:grpSpPr>
        <p:sp>
          <p:nvSpPr>
            <p:cNvPr id="617" name=""/>
            <p:cNvSpPr/>
            <p:nvPr/>
          </p:nvSpPr>
          <p:spPr>
            <a:xfrm>
              <a:off x="5030640" y="22860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638680" y="22860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400800" y="25146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633360" y="228600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- CDB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410080" y="2514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2833200" y="2799360"/>
            <a:ext cx="2102760" cy="17895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396216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048120" y="5029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7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304812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352680" y="3276720"/>
            <a:ext cx="0" cy="190476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2907720" y="2792160"/>
            <a:ext cx="2042640" cy="96660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411280" y="2205000"/>
            <a:ext cx="27000" cy="2976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053080" y="20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38840" y="5181480"/>
            <a:ext cx="60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421160" y="25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78360" y="4191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987560" y="2666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5030640" y="1905120"/>
            <a:ext cx="3262320" cy="459720"/>
            <a:chOff x="5030640" y="1905120"/>
            <a:chExt cx="3262320" cy="459720"/>
          </a:xfrm>
        </p:grpSpPr>
        <p:sp>
          <p:nvSpPr>
            <p:cNvPr id="636" name=""/>
            <p:cNvSpPr/>
            <p:nvPr/>
          </p:nvSpPr>
          <p:spPr>
            <a:xfrm>
              <a:off x="5030640" y="19051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638680" y="1905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400800" y="21337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632640" y="1905120"/>
              <a:ext cx="166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+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410080" y="2133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5078160" y="2276640"/>
            <a:ext cx="3351600" cy="465840"/>
            <a:chOff x="5078160" y="2276640"/>
            <a:chExt cx="3351600" cy="465840"/>
          </a:xfrm>
        </p:grpSpPr>
        <p:sp>
          <p:nvSpPr>
            <p:cNvPr id="642" name=""/>
            <p:cNvSpPr/>
            <p:nvPr/>
          </p:nvSpPr>
          <p:spPr>
            <a:xfrm>
              <a:off x="5078160" y="22827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693040" y="228276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448320" y="25113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679440" y="2276640"/>
              <a:ext cx="175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 = - 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457600" y="2511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" name=""/>
          <p:cNvSpPr/>
          <p:nvPr/>
        </p:nvSpPr>
        <p:spPr>
          <a:xfrm>
            <a:off x="6806160" y="285264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934320" y="28195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487480" y="5105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438280" y="3276720"/>
            <a:ext cx="981360" cy="7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2362320" y="2971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343400" y="5181480"/>
            <a:ext cx="6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637080" y="41497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0020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38280" y="2971800"/>
            <a:ext cx="2133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57200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352680" y="4572000"/>
            <a:ext cx="1219320" cy="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1344" y="0"/>
                </a:lnTo>
                <a:lnTo>
                  <a:pt x="1344" y="19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Subsidio al consumo de origen local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74860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438280" y="2971800"/>
            <a:ext cx="914400" cy="304920"/>
          </a:xfrm>
          <a:custGeom>
            <a:avLst/>
            <a:gdLst/>
            <a:ahLst/>
            <a:rect l="l" t="t" r="r" b="b"/>
            <a:pathLst>
              <a:path w="576" h="192">
                <a:moveTo>
                  <a:pt x="0" y="0"/>
                </a:moveTo>
                <a:lnTo>
                  <a:pt x="0" y="192"/>
                </a:lnTo>
                <a:lnTo>
                  <a:pt x="576" y="192"/>
                </a:lnTo>
                <a:lnTo>
                  <a:pt x="384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666880" y="2971800"/>
            <a:ext cx="76320" cy="2286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833200" y="2799360"/>
            <a:ext cx="2102760" cy="17895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048120" y="5029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200400" y="2971800"/>
            <a:ext cx="76320" cy="15228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411280" y="2971800"/>
            <a:ext cx="9367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0" y="192"/>
                </a:lnTo>
                <a:lnTo>
                  <a:pt x="1344" y="192"/>
                </a:lnTo>
                <a:lnTo>
                  <a:pt x="134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514600" y="3657600"/>
            <a:ext cx="2666880" cy="685800"/>
          </a:xfrm>
          <a:custGeom>
            <a:avLst/>
            <a:gdLst/>
            <a:ahLst/>
            <a:rect l="l" t="t" r="r" b="b"/>
            <a:pathLst>
              <a:path w="1680" h="432">
                <a:moveTo>
                  <a:pt x="0" y="0"/>
                </a:moveTo>
                <a:lnTo>
                  <a:pt x="1680" y="0"/>
                </a:lnTo>
                <a:lnTo>
                  <a:pt x="1152" y="432"/>
                </a:lnTo>
                <a:lnTo>
                  <a:pt x="0" y="432"/>
                </a:lnTo>
                <a:lnTo>
                  <a:pt x="0" y="0"/>
                </a:lnTo>
                <a:close/>
              </a:path>
            </a:pathLst>
          </a:custGeom>
          <a:solidFill>
            <a:srgbClr val="a1bd6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cedente del producto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14600" y="259092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5562720"/>
            <a:ext cx="4038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302640" y="3263760"/>
            <a:ext cx="2295000" cy="1943280"/>
          </a:xfrm>
          <a:prstGeom prst="line">
            <a:avLst/>
          </a:prstGeom>
          <a:ln w="572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73280" y="5562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35160" y="2438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514600" y="3657600"/>
            <a:ext cx="2666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514600" y="4343400"/>
            <a:ext cx="1828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66040" y="335268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66040" y="403848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43400" y="434340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61520" y="556272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23440" y="556272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10800" y="34290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3657600"/>
            <a:ext cx="0" cy="1905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54840" y="3733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360960" y="1523880"/>
            <a:ext cx="3835800" cy="516600"/>
            <a:chOff x="3360960" y="1523880"/>
            <a:chExt cx="3835800" cy="516600"/>
          </a:xfrm>
        </p:grpSpPr>
        <p:sp>
          <p:nvSpPr>
            <p:cNvPr id="164" name=""/>
            <p:cNvSpPr/>
            <p:nvPr/>
          </p:nvSpPr>
          <p:spPr>
            <a:xfrm>
              <a:off x="3360960" y="15303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86200" y="17589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80280" y="15303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181480" y="1758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17520" y="1523880"/>
              <a:ext cx="147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-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360960" y="2209680"/>
            <a:ext cx="3907440" cy="516600"/>
            <a:chOff x="3360960" y="2209680"/>
            <a:chExt cx="3907440" cy="516600"/>
          </a:xfrm>
        </p:grpSpPr>
        <p:sp>
          <p:nvSpPr>
            <p:cNvPr id="170" name=""/>
            <p:cNvSpPr/>
            <p:nvPr/>
          </p:nvSpPr>
          <p:spPr>
            <a:xfrm>
              <a:off x="3360960" y="22161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86200" y="24447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80280" y="22161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81480" y="2444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17520" y="220968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+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1905120" y="3657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905120" y="365724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438280" y="3276720"/>
            <a:ext cx="1828800" cy="609480"/>
          </a:xfrm>
          <a:custGeom>
            <a:avLst/>
            <a:gdLst/>
            <a:ahLst/>
            <a:rect l="l" t="t" r="r" b="b"/>
            <a:pathLst>
              <a:path w="1152" h="384">
                <a:moveTo>
                  <a:pt x="0" y="384"/>
                </a:moveTo>
                <a:lnTo>
                  <a:pt x="1152" y="384"/>
                </a:lnTo>
                <a:lnTo>
                  <a:pt x="528" y="0"/>
                </a:lnTo>
                <a:lnTo>
                  <a:pt x="0" y="0"/>
                </a:lnTo>
                <a:lnTo>
                  <a:pt x="0" y="384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38280" y="3886200"/>
            <a:ext cx="1828800" cy="457200"/>
          </a:xfrm>
          <a:custGeom>
            <a:avLst/>
            <a:gdLst/>
            <a:ahLst/>
            <a:rect l="l" t="t" r="r" b="b"/>
            <a:pathLst>
              <a:path w="1152" h="288">
                <a:moveTo>
                  <a:pt x="0" y="0"/>
                </a:moveTo>
                <a:lnTo>
                  <a:pt x="1152" y="0"/>
                </a:lnTo>
                <a:lnTo>
                  <a:pt x="528" y="288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38280" y="3886200"/>
            <a:ext cx="838440" cy="457200"/>
          </a:xfrm>
          <a:custGeom>
            <a:avLst/>
            <a:gdLst/>
            <a:ahLst/>
            <a:rect l="l" t="t" r="r" b="b"/>
            <a:pathLst>
              <a:path w="528" h="288">
                <a:moveTo>
                  <a:pt x="0" y="0"/>
                </a:moveTo>
                <a:lnTo>
                  <a:pt x="528" y="0"/>
                </a:lnTo>
                <a:lnTo>
                  <a:pt x="528" y="288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38280" y="3276720"/>
            <a:ext cx="838440" cy="609480"/>
          </a:xfrm>
          <a:custGeom>
            <a:avLst/>
            <a:gdLst/>
            <a:ahLst/>
            <a:rect l="l" t="t" r="r" b="b"/>
            <a:pathLst>
              <a:path w="528" h="384">
                <a:moveTo>
                  <a:pt x="0" y="0"/>
                </a:moveTo>
                <a:lnTo>
                  <a:pt x="528" y="0"/>
                </a:lnTo>
                <a:lnTo>
                  <a:pt x="528" y="384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66880" y="3352680"/>
            <a:ext cx="381240" cy="4597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Variación de Excedentes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4400"/>
            </a:br>
            <a:r>
              <a:rPr b="1" i="1" lang="en-US" sz="3600" spc="-1" strike="noStrike">
                <a:solidFill>
                  <a:srgbClr val="221304"/>
                </a:solidFill>
                <a:latin typeface="Times New Roman"/>
              </a:rPr>
              <a:t>Impuesto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19520" y="2971800"/>
            <a:ext cx="2286000" cy="144792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971800" y="3428640"/>
            <a:ext cx="2209680" cy="106668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437920" y="3276720"/>
            <a:ext cx="838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362320" y="43434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62800" y="297180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62800" y="411480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67080" y="3962520"/>
            <a:ext cx="0" cy="1218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16240" y="5181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4343400"/>
            <a:ext cx="0" cy="8380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85480" y="5181480"/>
            <a:ext cx="56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26080" y="3200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30640" y="4038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62800" y="411480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8840" y="3657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437920" y="38862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5411880" y="1523880"/>
            <a:ext cx="3165120" cy="466200"/>
            <a:chOff x="5411880" y="1523880"/>
            <a:chExt cx="3165120" cy="466200"/>
          </a:xfrm>
        </p:grpSpPr>
        <p:sp>
          <p:nvSpPr>
            <p:cNvPr id="202" name=""/>
            <p:cNvSpPr/>
            <p:nvPr/>
          </p:nvSpPr>
          <p:spPr>
            <a:xfrm>
              <a:off x="5411880" y="15303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28200" y="1523880"/>
              <a:ext cx="46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77120" y="17524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61600" y="1523880"/>
              <a:ext cx="171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-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91320" y="1752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411880" y="1981080"/>
            <a:ext cx="2915280" cy="466200"/>
            <a:chOff x="5411880" y="1981080"/>
            <a:chExt cx="2915280" cy="466200"/>
          </a:xfrm>
        </p:grpSpPr>
        <p:sp>
          <p:nvSpPr>
            <p:cNvPr id="208" name=""/>
            <p:cNvSpPr/>
            <p:nvPr/>
          </p:nvSpPr>
          <p:spPr>
            <a:xfrm>
              <a:off x="5411880" y="19875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28200" y="1981080"/>
              <a:ext cx="46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77120" y="22096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07880" y="1981080"/>
              <a:ext cx="16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= +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91320" y="2209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411880" y="2362320"/>
            <a:ext cx="3224160" cy="465840"/>
            <a:chOff x="5411880" y="2362320"/>
            <a:chExt cx="3224160" cy="465840"/>
          </a:xfrm>
        </p:grpSpPr>
        <p:sp>
          <p:nvSpPr>
            <p:cNvPr id="214" name=""/>
            <p:cNvSpPr/>
            <p:nvPr/>
          </p:nvSpPr>
          <p:spPr>
            <a:xfrm>
              <a:off x="5411880" y="23684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27840" y="236232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77120" y="25909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61240" y="2362320"/>
              <a:ext cx="177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- 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91320" y="2590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77120" y="25909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91320" y="2590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411880" y="2743200"/>
            <a:ext cx="2991240" cy="466200"/>
            <a:chOff x="5411880" y="2743200"/>
            <a:chExt cx="2991240" cy="466200"/>
          </a:xfrm>
        </p:grpSpPr>
        <p:sp>
          <p:nvSpPr>
            <p:cNvPr id="222" name=""/>
            <p:cNvSpPr/>
            <p:nvPr/>
          </p:nvSpPr>
          <p:spPr>
            <a:xfrm>
              <a:off x="5411880" y="27496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27840" y="274320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77120" y="2971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860160" y="2743200"/>
              <a:ext cx="154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= +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791320" y="2971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6860880" y="312408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34320" y="32004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87480" y="5181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76720" y="3276720"/>
            <a:ext cx="0" cy="10666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66880" y="3886200"/>
            <a:ext cx="381240" cy="4597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3962520"/>
            <a:ext cx="152280" cy="30456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3429000"/>
            <a:ext cx="304560" cy="45720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36232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6232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 flipH="1">
            <a:off x="2438280" y="3886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67080" y="3962520"/>
            <a:ext cx="0" cy="1218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836880" y="2729160"/>
            <a:ext cx="1013040" cy="20847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32480" y="2952000"/>
            <a:ext cx="2260080" cy="148752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438280" y="3276720"/>
            <a:ext cx="2133720" cy="838080"/>
          </a:xfrm>
          <a:custGeom>
            <a:avLst/>
            <a:gdLst/>
            <a:ahLst/>
            <a:rect l="l" t="t" r="r" b="b"/>
            <a:pathLst>
              <a:path w="1344" h="528">
                <a:moveTo>
                  <a:pt x="0" y="0"/>
                </a:moveTo>
                <a:lnTo>
                  <a:pt x="1344" y="0"/>
                </a:lnTo>
                <a:lnTo>
                  <a:pt x="1344" y="528"/>
                </a:lnTo>
                <a:lnTo>
                  <a:pt x="0" y="528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38280" y="3276720"/>
            <a:ext cx="2133720" cy="609480"/>
          </a:xfrm>
          <a:custGeom>
            <a:avLst/>
            <a:gdLst/>
            <a:ahLst/>
            <a:rect l="l" t="t" r="r" b="b"/>
            <a:pathLst>
              <a:path w="1344" h="384">
                <a:moveTo>
                  <a:pt x="0" y="0"/>
                </a:moveTo>
                <a:lnTo>
                  <a:pt x="1344" y="0"/>
                </a:lnTo>
                <a:lnTo>
                  <a:pt x="1152" y="384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52680" y="3352680"/>
            <a:ext cx="381240" cy="4597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Variación de Excedentes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4400"/>
            </a:br>
            <a:r>
              <a:rPr b="1" i="1" lang="en-US" sz="3600" spc="-1" strike="noStrike">
                <a:solidFill>
                  <a:srgbClr val="221304"/>
                </a:solidFill>
                <a:latin typeface="Times New Roman"/>
              </a:rPr>
              <a:t>Subsidio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437920" y="3276720"/>
            <a:ext cx="2133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437920" y="4114800"/>
            <a:ext cx="2133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62800" y="297180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062800" y="411480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16240" y="5181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4114800"/>
            <a:ext cx="0" cy="1066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32320" y="5181480"/>
            <a:ext cx="55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21160" y="25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30640" y="4038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62800" y="411480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8840" y="3657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411880" y="2590920"/>
            <a:ext cx="3109680" cy="465840"/>
            <a:chOff x="5411880" y="2590920"/>
            <a:chExt cx="3109680" cy="465840"/>
          </a:xfrm>
        </p:grpSpPr>
        <p:sp>
          <p:nvSpPr>
            <p:cNvPr id="259" name=""/>
            <p:cNvSpPr/>
            <p:nvPr/>
          </p:nvSpPr>
          <p:spPr>
            <a:xfrm>
              <a:off x="5411880" y="25970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28200" y="2590920"/>
              <a:ext cx="46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77120" y="2819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61240" y="2590920"/>
              <a:ext cx="166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+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91320" y="28191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5411880" y="2057400"/>
            <a:ext cx="3151800" cy="465840"/>
            <a:chOff x="5411880" y="2057400"/>
            <a:chExt cx="3151800" cy="465840"/>
          </a:xfrm>
        </p:grpSpPr>
        <p:sp>
          <p:nvSpPr>
            <p:cNvPr id="265" name=""/>
            <p:cNvSpPr/>
            <p:nvPr/>
          </p:nvSpPr>
          <p:spPr>
            <a:xfrm>
              <a:off x="5411880" y="20635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027840" y="205740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7712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60520" y="2057400"/>
              <a:ext cx="170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+ 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9132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47712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79132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410080" y="1676520"/>
            <a:ext cx="2273760" cy="459720"/>
            <a:chOff x="5410080" y="1676520"/>
            <a:chExt cx="2273760" cy="459720"/>
          </a:xfrm>
        </p:grpSpPr>
        <p:sp>
          <p:nvSpPr>
            <p:cNvPr id="273" name=""/>
            <p:cNvSpPr/>
            <p:nvPr/>
          </p:nvSpPr>
          <p:spPr>
            <a:xfrm>
              <a:off x="5410080" y="16765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 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53080" y="1905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36120" y="1676520"/>
              <a:ext cx="74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7012440" y="31240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34320" y="32004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87480" y="5105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0" y="3276720"/>
            <a:ext cx="0" cy="8380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43400" y="3733920"/>
            <a:ext cx="76320" cy="2286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36232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6232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438280" y="3886200"/>
            <a:ext cx="2133720" cy="228600"/>
          </a:xfrm>
          <a:custGeom>
            <a:avLst/>
            <a:gdLst/>
            <a:ahLst/>
            <a:rect l="l" t="t" r="r" b="b"/>
            <a:pathLst>
              <a:path w="1344" h="144">
                <a:moveTo>
                  <a:pt x="0" y="0"/>
                </a:moveTo>
                <a:lnTo>
                  <a:pt x="1152" y="0"/>
                </a:lnTo>
                <a:lnTo>
                  <a:pt x="1344" y="144"/>
                </a:lnTo>
                <a:lnTo>
                  <a:pt x="0" y="144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52680" y="3886200"/>
            <a:ext cx="76320" cy="22860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22640" y="167652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-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657600" y="3505320"/>
            <a:ext cx="0" cy="1676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438280" y="3505320"/>
            <a:ext cx="2362320" cy="761760"/>
          </a:xfrm>
          <a:custGeom>
            <a:avLst/>
            <a:gdLst/>
            <a:ahLst/>
            <a:rect l="l" t="t" r="r" b="b"/>
            <a:pathLst>
              <a:path w="1488" h="480">
                <a:moveTo>
                  <a:pt x="0" y="0"/>
                </a:moveTo>
                <a:lnTo>
                  <a:pt x="768" y="0"/>
                </a:lnTo>
                <a:lnTo>
                  <a:pt x="1488" y="480"/>
                </a:lnTo>
                <a:lnTo>
                  <a:pt x="0" y="480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437920" y="3505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76720" y="4267080"/>
            <a:ext cx="0" cy="91440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075120" y="2576880"/>
            <a:ext cx="1012680" cy="20847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32480" y="2952000"/>
            <a:ext cx="2260080" cy="148752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Importacione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506760" y="5181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800600" y="4267080"/>
            <a:ext cx="0" cy="91440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9920" y="518148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21160" y="25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30640" y="4038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7560" y="40384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058840" y="335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411880" y="1600200"/>
            <a:ext cx="3312720" cy="466200"/>
            <a:chOff x="5411880" y="1600200"/>
            <a:chExt cx="3312720" cy="466200"/>
          </a:xfrm>
        </p:grpSpPr>
        <p:sp>
          <p:nvSpPr>
            <p:cNvPr id="304" name=""/>
            <p:cNvSpPr/>
            <p:nvPr/>
          </p:nvSpPr>
          <p:spPr>
            <a:xfrm>
              <a:off x="5411880" y="16066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26760" y="1600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477120" y="1828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61600" y="1600200"/>
              <a:ext cx="186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+ 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791320" y="1828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5411880" y="2057400"/>
            <a:ext cx="3080160" cy="465840"/>
            <a:chOff x="5411880" y="2057400"/>
            <a:chExt cx="3080160" cy="465840"/>
          </a:xfrm>
        </p:grpSpPr>
        <p:sp>
          <p:nvSpPr>
            <p:cNvPr id="310" name=""/>
            <p:cNvSpPr/>
            <p:nvPr/>
          </p:nvSpPr>
          <p:spPr>
            <a:xfrm>
              <a:off x="5411880" y="20635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26760" y="2057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47712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60520" y="2057400"/>
              <a:ext cx="163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- 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9132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79132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7241040" y="251460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+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34320" y="25146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87480" y="5105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438280" y="4267080"/>
            <a:ext cx="23623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33920" y="3809880"/>
            <a:ext cx="75960" cy="2286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36232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55680" y="518148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3276720" y="4724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657600" y="4724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438280" y="3505320"/>
            <a:ext cx="1219320" cy="761760"/>
          </a:xfrm>
          <a:custGeom>
            <a:avLst/>
            <a:gdLst/>
            <a:ahLst/>
            <a:rect l="l" t="t" r="r" b="b"/>
            <a:pathLst>
              <a:path w="768" h="480">
                <a:moveTo>
                  <a:pt x="0" y="0"/>
                </a:moveTo>
                <a:lnTo>
                  <a:pt x="768" y="0"/>
                </a:lnTo>
                <a:lnTo>
                  <a:pt x="528" y="480"/>
                </a:lnTo>
                <a:lnTo>
                  <a:pt x="0" y="480"/>
                </a:lnTo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3657600"/>
            <a:ext cx="380880" cy="4572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429720" y="43434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505320" y="3809880"/>
            <a:ext cx="0" cy="137160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14800" y="3809880"/>
            <a:ext cx="0" cy="137160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76720" y="426708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32480" y="2952000"/>
            <a:ext cx="2260080" cy="148752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800600" y="426708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9920" y="518148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735360" y="2438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30640" y="4038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11600" y="40384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578840" y="2514600"/>
            <a:ext cx="4209480" cy="510120"/>
            <a:chOff x="4578840" y="2514600"/>
            <a:chExt cx="4209480" cy="510120"/>
          </a:xfrm>
        </p:grpSpPr>
        <p:sp>
          <p:nvSpPr>
            <p:cNvPr id="342" name=""/>
            <p:cNvSpPr/>
            <p:nvPr/>
          </p:nvSpPr>
          <p:spPr>
            <a:xfrm>
              <a:off x="4578840" y="2514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24240" y="2514600"/>
              <a:ext cx="983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019560" y="2743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557760" y="2514600"/>
              <a:ext cx="223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- AB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952880" y="2743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7013520" y="320040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934320" y="31240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868360" y="5181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38280" y="4267080"/>
            <a:ext cx="23623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5352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506040" y="464832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3505320"/>
            <a:ext cx="103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438280" y="3809880"/>
            <a:ext cx="16765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23623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438280" y="3809880"/>
            <a:ext cx="2362320" cy="457200"/>
          </a:xfrm>
          <a:custGeom>
            <a:avLst/>
            <a:gdLst/>
            <a:ahLst/>
            <a:rect l="l" t="t" r="r" b="b"/>
            <a:pathLst>
              <a:path w="1488" h="288">
                <a:moveTo>
                  <a:pt x="0" y="288"/>
                </a:moveTo>
                <a:lnTo>
                  <a:pt x="1488" y="288"/>
                </a:lnTo>
                <a:lnTo>
                  <a:pt x="1056" y="0"/>
                </a:lnTo>
                <a:lnTo>
                  <a:pt x="0" y="0"/>
                </a:lnTo>
                <a:lnTo>
                  <a:pt x="0" y="288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438280" y="3809880"/>
            <a:ext cx="1067040" cy="45720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0"/>
                </a:moveTo>
                <a:lnTo>
                  <a:pt x="672" y="0"/>
                </a:lnTo>
                <a:lnTo>
                  <a:pt x="528" y="288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43200" y="3809880"/>
            <a:ext cx="380880" cy="45720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578840" y="1523880"/>
            <a:ext cx="3603600" cy="586440"/>
            <a:chOff x="4578840" y="1523880"/>
            <a:chExt cx="3603600" cy="586440"/>
          </a:xfrm>
        </p:grpSpPr>
        <p:sp>
          <p:nvSpPr>
            <p:cNvPr id="360" name=""/>
            <p:cNvSpPr/>
            <p:nvPr/>
          </p:nvSpPr>
          <p:spPr>
            <a:xfrm>
              <a:off x="6555600" y="1523880"/>
              <a:ext cx="162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+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172200" y="1828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578840" y="1600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200560" y="1600200"/>
              <a:ext cx="983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952880" y="1828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 flipV="1">
            <a:off x="3075120" y="2576880"/>
            <a:ext cx="1012680" cy="20847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505320" y="3809880"/>
            <a:ext cx="609480" cy="4572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0" y="0"/>
                </a:moveTo>
                <a:lnTo>
                  <a:pt x="384" y="0"/>
                </a:lnTo>
                <a:lnTo>
                  <a:pt x="384" y="288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4578840" y="1981080"/>
            <a:ext cx="3578760" cy="586440"/>
            <a:chOff x="4578840" y="1981080"/>
            <a:chExt cx="3578760" cy="586440"/>
          </a:xfrm>
        </p:grpSpPr>
        <p:sp>
          <p:nvSpPr>
            <p:cNvPr id="368" name=""/>
            <p:cNvSpPr/>
            <p:nvPr/>
          </p:nvSpPr>
          <p:spPr>
            <a:xfrm>
              <a:off x="6554880" y="1981080"/>
              <a:ext cx="160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 = +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17220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578840" y="2057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00560" y="2057400"/>
              <a:ext cx="983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5288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3657600" y="3962520"/>
            <a:ext cx="76320" cy="228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343400" y="4038480"/>
            <a:ext cx="76320" cy="15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429000" y="4114800"/>
            <a:ext cx="76320" cy="15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352680" y="5181480"/>
            <a:ext cx="79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5181480"/>
            <a:ext cx="79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411444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5053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Arancel a las importacione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505320" y="3809880"/>
            <a:ext cx="0" cy="137160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114800" y="3809880"/>
            <a:ext cx="0" cy="137160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76720" y="426708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32480" y="2952000"/>
            <a:ext cx="2260080" cy="148752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00600" y="426708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579920" y="518148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735360" y="2438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0640" y="4038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11600" y="40384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013520" y="320040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4807440" y="2438280"/>
            <a:ext cx="4107960" cy="609480"/>
            <a:chOff x="4807440" y="2438280"/>
            <a:chExt cx="4107960" cy="609480"/>
          </a:xfrm>
        </p:grpSpPr>
        <p:sp>
          <p:nvSpPr>
            <p:cNvPr id="396" name=""/>
            <p:cNvSpPr/>
            <p:nvPr/>
          </p:nvSpPr>
          <p:spPr>
            <a:xfrm>
              <a:off x="4807440" y="24382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96840" y="243828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096240" y="2666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634080" y="2438280"/>
              <a:ext cx="223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- AB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57800" y="2666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010640" y="3047760"/>
              <a:ext cx="190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5868360" y="5181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38280" y="4267080"/>
            <a:ext cx="23623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05352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06040" y="464832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905120" y="3505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438280" y="3809880"/>
            <a:ext cx="16765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23623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438280" y="3809880"/>
            <a:ext cx="2362320" cy="457200"/>
          </a:xfrm>
          <a:custGeom>
            <a:avLst/>
            <a:gdLst/>
            <a:ahLst/>
            <a:rect l="l" t="t" r="r" b="b"/>
            <a:pathLst>
              <a:path w="1488" h="288">
                <a:moveTo>
                  <a:pt x="0" y="288"/>
                </a:moveTo>
                <a:lnTo>
                  <a:pt x="1488" y="288"/>
                </a:lnTo>
                <a:lnTo>
                  <a:pt x="1056" y="0"/>
                </a:lnTo>
                <a:lnTo>
                  <a:pt x="0" y="0"/>
                </a:lnTo>
                <a:lnTo>
                  <a:pt x="0" y="288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438280" y="3809880"/>
            <a:ext cx="1067040" cy="45720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0"/>
                </a:moveTo>
                <a:lnTo>
                  <a:pt x="672" y="0"/>
                </a:lnTo>
                <a:lnTo>
                  <a:pt x="528" y="288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743200" y="3809880"/>
            <a:ext cx="380880" cy="45720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3075120" y="2576880"/>
            <a:ext cx="1012680" cy="20847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505320" y="3809880"/>
            <a:ext cx="609480" cy="4572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0" y="0"/>
                </a:moveTo>
                <a:lnTo>
                  <a:pt x="384" y="0"/>
                </a:lnTo>
                <a:lnTo>
                  <a:pt x="384" y="288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4273920" y="1981080"/>
            <a:ext cx="3994200" cy="536040"/>
            <a:chOff x="4273920" y="1981080"/>
            <a:chExt cx="3994200" cy="536040"/>
          </a:xfrm>
        </p:grpSpPr>
        <p:sp>
          <p:nvSpPr>
            <p:cNvPr id="415" name=""/>
            <p:cNvSpPr/>
            <p:nvPr/>
          </p:nvSpPr>
          <p:spPr>
            <a:xfrm>
              <a:off x="5792400" y="1981080"/>
              <a:ext cx="247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(imp)  = +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10080" y="22860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273920" y="2057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87360" y="205740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72428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3657600" y="3962520"/>
            <a:ext cx="76320" cy="228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343400" y="4038480"/>
            <a:ext cx="76320" cy="15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29000" y="4114800"/>
            <a:ext cx="76320" cy="15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352680" y="5181480"/>
            <a:ext cx="79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62520" y="5181480"/>
            <a:ext cx="79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276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11444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053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Restricción cuantitativa a las importacione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5112360" y="1523880"/>
            <a:ext cx="3222360" cy="459720"/>
            <a:chOff x="5112360" y="1523880"/>
            <a:chExt cx="3222360" cy="459720"/>
          </a:xfrm>
        </p:grpSpPr>
        <p:sp>
          <p:nvSpPr>
            <p:cNvPr id="430" name=""/>
            <p:cNvSpPr/>
            <p:nvPr/>
          </p:nvSpPr>
          <p:spPr>
            <a:xfrm>
              <a:off x="6707880" y="1523880"/>
              <a:ext cx="162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+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324480" y="1828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12360" y="15238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62360" y="182880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801400" y="152388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04812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657600" y="3505320"/>
            <a:ext cx="0" cy="1676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438280" y="2971800"/>
            <a:ext cx="1219320" cy="533520"/>
          </a:xfrm>
          <a:custGeom>
            <a:avLst/>
            <a:gdLst/>
            <a:ahLst/>
            <a:rect l="l" t="t" r="r" b="b"/>
            <a:pathLst>
              <a:path w="1488" h="480">
                <a:moveTo>
                  <a:pt x="0" y="0"/>
                </a:moveTo>
                <a:lnTo>
                  <a:pt x="768" y="0"/>
                </a:lnTo>
                <a:lnTo>
                  <a:pt x="1488" y="480"/>
                </a:lnTo>
                <a:lnTo>
                  <a:pt x="0" y="480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2437920" y="3505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2834640" y="2797920"/>
            <a:ext cx="1485360" cy="156672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506760" y="5181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9112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51120" y="518148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21160" y="25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030640" y="4038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87560" y="27432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058840" y="335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5411880" y="1600200"/>
            <a:ext cx="3038040" cy="466200"/>
            <a:chOff x="5411880" y="1600200"/>
            <a:chExt cx="3038040" cy="466200"/>
          </a:xfrm>
        </p:grpSpPr>
        <p:sp>
          <p:nvSpPr>
            <p:cNvPr id="451" name=""/>
            <p:cNvSpPr/>
            <p:nvPr/>
          </p:nvSpPr>
          <p:spPr>
            <a:xfrm>
              <a:off x="5411880" y="16066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026760" y="1600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77120" y="1828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861240" y="1600200"/>
              <a:ext cx="158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-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791320" y="1828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5411880" y="2057400"/>
            <a:ext cx="3278520" cy="465840"/>
            <a:chOff x="5411880" y="2057400"/>
            <a:chExt cx="3278520" cy="465840"/>
          </a:xfrm>
        </p:grpSpPr>
        <p:sp>
          <p:nvSpPr>
            <p:cNvPr id="457" name=""/>
            <p:cNvSpPr/>
            <p:nvPr/>
          </p:nvSpPr>
          <p:spPr>
            <a:xfrm>
              <a:off x="5411880" y="20635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26760" y="2057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47712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860880" y="2057400"/>
              <a:ext cx="182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+ 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79132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47712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79132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7241040" y="251460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+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934320" y="25146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487480" y="5105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2971800"/>
            <a:ext cx="17528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362320" y="2971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970080" y="518148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657600" y="4724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97144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438280" y="2971800"/>
            <a:ext cx="1752840" cy="533520"/>
          </a:xfrm>
          <a:custGeom>
            <a:avLst/>
            <a:gdLst/>
            <a:ahLst/>
            <a:rect l="l" t="t" r="r" b="b"/>
            <a:pathLst>
              <a:path w="768" h="480">
                <a:moveTo>
                  <a:pt x="0" y="0"/>
                </a:moveTo>
                <a:lnTo>
                  <a:pt x="768" y="0"/>
                </a:lnTo>
                <a:lnTo>
                  <a:pt x="528" y="480"/>
                </a:lnTo>
                <a:lnTo>
                  <a:pt x="0" y="480"/>
                </a:lnTo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666880" y="2971800"/>
            <a:ext cx="381240" cy="4572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355200" y="46483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81280" y="3048120"/>
            <a:ext cx="76320" cy="22860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33200" y="2799360"/>
            <a:ext cx="2102760" cy="17895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Exportacione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3352680" y="3276720"/>
            <a:ext cx="0" cy="190476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895120" y="2787480"/>
            <a:ext cx="2042640" cy="9669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886200" y="3276720"/>
            <a:ext cx="0" cy="190476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12984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421160" y="25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878360" y="4191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987560" y="30481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5106960" y="1600200"/>
            <a:ext cx="3228120" cy="459720"/>
            <a:chOff x="5106960" y="1600200"/>
            <a:chExt cx="3228120" cy="459720"/>
          </a:xfrm>
        </p:grpSpPr>
        <p:sp>
          <p:nvSpPr>
            <p:cNvPr id="489" name=""/>
            <p:cNvSpPr/>
            <p:nvPr/>
          </p:nvSpPr>
          <p:spPr>
            <a:xfrm>
              <a:off x="5106960" y="16002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715000" y="16002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477120" y="1828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708240" y="1600200"/>
              <a:ext cx="162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+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86400" y="1828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5106960" y="1981080"/>
            <a:ext cx="3351600" cy="466200"/>
            <a:chOff x="5106960" y="1981080"/>
            <a:chExt cx="3351600" cy="466200"/>
          </a:xfrm>
        </p:grpSpPr>
        <p:sp>
          <p:nvSpPr>
            <p:cNvPr id="495" name=""/>
            <p:cNvSpPr/>
            <p:nvPr/>
          </p:nvSpPr>
          <p:spPr>
            <a:xfrm>
              <a:off x="5106960" y="19875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21840" y="1987560"/>
              <a:ext cx="77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77120" y="2216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08240" y="1981080"/>
              <a:ext cx="175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 = - 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486400" y="22161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6860160" y="25146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934320" y="25146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87480" y="5105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38280" y="3276720"/>
            <a:ext cx="14479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2362320" y="2971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3400" y="5181480"/>
            <a:ext cx="662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583800" y="44956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33200" y="2799360"/>
            <a:ext cx="2102760" cy="17895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00200" y="2743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438280" y="2971800"/>
            <a:ext cx="2133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57200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352680" y="4572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768" h="480">
                <a:moveTo>
                  <a:pt x="0" y="0"/>
                </a:moveTo>
                <a:lnTo>
                  <a:pt x="768" y="0"/>
                </a:lnTo>
                <a:lnTo>
                  <a:pt x="528" y="480"/>
                </a:lnTo>
                <a:lnTo>
                  <a:pt x="0" y="480"/>
                </a:lnTo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1344" y="0"/>
                </a:lnTo>
                <a:lnTo>
                  <a:pt x="1344" y="19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0" y="192"/>
                </a:lnTo>
                <a:lnTo>
                  <a:pt x="1344" y="192"/>
                </a:lnTo>
                <a:lnTo>
                  <a:pt x="134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4343400" y="3124080"/>
            <a:ext cx="76320" cy="763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200400" y="2971800"/>
            <a:ext cx="76320" cy="22860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73932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Subsidio a las Exportacione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03:24:24Z</dcterms:created>
  <dc:creator>Marco Hauva</dc:creator>
  <dc:description/>
  <dc:language>en-US</dc:language>
  <cp:lastModifiedBy>Marco Hauva</cp:lastModifiedBy>
  <dcterms:modified xsi:type="dcterms:W3CDTF">2004-10-07T13:37:40Z</dcterms:modified>
  <cp:revision>32</cp:revision>
  <dc:subject/>
  <dc:title>Análisis de Variación de Excedentes</dc:title>
</cp:coreProperties>
</file>