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TECL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49B2-A5D6-4966-B3C0-070A90A6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FF0C-691E-4307-8B39-FBE28015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3C6A-423D-40BF-A2FD-D33B540B4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EADF-A3BD-4A21-AAA8-8FE4C6E3D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FD17-140D-4B41-A08D-58BF6AB71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C8E3-5D51-46FC-A73F-76A43D77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1A37-776F-4859-84A7-C8A3D9B9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2370-6745-4487-9D6A-728F6C1E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5940-CF4F-4D8C-B51E-D5C62EC6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E65B-0D81-49B4-A53F-8469E82D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7D0D-EAD9-4B24-BE42-61A1D6E3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3634-33DC-4F98-9DB6-050B8286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6D8A-0DB3-4B76-BB75-83F2A477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19A1-2948-4C60-BCDD-34068BC3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75BE-8240-4168-A948-A70FD58D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291E-5EE0-4657-A8D5-E59AB58B1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F8A4-FCCF-47A8-80C7-0C436AC55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608A-D77E-4EDB-B69B-0E1EA73C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BE94-D355-41E9-8866-DFE3938E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6AAD-84BA-4C88-8825-4F73666E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BA70-ADD1-421E-B3B8-6CDA9459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637F-44CA-4C87-B554-C24320F7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93F9-90AF-48A9-B8FC-5DCB6727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EEE9-848C-4590-87F6-40A78DE8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1C11-F01F-45CB-B9AC-181190C7665A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8DA4-AB71-46C3-874D-71F58EE52916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352680" y="45720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651640" y="1773360"/>
            <a:ext cx="257472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4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curs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987640" y="4076640"/>
            <a:ext cx="39625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Escase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826920" y="2133720"/>
            <a:ext cx="4038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Necesidades 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0CCB-E23F-4DE9-A45B-38AB4EC7EBD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 flipV="1">
            <a:off x="2209680" y="1600200"/>
            <a:ext cx="0" cy="4495680"/>
          </a:xfrm>
          <a:prstGeom prst="line">
            <a:avLst/>
          </a:prstGeom>
          <a:ln w="1908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5867280"/>
            <a:ext cx="60958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0968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44197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588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48520" y="57913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lnTo>
                  <a:pt x="0" y="2256"/>
                </a:lnTo>
                <a:lnTo>
                  <a:pt x="2592" y="2256"/>
                </a:lnTo>
                <a:lnTo>
                  <a:pt x="2496" y="2016"/>
                </a:lnTo>
                <a:lnTo>
                  <a:pt x="2304" y="1680"/>
                </a:lnTo>
                <a:lnTo>
                  <a:pt x="2160" y="1440"/>
                </a:lnTo>
                <a:lnTo>
                  <a:pt x="1968" y="1200"/>
                </a:lnTo>
                <a:lnTo>
                  <a:pt x="1680" y="912"/>
                </a:lnTo>
                <a:lnTo>
                  <a:pt x="1488" y="720"/>
                </a:lnTo>
                <a:lnTo>
                  <a:pt x="1200" y="528"/>
                </a:lnTo>
                <a:lnTo>
                  <a:pt x="1008" y="384"/>
                </a:lnTo>
                <a:lnTo>
                  <a:pt x="864" y="288"/>
                </a:lnTo>
                <a:lnTo>
                  <a:pt x="672" y="192"/>
                </a:lnTo>
                <a:lnTo>
                  <a:pt x="432" y="96"/>
                </a:lnTo>
                <a:lnTo>
                  <a:pt x="192" y="48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ce99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2971800"/>
            <a:ext cx="5331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2971800"/>
            <a:ext cx="0" cy="28954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09680" y="2971800"/>
            <a:ext cx="16765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3959280" y="2438280"/>
            <a:ext cx="7920" cy="5335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2895480"/>
            <a:ext cx="15228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60948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Eficienc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4343400"/>
            <a:ext cx="21337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4267080"/>
            <a:ext cx="0" cy="160020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4340160" y="3733560"/>
            <a:ext cx="7920" cy="5331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4343400"/>
            <a:ext cx="5335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4267080"/>
            <a:ext cx="152640" cy="1526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5164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ADB7-7A6F-4BA0-94BC-7627E78B02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15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25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80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35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 flipV="1">
            <a:off x="2286000" y="1600200"/>
            <a:ext cx="0" cy="44956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81280" y="26668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44197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24480" y="57913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95480" y="2438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2743200"/>
            <a:ext cx="13716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57600" y="2743200"/>
            <a:ext cx="0" cy="312408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0" y="3048120"/>
            <a:ext cx="18288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3048120"/>
            <a:ext cx="0" cy="281916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0" y="4495680"/>
            <a:ext cx="3352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0" y="5181480"/>
            <a:ext cx="373392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4495680"/>
            <a:ext cx="0" cy="13716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5181480"/>
            <a:ext cx="0" cy="6858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14600" y="274320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4495680"/>
            <a:ext cx="0" cy="6858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2666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4572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5791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57600" y="54864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38680" y="54864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62720" y="5791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53352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osto de oportun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63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5164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FD58-7EC2-4C56-9CC0-86D4940C4E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 flipV="1">
            <a:off x="2286000" y="1600200"/>
            <a:ext cx="0" cy="44956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81280" y="26668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62720" y="44197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24480" y="57913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95480" y="2438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0" y="2743200"/>
            <a:ext cx="13716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743200"/>
            <a:ext cx="0" cy="312408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3048120"/>
            <a:ext cx="18288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14800" y="3048120"/>
            <a:ext cx="0" cy="281916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0" y="4495680"/>
            <a:ext cx="3352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4800600"/>
            <a:ext cx="35812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8680" y="4495680"/>
            <a:ext cx="0" cy="13716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4800600"/>
            <a:ext cx="0" cy="106668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14600" y="274320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14600" y="449568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76520" y="2666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76520" y="43434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5791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86400" y="5867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</a:t>
            </a:r>
            <a:r>
              <a:rPr b="1" lang="es-CL" sz="16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54864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38680" y="54864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53352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osto de oportun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63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5164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3B26-5515-414C-971E-95A9F25A09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 flipV="1">
            <a:off x="2209680" y="1752120"/>
            <a:ext cx="0" cy="4343400"/>
          </a:xfrm>
          <a:prstGeom prst="line">
            <a:avLst/>
          </a:prstGeom>
          <a:ln w="1908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57400" y="5867280"/>
            <a:ext cx="60958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2428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86400" y="44197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588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48520" y="57913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lnTo>
                  <a:pt x="0" y="2256"/>
                </a:lnTo>
                <a:lnTo>
                  <a:pt x="2592" y="2256"/>
                </a:lnTo>
                <a:lnTo>
                  <a:pt x="2496" y="2016"/>
                </a:lnTo>
                <a:lnTo>
                  <a:pt x="2304" y="1680"/>
                </a:lnTo>
                <a:lnTo>
                  <a:pt x="2160" y="1440"/>
                </a:lnTo>
                <a:lnTo>
                  <a:pt x="1968" y="1200"/>
                </a:lnTo>
                <a:lnTo>
                  <a:pt x="1680" y="912"/>
                </a:lnTo>
                <a:lnTo>
                  <a:pt x="1488" y="720"/>
                </a:lnTo>
                <a:lnTo>
                  <a:pt x="1200" y="528"/>
                </a:lnTo>
                <a:lnTo>
                  <a:pt x="1008" y="384"/>
                </a:lnTo>
                <a:lnTo>
                  <a:pt x="864" y="288"/>
                </a:lnTo>
                <a:lnTo>
                  <a:pt x="672" y="192"/>
                </a:lnTo>
                <a:lnTo>
                  <a:pt x="432" y="96"/>
                </a:lnTo>
                <a:lnTo>
                  <a:pt x="192" y="48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ce99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2971800"/>
            <a:ext cx="5331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971800"/>
            <a:ext cx="0" cy="28954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09680" y="2971800"/>
            <a:ext cx="16765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59280" y="2438280"/>
            <a:ext cx="7920" cy="5335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2895480"/>
            <a:ext cx="15228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60948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recimiento económic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2286000"/>
            <a:ext cx="556272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63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45164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EDFB-9218-423E-BDB2-90F66F1B6A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 flipV="1">
            <a:off x="2209680" y="1752120"/>
            <a:ext cx="0" cy="4343400"/>
          </a:xfrm>
          <a:prstGeom prst="line">
            <a:avLst/>
          </a:prstGeom>
          <a:ln w="1908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5867280"/>
            <a:ext cx="60958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0968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2428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86400" y="44197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588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48520" y="57913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lnTo>
                  <a:pt x="0" y="2256"/>
                </a:lnTo>
                <a:lnTo>
                  <a:pt x="2592" y="2256"/>
                </a:lnTo>
                <a:lnTo>
                  <a:pt x="2496" y="2016"/>
                </a:lnTo>
                <a:lnTo>
                  <a:pt x="2304" y="1680"/>
                </a:lnTo>
                <a:lnTo>
                  <a:pt x="2160" y="1440"/>
                </a:lnTo>
                <a:lnTo>
                  <a:pt x="1968" y="1200"/>
                </a:lnTo>
                <a:lnTo>
                  <a:pt x="1680" y="912"/>
                </a:lnTo>
                <a:lnTo>
                  <a:pt x="1488" y="720"/>
                </a:lnTo>
                <a:lnTo>
                  <a:pt x="1200" y="528"/>
                </a:lnTo>
                <a:lnTo>
                  <a:pt x="1008" y="384"/>
                </a:lnTo>
                <a:lnTo>
                  <a:pt x="864" y="288"/>
                </a:lnTo>
                <a:lnTo>
                  <a:pt x="672" y="192"/>
                </a:lnTo>
                <a:lnTo>
                  <a:pt x="432" y="96"/>
                </a:lnTo>
                <a:lnTo>
                  <a:pt x="192" y="48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ce99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971800"/>
            <a:ext cx="3808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2971800"/>
            <a:ext cx="0" cy="28954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2971800"/>
            <a:ext cx="16765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961080" y="2666520"/>
            <a:ext cx="576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2895480"/>
            <a:ext cx="15228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09680" y="2057400"/>
            <a:ext cx="5410440" cy="38098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53352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recimiento económic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63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45164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BADA-065C-4830-B349-B69D476E67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04920" y="228600"/>
            <a:ext cx="883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402000"/>
                </a:solidFill>
                <a:uFillTx/>
                <a:latin typeface="Times New Roman"/>
              </a:rPr>
              <a:t>FLUJO CIRCULAR DEL INGRESO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402000"/>
                </a:solidFill>
                <a:uFillTx/>
                <a:latin typeface="Times New Roman"/>
              </a:rPr>
              <a:t>ECONOMÍA CERRAD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76720" y="3429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Déficit- Superávit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95480" y="1219320"/>
            <a:ext cx="3200400" cy="8330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a7f32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Mercado de factor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productiv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00600" y="2590920"/>
            <a:ext cx="1676520" cy="6426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a7f32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Mercado  financie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05320" y="4082400"/>
            <a:ext cx="1676160" cy="520560"/>
          </a:xfrm>
          <a:prstGeom prst="rect">
            <a:avLst/>
          </a:prstGeom>
          <a:gradFill rotWithShape="0">
            <a:gsLst>
              <a:gs pos="0">
                <a:srgbClr val="eca07a"/>
              </a:gs>
              <a:gs pos="100000">
                <a:srgbClr val="ce9964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2000"/>
                </a:solidFill>
                <a:latin typeface="Times New Roman"/>
              </a:rPr>
              <a:t>Gobiern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90920" y="5543640"/>
            <a:ext cx="2666880" cy="6426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a7f32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Mercado de bienes y servici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29400" y="3169440"/>
            <a:ext cx="1828800" cy="520560"/>
          </a:xfrm>
          <a:prstGeom prst="rect">
            <a:avLst/>
          </a:prstGeom>
          <a:gradFill rotWithShape="0">
            <a:gsLst>
              <a:gs pos="0">
                <a:srgbClr val="eca07a"/>
              </a:gs>
              <a:gs pos="100000">
                <a:srgbClr val="ce9964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2000"/>
                </a:solidFill>
                <a:latin typeface="Times New Roman"/>
              </a:rPr>
              <a:t>Empresa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3201120"/>
            <a:ext cx="1600200" cy="520560"/>
          </a:xfrm>
          <a:prstGeom prst="rect">
            <a:avLst/>
          </a:prstGeom>
          <a:gradFill rotWithShape="0">
            <a:gsLst>
              <a:gs pos="0">
                <a:srgbClr val="eca07a"/>
              </a:gs>
              <a:gs pos="100000">
                <a:srgbClr val="ce9964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2000"/>
                </a:solidFill>
                <a:latin typeface="Times New Roman"/>
              </a:rPr>
              <a:t>Hogar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5880" y="1697040"/>
            <a:ext cx="1524240" cy="142704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1152" y="1056"/>
                </a:moveTo>
                <a:lnTo>
                  <a:pt x="1152" y="0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4120" y="3657600"/>
            <a:ext cx="2286000" cy="2209680"/>
          </a:xfrm>
          <a:custGeom>
            <a:avLst/>
            <a:gdLst/>
            <a:ahLst/>
            <a:rect l="l" t="t" r="r" b="b"/>
            <a:pathLst>
              <a:path w="1104" h="1584">
                <a:moveTo>
                  <a:pt x="0" y="1584"/>
                </a:moveTo>
                <a:lnTo>
                  <a:pt x="1104" y="1584"/>
                </a:lnTo>
                <a:lnTo>
                  <a:pt x="1104" y="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133720" y="2895480"/>
            <a:ext cx="2666880" cy="22860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192"/>
                </a:moveTo>
                <a:lnTo>
                  <a:pt x="0" y="0"/>
                </a:lnTo>
                <a:lnTo>
                  <a:pt x="1344" y="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752480"/>
            <a:ext cx="1524240" cy="1444680"/>
          </a:xfrm>
          <a:custGeom>
            <a:avLst/>
            <a:gdLst/>
            <a:ahLst/>
            <a:rect l="l" t="t" r="r" b="b"/>
            <a:pathLst>
              <a:path w="192" h="1056">
                <a:moveTo>
                  <a:pt x="192" y="0"/>
                </a:moveTo>
                <a:lnTo>
                  <a:pt x="0" y="0"/>
                </a:lnTo>
                <a:lnTo>
                  <a:pt x="0" y="1056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133720" y="3733920"/>
            <a:ext cx="1371600" cy="571320"/>
          </a:xfrm>
          <a:custGeom>
            <a:avLst/>
            <a:gdLst/>
            <a:ahLst/>
            <a:rect l="l" t="t" r="r" b="b"/>
            <a:pathLst>
              <a:path w="864" h="528">
                <a:moveTo>
                  <a:pt x="0" y="0"/>
                </a:moveTo>
                <a:lnTo>
                  <a:pt x="0" y="528"/>
                </a:lnTo>
                <a:lnTo>
                  <a:pt x="864" y="528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3733920"/>
            <a:ext cx="1219320" cy="2071440"/>
          </a:xfrm>
          <a:custGeom>
            <a:avLst/>
            <a:gdLst/>
            <a:ahLst/>
            <a:rect l="l" t="t" r="r" b="b"/>
            <a:pathLst>
              <a:path w="768" h="1632">
                <a:moveTo>
                  <a:pt x="0" y="0"/>
                </a:moveTo>
                <a:lnTo>
                  <a:pt x="0" y="1632"/>
                </a:lnTo>
                <a:lnTo>
                  <a:pt x="768" y="1632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14800" y="4648320"/>
            <a:ext cx="1440" cy="895320"/>
          </a:xfrm>
          <a:prstGeom prst="line">
            <a:avLst/>
          </a:prstGeom>
          <a:ln w="22320">
            <a:solidFill>
              <a:srgbClr val="402000"/>
            </a:solidFill>
            <a:miter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72200" y="1295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Pago a factor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47920" y="1371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Ingres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803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Consum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4120" y="5867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Ingreso de empres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48520" y="3733920"/>
            <a:ext cx="501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Invers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57400" y="2479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Ahorro privad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4267080"/>
            <a:ext cx="20574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2000"/>
                </a:solidFill>
                <a:latin typeface="Times New Roman"/>
              </a:rPr>
              <a:t>Impuestos Directos - Transferencia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00200" y="4952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Gasto del Gobiern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57800" y="3276720"/>
            <a:ext cx="990720" cy="23619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624" y="0"/>
                </a:moveTo>
                <a:lnTo>
                  <a:pt x="624" y="1200"/>
                </a:lnTo>
                <a:lnTo>
                  <a:pt x="0" y="120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1480" y="3276720"/>
            <a:ext cx="457200" cy="9903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624" y="0"/>
                </a:moveTo>
                <a:lnTo>
                  <a:pt x="624" y="1200"/>
                </a:lnTo>
                <a:lnTo>
                  <a:pt x="0" y="120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572000" y="4572000"/>
            <a:ext cx="0" cy="914400"/>
          </a:xfrm>
          <a:prstGeom prst="line">
            <a:avLst/>
          </a:prstGeom>
          <a:ln w="22320">
            <a:solidFill>
              <a:srgbClr val="402000"/>
            </a:solidFill>
            <a:miter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4419720"/>
            <a:ext cx="501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2000"/>
                </a:solidFill>
                <a:latin typeface="Times New Roman"/>
              </a:rPr>
              <a:t>Impuesto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2000"/>
                </a:solidFill>
                <a:latin typeface="Times New Roman"/>
              </a:rPr>
              <a:t>Indirectos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2000"/>
                </a:solidFill>
                <a:latin typeface="Times New Roman"/>
              </a:rPr>
              <a:t>- Subsidio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9B06-6A7E-41DA-9C3D-6416E7A344C7}" type="slidenum">
              <a:t>15</a:t>
            </a:fld>
          </a:p>
        </p:txBody>
      </p:sp>
    </p:spTree>
  </p:cSld>
  <p:transition>
    <p:wipe dir="d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962520" y="3808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Mercado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19320" y="1752480"/>
            <a:ext cx="7467480" cy="45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80"/>
                </a:solidFill>
                <a:latin typeface="Times New Roman"/>
              </a:rPr>
              <a:t>Oferta y Demanda se refieren a la forma que interrelacionan las personas en los mercad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80"/>
                </a:solidFill>
                <a:latin typeface="Times New Roman"/>
              </a:rPr>
              <a:t>Demanda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Necesidades, gustos, preferenci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Ingres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Futu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7AFC-61A5-452E-B862-B3F55243A3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3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3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3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3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3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3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300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962520" y="3808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Mercado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19320" y="1752480"/>
            <a:ext cx="7467480" cy="45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80"/>
                </a:solidFill>
                <a:latin typeface="Times New Roman"/>
              </a:rPr>
              <a:t>Oferta y Demanda se refieren a la forma que se interrelacionan las personas en los mercad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80"/>
                </a:solidFill>
                <a:latin typeface="Times New Roman"/>
              </a:rPr>
              <a:t>Oferta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Tecnologí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Cost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Futu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B262-5C46-49FD-A28C-0A12B6A5E2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3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3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3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3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3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300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300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657600" y="457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25909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Asignación de los recursos escasos a distintos fines rival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3276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Cómo se enfrentan a la escasez las personas y las sociedad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3962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La manera en que las sociedades utilizan los recursos escasos para producir mercancías valiosas y distribuirlas entre los individu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19051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Modo en que la sociedad gestiona los recursos escas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DDBB-BF5F-4BB3-A2DA-5374C86A7B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75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75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75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75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" dur="1" fill="hold"/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57600" y="38088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 rot="21335400">
            <a:off x="1294920" y="4647960"/>
            <a:ext cx="7391520" cy="88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¿Para quién se producen los bienes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 rot="128400">
            <a:off x="1828440" y="3047760"/>
            <a:ext cx="6019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¿Cómo producirlos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 rot="21504600">
            <a:off x="1064880" y="1828440"/>
            <a:ext cx="76960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4f68e3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¿Qué bienes y en qué cantidades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4f68e3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B8E9-BF82-4F81-B674-38AE793CDD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57600" y="457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2209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Describe </a:t>
            </a:r>
            <a:r>
              <a:rPr b="0" i="1" lang="es-CL" sz="2400" spc="-1" strike="noStrike">
                <a:solidFill>
                  <a:srgbClr val="402000"/>
                </a:solidFill>
                <a:latin typeface="Times New Roman"/>
              </a:rPr>
              <a:t>el cómo es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3886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conomía Normati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16765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conomía Positi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45720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Prescripciones de cómo debería ser </a:t>
            </a:r>
            <a:r>
              <a:rPr b="0" i="1" lang="es-CL" sz="2400" spc="-1" strike="noStrike">
                <a:solidFill>
                  <a:srgbClr val="402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28954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l salario mínimo provoca desemple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51814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l gobierno debería subir el salario mínim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33526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Un impuesto a las ventas reduce la cantidad transada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55627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Deben cobrarse mayores impuestos por la venta de cigarrill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85B9-08D7-4894-BE71-EB79E8F822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75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75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7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75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7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75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7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75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657600" y="457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220968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studia el modo en que los hogares y la empresas toman decisiones, y de la forma en que interactúan en los mercado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3886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Macroeconomí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16765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Microeconomí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457200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studio de los fenómenos que afectan al conjunto de la economía, entre los que se encuentran la inflación, el desempleo y el crecimiento económic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C4C7-2FBA-4879-BB19-EDEEBFA5D4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75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75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75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7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1752480"/>
            <a:ext cx="7391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1: Las personas enfrentan disyuntiva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Tiempo de un estudiant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esupuesto mensual de una famil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esupuesto nacion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Ingreso y calidad ambient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Equidad y eficienc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10CC-7976-444F-B0F9-4A1BE2C5F9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75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9320" y="1752480"/>
            <a:ext cx="7467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2: el costo de algo es lo que se debe renunciar por obtenerl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Estudiar una carrera en la Univers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Ir a clas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Militares a Haití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Matrimoni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Reclama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D626-1771-444D-83C0-2AFE8B4096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1676520"/>
            <a:ext cx="7924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3: las personas racionales piensan en términos margina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Aumenta su “combo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Estudiar en otra ciu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Rentabilizar la invers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090D-CC51-4B60-AF87-889DC7BA10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1752480"/>
            <a:ext cx="7086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4: las personas responden a incentiv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Venta de ilegal de cigarrill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Asistencia a charlas IN41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Quema de bosqu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Subsidio al emple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ED04-B549-4F54-A2B5-346D5CFE80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6:03:53Z</dcterms:created>
  <dc:creator>XX</dc:creator>
  <dc:description/>
  <dc:language>en-US</dc:language>
  <cp:lastModifiedBy>MARCO HAUVA</cp:lastModifiedBy>
  <dcterms:modified xsi:type="dcterms:W3CDTF">2005-03-11T11:46:13Z</dcterms:modified>
  <cp:revision>24</cp:revision>
  <dc:subject/>
  <dc:title>Sin título de diapositiva</dc:title>
</cp:coreProperties>
</file>