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TECL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216-2F63-4E4B-AB0C-A8B93B20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3D9-84C4-4E6A-A1A2-4521E1C3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24D-862B-4865-93F7-D715C0D5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747F-1B97-4E12-B99B-41474D90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38AB-EB40-44C0-A36B-EEAE2D85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78A8-2CAD-4B63-9EED-ADD3CC2A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8285-64FF-4408-BA78-1D648332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7AF1-DF3F-4F78-BDF9-7C04792F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F706-9F5A-4A61-A186-95544F23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103B-F7C8-4CD2-AF7D-B32D35A4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2AA6-36D9-449E-8A7F-C463F43F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93F-CE71-43C9-9A8F-CBE6E00F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6D3D-3224-4553-93CE-DB287D3D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3CBD-EFD6-4FB8-B4FE-EC3C5C75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2CAE-EC4C-452E-BCEF-3EF1EA6B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5A46-2446-4147-9428-14C5F352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41CC-95E6-417C-B3CC-250185C0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0EE2-262C-42B2-855C-C22BEF6A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AB1-29D6-47E8-AAF5-07ACCCEF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5A2-12F9-4C8E-8923-FF59F8E7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3BB-3C19-4687-8919-6FC3823E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464-A5EF-47E0-BA23-A899F2A1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8E5-2417-4C43-B757-50848CE9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B71-41DD-440A-9878-8EA5062E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3762-6D61-4F17-BAF0-319823ACA43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BBB1-95A7-40DD-A225-D11A1CC7A9C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352680" y="4572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651640" y="1773360"/>
            <a:ext cx="25747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curs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87640" y="4076640"/>
            <a:ext cx="3962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scase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26920" y="2133720"/>
            <a:ext cx="4038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Necesidades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331A-92AF-4963-86A8-D60DD04E3A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flipV="1">
            <a:off x="2209680" y="1600200"/>
            <a:ext cx="0" cy="449568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4343400"/>
            <a:ext cx="21337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426708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340160" y="3733560"/>
            <a:ext cx="7920" cy="5331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533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4267080"/>
            <a:ext cx="152640" cy="152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3C3-3CD7-41E1-8AB6-C7F9094A53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35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5181480"/>
            <a:ext cx="37339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5181480"/>
            <a:ext cx="0" cy="6858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495680"/>
            <a:ext cx="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572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14A-7564-446F-BB51-CBC61A66CD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4800600"/>
            <a:ext cx="3581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800600"/>
            <a:ext cx="0" cy="10666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44956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4343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</a:t>
            </a:r>
            <a:r>
              <a:rPr b="1" lang="es-CL" sz="16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C205-7A76-46E2-ACA1-8D74D60069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286000"/>
            <a:ext cx="556272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0CC-A282-46A1-844D-7F3C3BA8DD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971800"/>
            <a:ext cx="380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61080" y="2666520"/>
            <a:ext cx="576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2057400"/>
            <a:ext cx="5410440" cy="38098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F11-B42F-48E9-8099-81D81A3597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22860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FLUJO CIRCULAR DEL INGRESO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ECONOMÍA CERRAD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éficit- Superávi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1219320"/>
            <a:ext cx="3200400" cy="8330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productiv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2590920"/>
            <a:ext cx="167652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 financie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4082400"/>
            <a:ext cx="167616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Gobiern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5543640"/>
            <a:ext cx="266688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bienes y servi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3169440"/>
            <a:ext cx="18288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Empres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3201120"/>
            <a:ext cx="16002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Hoga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1697040"/>
            <a:ext cx="1524240" cy="14270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1152" y="1056"/>
                </a:moveTo>
                <a:lnTo>
                  <a:pt x="1152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3657600"/>
            <a:ext cx="2286000" cy="2209680"/>
          </a:xfrm>
          <a:custGeom>
            <a:avLst/>
            <a:gdLst/>
            <a:ahLst/>
            <a:rect l="l" t="t" r="r" b="b"/>
            <a:pathLst>
              <a:path w="1104" h="1584">
                <a:moveTo>
                  <a:pt x="0" y="1584"/>
                </a:moveTo>
                <a:lnTo>
                  <a:pt x="1104" y="1584"/>
                </a:lnTo>
                <a:lnTo>
                  <a:pt x="110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2895480"/>
            <a:ext cx="2666880" cy="22860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752480"/>
            <a:ext cx="1524240" cy="144468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192" y="0"/>
                </a:moveTo>
                <a:lnTo>
                  <a:pt x="0" y="0"/>
                </a:lnTo>
                <a:lnTo>
                  <a:pt x="0" y="1056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3733920"/>
            <a:ext cx="1371600" cy="571320"/>
          </a:xfrm>
          <a:custGeom>
            <a:avLst/>
            <a:gdLst/>
            <a:ahLst/>
            <a:rect l="l" t="t" r="r" b="b"/>
            <a:pathLst>
              <a:path w="864" h="528">
                <a:moveTo>
                  <a:pt x="0" y="0"/>
                </a:moveTo>
                <a:lnTo>
                  <a:pt x="0" y="528"/>
                </a:lnTo>
                <a:lnTo>
                  <a:pt x="864" y="528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1219320" cy="2071440"/>
          </a:xfrm>
          <a:custGeom>
            <a:avLst/>
            <a:gdLst/>
            <a:ahLst/>
            <a:rect l="l" t="t" r="r" b="b"/>
            <a:pathLst>
              <a:path w="768" h="1632">
                <a:moveTo>
                  <a:pt x="0" y="0"/>
                </a:moveTo>
                <a:lnTo>
                  <a:pt x="0" y="1632"/>
                </a:lnTo>
                <a:lnTo>
                  <a:pt x="768" y="1632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4648320"/>
            <a:ext cx="1440" cy="89532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72200" y="1295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ago a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371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80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onsu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 de empres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37339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247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horro priv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4267080"/>
            <a:ext cx="2057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2000"/>
                </a:solidFill>
                <a:latin typeface="Times New Roman"/>
              </a:rPr>
              <a:t>Impuestos Directos - Transferenci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Gasto del Gobiern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3276720"/>
            <a:ext cx="990720" cy="23619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3276720"/>
            <a:ext cx="457200" cy="9903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572000" y="4572000"/>
            <a:ext cx="0" cy="91440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44197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mpuest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ndirectos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- Subsidi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30D9-41E2-4451-8330-BDED2DACFB69}" type="slidenum">
              <a:t>15</a:t>
            </a:fld>
          </a:p>
        </p:txBody>
      </p:sp>
    </p:spTree>
  </p:cSld>
  <p:transition>
    <p:wipe dir="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Demand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Necesidades, gustos, preferenci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B24-D8EF-408C-9351-9FC4AF40A4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3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3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3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3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3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3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3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s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Ofert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F195-90DD-44B4-809D-49B8AD3D73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3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3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3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3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3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3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3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590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signación de los recursos escasos a distintos fines riva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276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ómo se enfrentan a la escasez las personas y las sociedad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962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La manera en que las sociedades utilizan los recursos escasos para producir mercancías valiosas y distribuirlas entre los individu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19051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odo en que la sociedad gestiona los recursos esca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875-B4A0-4332-B334-E960B22A23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7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7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57600" y="3808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 rot="21335400">
            <a:off x="1294920" y="4647960"/>
            <a:ext cx="7391520" cy="88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Para quién se producen los biene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 rot="128400">
            <a:off x="1828440" y="304776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Cómo producirlo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 rot="21504600">
            <a:off x="1064880" y="1828440"/>
            <a:ext cx="7696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f68e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Qué bienes y en qué cantidade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4f68e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6A9-8EEE-4F17-8473-608C063F1E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scribe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el cómo es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Norma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Posi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rescripciones de cómo debería ser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895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salario mínimo provoca desemple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5181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gobierno debería subir el salario míni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352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Un impuesto a las ventas reduce la cantidad transad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55627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ben cobrarse mayores impuestos por la venta de cigarrill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615-A0C0-4B34-A7E0-4EE170D15B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7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7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7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22096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a el modo en que los hogares y la empresas toman decisiones, y de la forma en que interactúan en los mercad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a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i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5720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o de los fenómenos que afectan al conjunto de la economía, entre los que se encuentran la inflación, el desempleo y el crecimiento económic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A5F5-6D53-493E-BE90-F9EEE69B4F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7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7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7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1752480"/>
            <a:ext cx="739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1: Las personas enfrentan disyuntiv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Tiempo de un estudian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mensual de una famil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na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Ingreso y calidad ambient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Equidad y 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911-64BD-4CE3-BCDC-D1DE32622E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7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1752480"/>
            <a:ext cx="7467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2: el costo de algo es lo que se debe renunciar por obtener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una carrera en la Univers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Ir a cl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Militares a Haití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Matrimon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Recla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E533-C472-46A6-953B-7B66BA98D4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676520"/>
            <a:ext cx="7924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3: las personas racionales piensan en términos margin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umenta su “combo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en otra ciu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Rentabilizar la invers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69D-A61F-4D5F-A5E8-B57839E7C1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752480"/>
            <a:ext cx="7086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4: las personas responden a incentiv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Venta de ilegal de cigarrill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sistencia a charlas IN41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Quema de bosqu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Subsidio al emple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040-80ED-4F7D-BBE7-58BA31D4A6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6:03:53Z</dcterms:created>
  <dc:creator>XX</dc:creator>
  <dc:description/>
  <dc:language>en-US</dc:language>
  <cp:lastModifiedBy>MARCO HAUVA</cp:lastModifiedBy>
  <dcterms:modified xsi:type="dcterms:W3CDTF">2005-03-11T11:46:13Z</dcterms:modified>
  <cp:revision>24</cp:revision>
  <dc:subject/>
  <dc:title>Sin título de diapositiva</dc:title>
</cp:coreProperties>
</file>