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0B2-4BED-44E8-97B9-0CB05EA6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75D-7BC8-455A-9E9D-3F6856A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9D4-5177-4252-B866-9EC4343D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665-6116-49E7-ADC6-E9A2C1C6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276-1E2C-4D72-9DFE-48DA7A25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A71-BF6C-40B0-91F1-FBED1C4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FA3-A377-47DC-BA81-BF602C4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D9EE-87E6-4A76-8D58-0A68A56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6EDC-A2CC-4D0C-891D-1EA8F947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492F-4F10-4BF7-863F-B1EA11B2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2BE-2AB9-48FE-BEE9-DA9E218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DE1-8D93-4C28-B04C-C951F84F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55D-4541-4456-981D-353A098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B43-8FCD-46C0-B9D0-F09FA342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C02A-4978-4BD4-B83A-1CE981B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44D5-7F47-44AD-A8E1-CA34D67B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FA96-9402-4ADE-96EA-891EB104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D80-73C1-4262-ABED-E6A4D452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F59-F95E-4F8B-A32B-80632AA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E07-EBC2-44E8-838F-6413C42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235-F028-47DD-9EF3-FAAC50E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4E8-28F4-41F7-B709-6213CB27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790-4841-4BD8-8F22-1DB9EEA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5DE-8B7D-48A5-8805-BEA166AD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5FC2-7860-41F1-B37D-7DCCEE2116F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187F-6852-4E5A-A085-F5865B8CE0E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F10-6E66-4698-9B46-8D799E385D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ED3-DF0A-4E1B-A1EE-DA2386152E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64B-B8F8-4305-B413-8D774A163F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F15-13F8-42AC-8AA1-BF1992828B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64A-1DA5-483A-8269-9AF608DCC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C45-C264-4D58-938F-73C1CCD756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C9D-AA39-4987-93DA-C998FF09A2B1}" type="slidenum">
              <a:t>15</a:t>
            </a:fld>
          </a:p>
        </p:txBody>
      </p:sp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72B-4AD3-43AB-BD10-60C167DC70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B49-66D7-46CE-8BD3-08CAE7841A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0FE-AAC7-4C86-A7C9-93B057A556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8F7-F54A-4BD8-87B7-31411714B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ED6-FDCF-49F1-B260-B10340A6C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B18-4043-4416-A52C-1DE4621B7C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02E-9208-4D5E-8608-40F9C3A9B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E0-3FD4-49C4-996C-11B900607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Rentabilizar la inver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8EC-CEC8-45C0-AF4D-2DB8945B0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harlas IN41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840-CD0A-433C-9B0D-C007F384C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MARCO HAUVA</cp:lastModifiedBy>
  <dcterms:modified xsi:type="dcterms:W3CDTF">2005-03-11T11:46:13Z</dcterms:modified>
  <cp:revision>24</cp:revision>
  <dc:subject/>
  <dc:title>Sin título de diapositiva</dc:title>
</cp:coreProperties>
</file>