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4EE-6618-470F-A49F-5E291D2C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43A-C532-4D74-B5C1-298D83B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6E4-9C76-41BA-AC71-BF8CBB34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A48-BC66-4D37-9C9B-238C5544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A534-C3B7-4227-B52F-8FD4F28F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43E2-F487-48DE-8B85-6CDF8273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A5E5-72FD-43A5-8CF9-8F35F9AD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5822-8B71-4542-AEA3-5AB86CB0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849D-2177-46DF-BEFC-F17CB0EE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F29B-15BC-47C2-B41F-7D5C4461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B98E-85D4-49D3-BD92-30C6FDF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802-FFD7-45C3-B26E-F746CA0E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B434-0F78-4F03-881C-F9130F7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0B14-D03D-4962-AD56-B4F41198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7124-F430-4191-A97C-04A28A7E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AB9A-E453-4283-90A2-1E910B70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7B86-FA50-4761-8A6C-9484695A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56D-960E-4196-8470-FA1CD986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03C-7E0A-467D-969F-832450AE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423-7905-45D3-A337-BD5D6A76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D0C-B326-4226-8B75-C6EB86EC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EE3-B73A-4EC7-9CCE-380DBA51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0B1-784D-448F-9204-AD5E3435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EB0-B473-40F5-A465-ED1E57C3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8B8F-9B0E-4822-B07A-C2D9E2172DC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EE22-5C63-4453-A61E-3DF6D5EE914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51640" y="177336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87640" y="4076640"/>
            <a:ext cx="3962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6920" y="2133720"/>
            <a:ext cx="4038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C27-6AB2-4E8A-875C-107C2AEDF0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40160" y="3733560"/>
            <a:ext cx="792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835-D92C-41A5-9FD1-DABCAD063A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3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763-605E-42C4-9BF6-A3C1CE62A0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F02-5721-42B8-93C2-D3B4A242C0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DD9-07AB-470D-98E8-163C5B3DFA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C62-298B-471F-A7A1-EF85DE6A8E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FFE-265A-4B15-9EA5-D342157F9C16}" type="slidenum">
              <a:t>15</a:t>
            </a:fld>
          </a:p>
        </p:txBody>
      </p:sp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B5D-2C94-4DE6-A4ED-86A19F6DA2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791-EF90-46F8-9BC8-E8F14A2F30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3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3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3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EB6-C94A-4DA4-B024-B09F51C727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8C4-E9A7-40BF-B74F-D76BDB2E56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cómo debería ser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ría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562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ben cobrarse mayores impuestos por la venta de cigarrill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A3A-B0C3-4E37-AB28-58F53DFC66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0EB-4053-4755-A6F8-FAEE4259D4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175248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Las personas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5CE-DD46-4104-846F-3667EC69F6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75248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Militares a Haití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69F-3319-4AA1-9AFB-81696D48CD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76520"/>
            <a:ext cx="7924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Rentabilizar la invers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EBC-4133-4A4B-8CA9-87772F890F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7086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sistencia a charlas IN41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l emple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942-FB79-44B3-8427-C4283F78CD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MARCO HAUVA</cp:lastModifiedBy>
  <dcterms:modified xsi:type="dcterms:W3CDTF">2005-03-11T11:46:13Z</dcterms:modified>
  <cp:revision>24</cp:revision>
  <dc:subject/>
  <dc:title>Sin título de diapositiva</dc:title>
</cp:coreProperties>
</file>