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TECL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D37E-C050-4A4B-87A5-C13EC5C8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8C91-69D9-4D54-AF2B-2EA6EA6C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5C7D-E124-4CD1-876D-246EBE2E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498C-7967-432D-8351-CBC0A05B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8CC4-EAB7-4F75-A733-CEA91847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4E03-97F0-4CED-A710-7609DB89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7F50-59F7-4C25-BD32-BA495AAA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BFE5-D1D5-46D0-A672-0695F204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E58D-6518-4C5E-9610-FBC94725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4C10-0908-4BD4-ADEB-C8F87923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1530-5255-4723-A467-B12064B8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804-BEDD-4386-9F06-90C973A5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F53B-3BE9-4B46-833C-572879D2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3B50-7415-4ADD-A363-653FF969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A097-2FE9-42BA-856C-2613836E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1867-A483-45C7-9448-E931A5D2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9822-630B-4247-AF0E-1F0B524F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FD2-45F5-49E1-8FF4-B6431825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F00F-33E3-43CB-855F-091FB261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EFF-D545-4B74-B58E-8C27C7F8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788F-30F7-4306-9D05-179AA49F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93F1-1C9A-49A7-BA5C-929E3B1F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F308-CC5D-45C7-9BF1-96E862EF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801-444D-497A-8F2E-B2D9A1D4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F6D6-50ED-4623-9F6B-C58A45DADA6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52FC-826B-4A45-A33B-A002F7435C3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352680" y="4572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651640" y="1773360"/>
            <a:ext cx="25747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curs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87640" y="4076640"/>
            <a:ext cx="3962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scase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26920" y="2133720"/>
            <a:ext cx="4038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Necesidades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9C7-12B5-4073-BCB5-A6E24B53D0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flipV="1">
            <a:off x="2209680" y="1600200"/>
            <a:ext cx="0" cy="449568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4343400"/>
            <a:ext cx="21337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426708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340160" y="3733560"/>
            <a:ext cx="7920" cy="5331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533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4267080"/>
            <a:ext cx="152640" cy="152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DBA-9C5A-4E02-AAF3-5A55E1C4E9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35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5181480"/>
            <a:ext cx="373392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5181480"/>
            <a:ext cx="0" cy="6858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495680"/>
            <a:ext cx="0" cy="685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572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945A-8CB8-47CA-89C0-7CEF4F8107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4800600"/>
            <a:ext cx="35812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800600"/>
            <a:ext cx="0" cy="10666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44956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4343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</a:t>
            </a:r>
            <a:r>
              <a:rPr b="1" lang="es-CL" sz="16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092-DC04-42F6-AEC3-729B10912F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286000"/>
            <a:ext cx="556272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7F0-F056-4F5F-9217-6557BDFC0F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971800"/>
            <a:ext cx="380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61080" y="2666520"/>
            <a:ext cx="576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2057400"/>
            <a:ext cx="5410440" cy="38098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40B9-33D2-4B8F-8320-3317354793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22860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FLUJO CIRCULAR DEL INGRESO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ECONOMÍA CERRAD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éficit- Superávi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1219320"/>
            <a:ext cx="3200400" cy="8330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productiv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2590920"/>
            <a:ext cx="167652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 financie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4082400"/>
            <a:ext cx="167616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Gobiern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5543640"/>
            <a:ext cx="266688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bienes y servi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3169440"/>
            <a:ext cx="18288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Empres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3201120"/>
            <a:ext cx="16002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Hoga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1697040"/>
            <a:ext cx="1524240" cy="14270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1152" y="1056"/>
                </a:moveTo>
                <a:lnTo>
                  <a:pt x="1152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3657600"/>
            <a:ext cx="2286000" cy="2209680"/>
          </a:xfrm>
          <a:custGeom>
            <a:avLst/>
            <a:gdLst/>
            <a:ahLst/>
            <a:rect l="l" t="t" r="r" b="b"/>
            <a:pathLst>
              <a:path w="1104" h="1584">
                <a:moveTo>
                  <a:pt x="0" y="1584"/>
                </a:moveTo>
                <a:lnTo>
                  <a:pt x="1104" y="1584"/>
                </a:lnTo>
                <a:lnTo>
                  <a:pt x="110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2895480"/>
            <a:ext cx="2666880" cy="22860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752480"/>
            <a:ext cx="1524240" cy="144468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192" y="0"/>
                </a:moveTo>
                <a:lnTo>
                  <a:pt x="0" y="0"/>
                </a:lnTo>
                <a:lnTo>
                  <a:pt x="0" y="1056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3733920"/>
            <a:ext cx="1371600" cy="571320"/>
          </a:xfrm>
          <a:custGeom>
            <a:avLst/>
            <a:gdLst/>
            <a:ahLst/>
            <a:rect l="l" t="t" r="r" b="b"/>
            <a:pathLst>
              <a:path w="864" h="528">
                <a:moveTo>
                  <a:pt x="0" y="0"/>
                </a:moveTo>
                <a:lnTo>
                  <a:pt x="0" y="528"/>
                </a:lnTo>
                <a:lnTo>
                  <a:pt x="864" y="528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1219320" cy="2071440"/>
          </a:xfrm>
          <a:custGeom>
            <a:avLst/>
            <a:gdLst/>
            <a:ahLst/>
            <a:rect l="l" t="t" r="r" b="b"/>
            <a:pathLst>
              <a:path w="768" h="1632">
                <a:moveTo>
                  <a:pt x="0" y="0"/>
                </a:moveTo>
                <a:lnTo>
                  <a:pt x="0" y="1632"/>
                </a:lnTo>
                <a:lnTo>
                  <a:pt x="768" y="1632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4648320"/>
            <a:ext cx="1440" cy="89532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72200" y="1295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ago a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371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803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onsu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 de empres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37339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247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horro priv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4267080"/>
            <a:ext cx="2057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2000"/>
                </a:solidFill>
                <a:latin typeface="Times New Roman"/>
              </a:rPr>
              <a:t>Impuestos Directos - Transferencia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Gasto del Gobiern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3276720"/>
            <a:ext cx="990720" cy="23619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1480" y="3276720"/>
            <a:ext cx="457200" cy="9903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572000" y="4572000"/>
            <a:ext cx="0" cy="91440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44197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mpuest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ndirectos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- Subsidi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D9E-5106-4E80-8D0F-BBACD93D4EBC}" type="slidenum">
              <a:t>15</a:t>
            </a:fld>
          </a:p>
        </p:txBody>
      </p:sp>
    </p:spTree>
  </p:cSld>
  <p:transition>
    <p:wipe dir="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1752480"/>
            <a:ext cx="746748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Demand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Necesidades, gustos, preferenci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86B1-793F-40FC-974C-0BC2BCF965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3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3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3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3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3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3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3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1752480"/>
            <a:ext cx="746748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s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Ofert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4062-0B05-4652-9A8A-FF1B5E6551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3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3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3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3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3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3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3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590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signación de los recursos escasos a distintos fines riva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276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ómo se enfrentan a la escasez las personas y las sociedad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3962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La manera en que las sociedades utilizan los recursos escasos para producir mercancías valiosas y distribuirlas entre los individu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19051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odo en que la sociedad gestiona los recursos esca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759F-3D24-4EB7-BAA2-F5649BCF2A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7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7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57600" y="3808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 rot="21335400">
            <a:off x="1294920" y="4647960"/>
            <a:ext cx="7391520" cy="88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¿Para quién se producen los biene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 rot="128400">
            <a:off x="1828440" y="304776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Cómo producirlo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 rot="21504600">
            <a:off x="1064880" y="1828440"/>
            <a:ext cx="7696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f68e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Qué bienes y en qué cantidade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4f68e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F75-0020-4C73-984E-DC44D93C42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escribe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el cómo es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Norma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Posi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rescripciones de cómo debería ser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895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salario mínimo provoca desemple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51814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gobierno debería subir el salario míni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3352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Un impuesto a las ventas reduce la cantidad transad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55627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eben cobrarse mayores impuestos por la venta de cigarrill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22D1-105D-4F22-B2DF-1AA81CB4BF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75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7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7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7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22096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a el modo en que los hogares y la empresas toman decisiones, y de la forma en que interactúan en los mercado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a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i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45720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o de los fenómenos que afectan al conjunto de la economía, entre los que se encuentran la inflación, el desempleo y el crecimiento económic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5FA5-7098-4DF4-B693-D292401C74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7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7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7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1752480"/>
            <a:ext cx="739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1: Las personas enfrentan disyuntiv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Tiempo de un estudian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mensual de una famil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na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Ingreso y calidad ambient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Equidad y 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EA28-9C31-4AFE-A51B-1ED07F9FEE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7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1752480"/>
            <a:ext cx="7467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2: el costo de algo es lo que se debe renunciar por obtener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una carrera en la Univers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Ir a cl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Militares a Haití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Matrimon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Recla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75A5-93B6-4704-8679-B2A8584341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676520"/>
            <a:ext cx="7924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3: las personas racionales piensan en términos margin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umenta su “combo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en otra ciu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Rentabilizar la invers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12C-BD03-4187-8A9A-F38427D8D9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752480"/>
            <a:ext cx="7086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4: las personas responden a incentiv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Venta de ilegal de cigarrill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sistencia a charlas IN41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Quema de bosqu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Subsidio al emple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2B9E-DF78-440A-B227-BE7334E488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6:03:53Z</dcterms:created>
  <dc:creator>XX</dc:creator>
  <dc:description/>
  <dc:language>en-US</dc:language>
  <cp:lastModifiedBy>MARCO HAUVA</cp:lastModifiedBy>
  <dcterms:modified xsi:type="dcterms:W3CDTF">2005-03-11T11:46:13Z</dcterms:modified>
  <cp:revision>24</cp:revision>
  <dc:subject/>
  <dc:title>Sin título de diapositiva</dc:title>
</cp:coreProperties>
</file>