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722A-6873-4109-B5EB-B57669E3A2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es.wikipedia.org/wiki/Galvanizaci&#243;n" TargetMode="External"/><Relationship Id="rId2" Type="http://schemas.openxmlformats.org/officeDocument/2006/relationships/hyperlink" Target="http://es.wikipedia.org/wiki/Corrosi&#243;n" TargetMode="External"/><Relationship Id="rId3" Type="http://schemas.openxmlformats.org/officeDocument/2006/relationships/slide" Target="../slides/slide9.xml"/><Relationship Id="rId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8AE5-AA01-4D21-93C5-7145572C96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tras fuentes comerciales son la wulfenita y powelli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sos: Lámparas, cableado de válvulas y electrodos, filamentos de calentadores eléctricos, aleaciones, soldadura. Industrias aeronáuticas y de misi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estable al aire y a los ácidos no oxidantes al pasivarse su superficie. Los ácidos oxidantes (ácido sulfúrico concentrado y caliente, nítrico o agua regia) lo disuel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271B-DD30-4897-BD74-B99EDE85E8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bre: Conducción eléctrica y de calor (alambres, cables, tubos), monedas, joyería, arte. Fontanerí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E215-4BF3-4D0B-B60F-FE58A00FE4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usa en recipientes para líquidos corrosivos (ácido sulfúrico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alquimistas creían que el plomo era el metal más antiguo y lo asociaban con el planeta Satur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sos: Protección frente a radiaciones, baterías (se emplea el metal y su óxido), municiones. Recubrimiento de cables, fontanería y fabricación de plomo tetraetilo (aditivo antidetonante de la gasolinas con plomo). Sus aleaciones se emplean en soldadura, caracteres de imprenta y varios metales antifric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3041-B464-4E3E-8608-727996BFD7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Zn:  50% del consumo anual  es el 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alvanizad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del acero para protegerlo de la 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osión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baterías "zinc-aire" </a:t>
            </a:r>
            <a:r>
              <a:rPr b="0" lang="es-E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rincipal ventaja la posibilidad de ser recicladas sin límite, sin perder ni sus cualidades químicas, ni sus cualidades físic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5 % restante se emplea bajo las formas de óxido o de sulfuro de zinc.  </a:t>
            </a:r>
            <a:r>
              <a:rPr b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El óxido de zinc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(ZnO) es utilizado en la fabricación de, pinturas, productos a base de caucho, plásticos, tintas de impresión, productos textiles, cosméticos, jabones y productos farmacéuticos </a:t>
            </a:r>
            <a:r>
              <a:rPr b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El sulfuro de zinc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se utiliza principalmente en la confección de pantallas de televisores, pinturas (poco tóxicas) y luces fluoresc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F87-F982-42C6-A0E5-78EA7E3D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A6A-3CB9-42A3-9A4C-FFBA1365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98F-1611-4AB3-AC03-40EF7C9D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81B-3013-4585-B9CA-A1F53EBB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7B34-544A-48F8-8886-0150426D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0346-90A5-4A75-BAFB-FB144745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3BFC-0394-4763-A0D0-09D3653F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CE17-BDE2-4B3D-965A-56830006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79B8-B9D2-434F-BD68-072A6F81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9520-502B-473F-8BE8-DAC0B2E2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B0A6-A578-463B-9E11-F34CD0D8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460C-CEC3-4969-86D7-F646EFE1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C166-EE2E-4915-897D-2BB36C6B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3C9B-1CE4-46DF-9B23-8CE01CB3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0586-5D99-4F70-9567-F1F75BED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45CE-1504-42F7-B747-A898F900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3040-99D1-4F7D-8BA8-18EAF815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0B0F-F693-4C84-A77D-0D4FD088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189-D703-4A51-969F-530F3A91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83A-AB01-4FAC-98DF-8E98FA5B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95D-3BC1-4AFE-9F18-79F1873A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134-05C7-4B30-8322-D549F734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9E1-0131-4B50-8428-F2E2BD91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6BC-9D4A-4FAF-84B9-C2C335AE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6f6f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50000">
                    <a:srgbClr val="fefefe"/>
                  </a:gs>
                  <a:gs pos="100000">
                    <a:srgbClr val="e7e7e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A638-511E-4B99-9BCC-617C2D3A09C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6f6f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50000">
                    <a:srgbClr val="fefefe"/>
                  </a:gs>
                  <a:gs pos="100000">
                    <a:srgbClr val="e7e7e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5AB2-78A8-40CF-AA9A-2ADF62CF8F8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ahoma"/>
              </a:rPr>
              <a:t>Clase 2: Sulfuros hipógeno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alogénesis otoño 20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27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ahoma"/>
              </a:rPr>
              <a:t>Molibdeni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Picture 6" descr="Molybdenite"/>
          <p:cNvPicPr/>
          <p:nvPr/>
        </p:nvPicPr>
        <p:blipFill>
          <a:blip r:embed="rId1"/>
          <a:srcRect l="0" t="0" r="0" b="18154"/>
          <a:stretch/>
        </p:blipFill>
        <p:spPr>
          <a:xfrm>
            <a:off x="685800" y="3921120"/>
            <a:ext cx="3027240" cy="21718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0" y="214200"/>
            <a:ext cx="4392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S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Tahoma"/>
              </a:rPr>
              <a:t>59.94 %  M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40.06 %  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lor: Gris plomo (violáce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bito: foliado, diseminado, mas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ureza: 1.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livaje: perfecto en lámin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enacidad: Séct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rillo: metál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ya: gr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*graso al tac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ineral hidrotermal de alta temperatura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agénesis: esfarelita (blenda), galena, magnetita, entre otro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Etimología: de “Molybdos” que significa plomo, metal con el que se confundia el plom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2"/>
          <a:srcRect l="0" t="20446" r="44181" b="18187"/>
          <a:stretch/>
        </p:blipFill>
        <p:spPr>
          <a:xfrm>
            <a:off x="250920" y="1628640"/>
            <a:ext cx="2016000" cy="19447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" descr="molybdenita1"/>
          <p:cNvPicPr/>
          <p:nvPr/>
        </p:nvPicPr>
        <p:blipFill>
          <a:blip r:embed="rId3"/>
          <a:stretch/>
        </p:blipFill>
        <p:spPr>
          <a:xfrm>
            <a:off x="2330280" y="1843200"/>
            <a:ext cx="2017800" cy="1528560"/>
          </a:xfrm>
          <a:prstGeom prst="rect">
            <a:avLst/>
          </a:prstGeom>
          <a:ln w="0">
            <a:noFill/>
          </a:ln>
        </p:spPr>
      </p:pic>
      <p:sp>
        <p:nvSpPr>
          <p:cNvPr id="444" name="Line 10"/>
          <p:cNvSpPr/>
          <p:nvPr/>
        </p:nvSpPr>
        <p:spPr>
          <a:xfrm>
            <a:off x="5286240" y="2071800"/>
            <a:ext cx="1008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11"/>
          <p:cNvSpPr/>
          <p:nvPr/>
        </p:nvSpPr>
        <p:spPr>
          <a:xfrm>
            <a:off x="5357880" y="2714760"/>
            <a:ext cx="574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12"/>
          <p:cNvSpPr/>
          <p:nvPr/>
        </p:nvSpPr>
        <p:spPr>
          <a:xfrm>
            <a:off x="5715000" y="3429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13"/>
          <p:cNvSpPr/>
          <p:nvPr/>
        </p:nvSpPr>
        <p:spPr>
          <a:xfrm>
            <a:off x="4929120" y="43578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Tetrahedrita - Tenanti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9" name="Picture 7" descr="tetrahedrita"/>
          <p:cNvPicPr/>
          <p:nvPr/>
        </p:nvPicPr>
        <p:blipFill>
          <a:blip r:embed="rId1"/>
          <a:stretch/>
        </p:blipFill>
        <p:spPr>
          <a:xfrm>
            <a:off x="425520" y="981000"/>
            <a:ext cx="2425680" cy="260532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23640" y="3715920"/>
            <a:ext cx="3600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Cu,Fe)12Sb 4S13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10.20 %  Fe 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3300"/>
                </a:solidFill>
                <a:latin typeface="Tahoma"/>
              </a:rPr>
              <a:t>34.80 %  Cu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666699"/>
                </a:solidFill>
                <a:latin typeface="Tahoma"/>
              </a:rPr>
              <a:t>29.64 %  Sb (antimonio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25.37 %  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lor: Gris acero, neg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ureza 3.5 – 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rillo: Metál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rágil, fractura subconcoid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ya: café a rojo oscuro, neg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9" descr="Tennantite"/>
          <p:cNvPicPr/>
          <p:nvPr/>
        </p:nvPicPr>
        <p:blipFill>
          <a:blip r:embed="rId2"/>
          <a:stretch/>
        </p:blipFill>
        <p:spPr>
          <a:xfrm>
            <a:off x="6072120" y="1143000"/>
            <a:ext cx="2809800" cy="292248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11"/>
          <p:cNvSpPr/>
          <p:nvPr/>
        </p:nvSpPr>
        <p:spPr>
          <a:xfrm>
            <a:off x="2843280" y="836640"/>
            <a:ext cx="352908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Cu,Fe)12(Sb, As)4S13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12"/>
          <p:cNvSpPr/>
          <p:nvPr/>
        </p:nvSpPr>
        <p:spPr>
          <a:xfrm>
            <a:off x="3857760" y="3571920"/>
            <a:ext cx="5113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Cu,Fe)12As4S13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3.80 %  Fe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Tahoma"/>
              </a:rPr>
              <a:t>47.51 %  Cu 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b0f0"/>
                </a:solidFill>
                <a:latin typeface="Tahoma"/>
              </a:rPr>
              <a:t>20.37 %  As (Arsenico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28.33 %  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lor: Gris acero a neg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ureza: 3.5 -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rillo: metál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rágil, fractura subconcoid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ya: gris rojizo, negro, café rojiz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7 CuadroTexto"/>
          <p:cNvSpPr/>
          <p:nvPr/>
        </p:nvSpPr>
        <p:spPr>
          <a:xfrm>
            <a:off x="0" y="6286680"/>
            <a:ext cx="814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Etimología: Tetrahedrita por su forma cristalina y por el químico inglé S. Tenna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2703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ahoma"/>
              </a:rPr>
              <a:t>Enargi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Picture 10" descr="enargita"/>
          <p:cNvPicPr/>
          <p:nvPr/>
        </p:nvPicPr>
        <p:blipFill>
          <a:blip r:embed="rId1"/>
          <a:stretch/>
        </p:blipFill>
        <p:spPr>
          <a:xfrm>
            <a:off x="971640" y="1197000"/>
            <a:ext cx="2415960" cy="272088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140000" y="549360"/>
            <a:ext cx="470196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eS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Tahoma"/>
              </a:rPr>
              <a:t>48.41 %  C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Tahoma"/>
              </a:rPr>
              <a:t>19.02 %  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32.57 %  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lor: Gris acero, gris negro, violeta oscu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bito: Masivo, euhedral, prismático, granul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ureza: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rillo: Metál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ya: neg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tri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agénesis: Tennantita, molibdenita, pirita, covellita, calcopirita, bornita, esfarelita, galena, calcosita, arsenopirit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Etimología: 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Del griego enarges = eviden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8" name="Picture 11" descr="enarg2"/>
          <p:cNvPicPr/>
          <p:nvPr/>
        </p:nvPicPr>
        <p:blipFill>
          <a:blip r:embed="rId2"/>
          <a:stretch/>
        </p:blipFill>
        <p:spPr>
          <a:xfrm>
            <a:off x="826920" y="4292640"/>
            <a:ext cx="2940120" cy="1958760"/>
          </a:xfrm>
          <a:prstGeom prst="rect">
            <a:avLst/>
          </a:prstGeom>
          <a:ln w="0">
            <a:noFill/>
          </a:ln>
        </p:spPr>
      </p:pic>
      <p:sp>
        <p:nvSpPr>
          <p:cNvPr id="459" name="Line 13"/>
          <p:cNvSpPr/>
          <p:nvPr/>
        </p:nvSpPr>
        <p:spPr>
          <a:xfrm>
            <a:off x="4211640" y="407664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4211640" y="148428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Paragéne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24000" y="999720"/>
            <a:ext cx="84960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 ocurrir estos cambios físicos y químicos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inerales de mena y ganga se aproximan a sus respectivas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ahoma"/>
              </a:rPr>
              <a:t>constantes de equilibrio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ahoma"/>
              </a:rPr>
              <a:t>depositados en cierta secuencia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gistro de la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ahoma"/>
              </a:rPr>
              <a:t>evolución en tiempo y espacio de una solución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ineralizadora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ahoma"/>
              </a:rPr>
              <a:t>orden cronológico de depositación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ineral se conoce como la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secuencia paragenética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paragénesis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 un depósito mine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n sentido petrogenético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asociación de varias fases minerales estables en un mismo intervalo de presión y tempera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376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ahoma"/>
              </a:rPr>
              <a:t>Borni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19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5FeS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11.13 %  Fe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Tahoma"/>
              </a:rPr>
              <a:t>63.31 %  Cu</a:t>
            </a:r>
            <a:r>
              <a:rPr b="1" lang="es-ES" sz="1400" spc="-1" strike="noStrike">
                <a:solidFill>
                  <a:srgbClr val="ff3300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25.56 %  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lor: fresca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bronce-pardo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l exponerse al aire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átina jaspeada púrpura y azul (“pecho paloma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ábito: granular en matriz a masiva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ranul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ureza: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enacidad: Frág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rillo: metál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ya: gris neg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agénesis: Calcopirita, calcosita (a menudo en fracturas), covellina, tetraedrita / tennantita, esfarelit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currencia: suele darse diseminada o en vetill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Etimología: 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Del mineralogista Von B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687240" y="1600200"/>
            <a:ext cx="3421080" cy="4498920"/>
          </a:xfrm>
          <a:prstGeom prst="rect">
            <a:avLst/>
          </a:prstGeom>
          <a:ln w="0">
            <a:noFill/>
          </a:ln>
        </p:spPr>
      </p:pic>
      <p:sp>
        <p:nvSpPr>
          <p:cNvPr id="398" name="Line 8"/>
          <p:cNvSpPr/>
          <p:nvPr/>
        </p:nvSpPr>
        <p:spPr>
          <a:xfrm>
            <a:off x="7451640" y="270828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Line 9"/>
          <p:cNvSpPr/>
          <p:nvPr/>
        </p:nvSpPr>
        <p:spPr>
          <a:xfrm>
            <a:off x="5076720" y="292428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10"/>
          <p:cNvSpPr/>
          <p:nvPr/>
        </p:nvSpPr>
        <p:spPr>
          <a:xfrm>
            <a:off x="5364000" y="4365720"/>
            <a:ext cx="1008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390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ahoma"/>
              </a:rPr>
              <a:t>Piri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0" y="259920"/>
            <a:ext cx="427032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eS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46.55 %  Fe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Tahoma"/>
              </a:rPr>
              <a:t>53.45 %  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lor: Amarillo Pál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ábito: Cristalino en formas cúb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ureza: 6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enacidad: Frág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rillo: metál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aya: verdosa a pardo neg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currencia: suele darse diseminada, en vetillas o cúmul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aragénesis: Galena, esfarelita, pirrotita, calcopirita, arsenopirit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 el sulfuro mas común de la corte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Etimología: del griego “fuego” por su capacidad de prender chispas al golpearse con un eslab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7"/>
          <p:cNvSpPr/>
          <p:nvPr/>
        </p:nvSpPr>
        <p:spPr>
          <a:xfrm>
            <a:off x="5364000" y="1989000"/>
            <a:ext cx="208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8"/>
          <p:cNvSpPr/>
          <p:nvPr/>
        </p:nvSpPr>
        <p:spPr>
          <a:xfrm>
            <a:off x="5214960" y="264312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Line 9"/>
          <p:cNvSpPr/>
          <p:nvPr/>
        </p:nvSpPr>
        <p:spPr>
          <a:xfrm>
            <a:off x="7072200" y="228600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4084920" cy="4757760"/>
          </a:xfrm>
          <a:prstGeom prst="rect">
            <a:avLst/>
          </a:prstGeom>
          <a:ln w="0">
            <a:noFill/>
          </a:ln>
        </p:spPr>
      </p:pic>
      <p:sp>
        <p:nvSpPr>
          <p:cNvPr id="407" name="Line 12"/>
          <p:cNvSpPr/>
          <p:nvPr/>
        </p:nvSpPr>
        <p:spPr>
          <a:xfrm>
            <a:off x="5500800" y="3714840"/>
            <a:ext cx="2428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27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ahoma"/>
              </a:rPr>
              <a:t>Calcopiri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FeS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30.43 %  Fe 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Tahoma"/>
              </a:rPr>
              <a:t>34.63 %  Cu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  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34.94 %  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lor: Amarillo Lat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ábito: Mayormente masivo, puede ser en drusas o crist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ureza: 3,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enacidad: Frág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rillo: Metál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ya: Negro verdos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currencia: Se presenta generalmente diseminada y en vet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agénesis: Pirita, bornita, esfalerita, gale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l oxidarse presenta una capa iridiscente o bronce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Etimología: 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Del griego jalkos = cobre y pir = fu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473040" y="1600200"/>
            <a:ext cx="3514680" cy="4637160"/>
          </a:xfrm>
          <a:prstGeom prst="rect">
            <a:avLst/>
          </a:prstGeom>
          <a:ln w="0">
            <a:noFill/>
          </a:ln>
        </p:spPr>
      </p:pic>
      <p:sp>
        <p:nvSpPr>
          <p:cNvPr id="411" name="Line 8"/>
          <p:cNvSpPr/>
          <p:nvPr/>
        </p:nvSpPr>
        <p:spPr>
          <a:xfrm>
            <a:off x="5508720" y="2133720"/>
            <a:ext cx="1439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Line 9"/>
          <p:cNvSpPr/>
          <p:nvPr/>
        </p:nvSpPr>
        <p:spPr>
          <a:xfrm>
            <a:off x="5508720" y="2924280"/>
            <a:ext cx="503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Line 10"/>
          <p:cNvSpPr/>
          <p:nvPr/>
        </p:nvSpPr>
        <p:spPr>
          <a:xfrm>
            <a:off x="5076720" y="6093000"/>
            <a:ext cx="2374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Line 11"/>
          <p:cNvSpPr/>
          <p:nvPr/>
        </p:nvSpPr>
        <p:spPr>
          <a:xfrm>
            <a:off x="6732720" y="2421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Pirrotin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6" name="Picture 7" descr="pyrrh2"/>
          <p:cNvPicPr/>
          <p:nvPr/>
        </p:nvPicPr>
        <p:blipFill>
          <a:blip r:embed="rId1"/>
          <a:stretch/>
        </p:blipFill>
        <p:spPr>
          <a:xfrm>
            <a:off x="755640" y="1343160"/>
            <a:ext cx="2736720" cy="247176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40000" y="549360"/>
            <a:ext cx="4546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e2+0.95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62.33 %  Fe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37.67 %  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lor: Bronce, café oscuro, amarillo bro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bito: tabular, mas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ractura: mas irregular, no solo por el cliva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enacidad: Frág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ureza:3.5 - 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ya: gris oscu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rillo: metál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gnetismo: variable (disminuye con mayor contenido de F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inerales asociados: Pirita, magnetita, calcopirita, galena, arsenopirita, Hematit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Del griego purros = amarillo rojiz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Picture 9" descr="Pyrrhotite"/>
          <p:cNvPicPr/>
          <p:nvPr/>
        </p:nvPicPr>
        <p:blipFill>
          <a:blip r:embed="rId2"/>
          <a:stretch/>
        </p:blipFill>
        <p:spPr>
          <a:xfrm>
            <a:off x="468360" y="3938760"/>
            <a:ext cx="3468600" cy="2597040"/>
          </a:xfrm>
          <a:prstGeom prst="rect">
            <a:avLst/>
          </a:prstGeom>
          <a:ln w="0">
            <a:noFill/>
          </a:ln>
        </p:spPr>
      </p:pic>
      <p:sp>
        <p:nvSpPr>
          <p:cNvPr id="419" name="Line 11"/>
          <p:cNvSpPr/>
          <p:nvPr/>
        </p:nvSpPr>
        <p:spPr>
          <a:xfrm>
            <a:off x="5508720" y="4437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04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Arsenopiri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0384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e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34.30 %  Fe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Tahoma"/>
              </a:rPr>
              <a:t>46.01 %  As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 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19.69 %  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lor: Blanco plateado a gris plate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stema cristalino: Monoclín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ábito: Masivo, diseminado, algunas veces en crist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ureza: 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rillo: metál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ya: Neg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agénesis: Galena, esfarelita, casiterita, tetraedrita, covellita, calcosita, entre otr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currencia: Diseminada, algunas veces en ve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recuentemente muestra reemplazamiento por galena, calcopirita o esfareli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Etimología: de su composi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"/>
          <p:cNvPicPr/>
          <p:nvPr/>
        </p:nvPicPr>
        <p:blipFill>
          <a:blip r:embed="rId2"/>
          <a:stretch/>
        </p:blipFill>
        <p:spPr>
          <a:xfrm>
            <a:off x="1476360" y="436572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424" name="Line 6"/>
          <p:cNvSpPr/>
          <p:nvPr/>
        </p:nvSpPr>
        <p:spPr>
          <a:xfrm>
            <a:off x="5435640" y="2133720"/>
            <a:ext cx="3097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3971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ahoma"/>
              </a:rPr>
              <a:t>Galen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1"/>
          <a:stretch/>
        </p:blipFill>
        <p:spPr>
          <a:xfrm>
            <a:off x="301680" y="1600200"/>
            <a:ext cx="4191120" cy="44989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647960" y="259920"/>
            <a:ext cx="42447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Tahoma"/>
              </a:rPr>
              <a:t>86.60 %  Pb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   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13.40 %  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lor: gris claro a oscu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stema Cristalino: Cúb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ábito: Cristalino en formas cúbic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ureza: 6,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enacidad: Frág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rillo: metál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ya: negra verdo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nsidad: 7.2 - 7.6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currencia: Masiva o en vetill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agénesis: Blenda, piri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ele presentar un hábito en escaleri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Etimología: termino griego usado en un principio para todas las menas de plom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Line 5"/>
          <p:cNvSpPr/>
          <p:nvPr/>
        </p:nvSpPr>
        <p:spPr>
          <a:xfrm>
            <a:off x="5435640" y="1844640"/>
            <a:ext cx="180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Line 6"/>
          <p:cNvSpPr/>
          <p:nvPr/>
        </p:nvSpPr>
        <p:spPr>
          <a:xfrm>
            <a:off x="5580000" y="2852640"/>
            <a:ext cx="50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Line 7"/>
          <p:cNvSpPr/>
          <p:nvPr/>
        </p:nvSpPr>
        <p:spPr>
          <a:xfrm>
            <a:off x="5364000" y="3500280"/>
            <a:ext cx="1008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7740720" y="551664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3971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ahoma"/>
              </a:rPr>
              <a:t>Blen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571920" y="142560"/>
            <a:ext cx="557208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Zn,Fe)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3300"/>
                </a:solidFill>
                <a:latin typeface="Tahoma"/>
              </a:rPr>
              <a:t>67 %  Zn  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 30,5 % Zn    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Fe    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36,5% Fe 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33 %  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33%   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lor: Negro , gris, amarilla, roja (esfalerita rubi),  anaranjada (acaramelada) hasta ver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*impurezas comunes: manganeso y cadm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bito: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istales son generalmente dodecaédricos y cub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afanidad: opaco a traslucido según cantidad de F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ábito: Euhedral, granular, puede presentarse fracturado con caras plan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ureza: 3,5-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enacidad: Frág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rillo: No metálico y resinoso a submetálico; también adamant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aya: castaño – rojiz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nsidad: 3.9 – 4.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currencia: Vetillas, disemin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agénesis: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Galena, calcopirita, pirita, arsenopirita, pirrotita, magneti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 difícil diferenciarla de la gale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(falsa galena. Etimologia </a:t>
            </a:r>
            <a:r>
              <a:rPr b="0" i="1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 del griego “traidor”, del alemán blende “ofuscar”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214200" y="928800"/>
            <a:ext cx="3313080" cy="30542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Blenda acaramelada (Cantabria)"/>
          <p:cNvPicPr/>
          <p:nvPr/>
        </p:nvPicPr>
        <p:blipFill>
          <a:blip r:embed="rId2"/>
          <a:stretch/>
        </p:blipFill>
        <p:spPr>
          <a:xfrm>
            <a:off x="142920" y="4071960"/>
            <a:ext cx="3276720" cy="2556000"/>
          </a:xfrm>
          <a:prstGeom prst="rect">
            <a:avLst/>
          </a:prstGeom>
          <a:ln w="0">
            <a:noFill/>
          </a:ln>
        </p:spPr>
      </p:pic>
      <p:sp>
        <p:nvSpPr>
          <p:cNvPr id="436" name="Line 6"/>
          <p:cNvSpPr/>
          <p:nvPr/>
        </p:nvSpPr>
        <p:spPr>
          <a:xfrm>
            <a:off x="4929120" y="2857680"/>
            <a:ext cx="1727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Line 7"/>
          <p:cNvSpPr/>
          <p:nvPr/>
        </p:nvSpPr>
        <p:spPr>
          <a:xfrm>
            <a:off x="4214880" y="4714920"/>
            <a:ext cx="1582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Line 8"/>
          <p:cNvSpPr/>
          <p:nvPr/>
        </p:nvSpPr>
        <p:spPr>
          <a:xfrm>
            <a:off x="3500280" y="421488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6:00:51Z</dcterms:created>
  <dc:creator>Magister4</dc:creator>
  <dc:description/>
  <dc:language>en-US</dc:language>
  <cp:lastModifiedBy>user</cp:lastModifiedBy>
  <dcterms:modified xsi:type="dcterms:W3CDTF">2010-04-05T21:02:21Z</dcterms:modified>
  <cp:revision>19</cp:revision>
  <dc:subject/>
  <dc:title>Clase 2: Sulfuros hipógenos</dc:title>
</cp:coreProperties>
</file>