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480C-A4A3-4AD4-876F-BC8A3C16F9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es.wikipedia.org/wiki/Galvanizaci&#243;n" TargetMode="External"/><Relationship Id="rId2" Type="http://schemas.openxmlformats.org/officeDocument/2006/relationships/hyperlink" Target="http://es.wikipedia.org/wiki/Corrosi&#243;n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64D5-4C36-46DB-8D12-FB7605D9D0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tras fuentes comerciales son la wulfenita y powelli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sos: Lámparas, cableado de válvulas y electrodos, filamentos de calentadores eléctricos, aleaciones, soldadura. Industrias aeronáuticas y de mis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estable al aire y a los ácidos no oxidantes al pasivarse su superficie. Los ácidos oxidantes (ácido sulfúrico concentrado y caliente, nítrico o agua regia) lo disuel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992-BF70-4369-91FA-9177DA88CD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bre: Conducción eléctrica y de calor (alambres, cables, tubos), monedas, joyería, arte. Fontanerí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EA61-136F-4FBE-B3AA-1E052792DA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usa en recipientes para líquidos corrosivos (ácido sulfúric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alquimistas creían que el plomo era el metal más antiguo y lo asociaban con el planeta Satur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sos: Protección frente a radiaciones, baterías (se emplea el metal y su óxido), municiones. Recubrimiento de cables, fontanería y fabricación de plomo tetraetilo (aditivo antidetonante de la gasolinas con plomo). Sus aleaciones se emplean en soldadura, caracteres de imprenta y varios metales antifric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D92D-2419-40B1-AC57-279AE7749D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Zn:  50% del consumo anual  es el 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lvanizad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del acero para protegerlo de la 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osió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baterías "zinc-aire"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rincipal ventaja la posibilidad de ser recicladas sin límite, sin perder ni sus cualidades químicas, ni sus cualidades fís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5 % restante se emplea bajo las formas de óxido o de sulfuro de zinc.  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El óxido de zinc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(ZnO) es utilizado en la fabricación de, pinturas, productos a base de caucho, plásticos, tintas de impresión, productos textiles, cosméticos, jabones y productos farmacéuticos 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El sulfuro de zinc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se utiliza principalmente en la confección de pantallas de televisores, pinturas (poco tóxicas) y luces fluoresc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BF2-9AB6-49BD-8953-A3B57533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15A-475B-471A-807D-03B85277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663-96FC-4685-9D39-5813B59D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E55-CA60-412B-857C-F29DDCDD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C7AF-F2E9-42C4-84DD-17842994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A66E-6D7D-47BB-A4B0-95F98EC9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0EED-9763-4F5C-9665-0CFCC37C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8B57-B443-4978-80CF-4F6C11F1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D424-8924-42D3-BE58-F2325322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307B-D1D4-4130-8F53-4D1FDAEB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94AF-3BF1-4D69-B880-919E4DB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4BA-D94B-49BB-99C8-65E0B508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1ED8-EF8E-44AE-8639-08EBDB1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0F76-F6FE-4F79-8B4B-5172DB22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5A1B-6F30-4F9A-849C-DF261538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C038-9206-49A7-950E-75788E4D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59C3-B5F5-4698-AEF4-3225AD95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8AB-B334-432E-8D62-B2337A2E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F37-0831-427D-9E4E-C2FDDFF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BBA-BCEF-4341-A738-4CE4FA0C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5DB-6C48-4CC4-A38C-F6AA491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0C2-50F9-4C86-8ECC-6417752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069-D184-48DE-B28E-31FFE0C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F4A-8B7F-4172-8E6C-87455EE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01C9-D715-457B-8B7E-A59852F98E8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EB96-A110-46F0-9459-3DF0D411E9C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ahoma"/>
              </a:rPr>
              <a:t>Clase 2: Sulfuros hipógeno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alogénesis otoño 2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Molibden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6" descr="Molybdenite"/>
          <p:cNvPicPr/>
          <p:nvPr/>
        </p:nvPicPr>
        <p:blipFill>
          <a:blip r:embed="rId1"/>
          <a:srcRect l="0" t="0" r="0" b="18154"/>
          <a:stretch/>
        </p:blipFill>
        <p:spPr>
          <a:xfrm>
            <a:off x="685800" y="3921120"/>
            <a:ext cx="3027240" cy="2171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0" y="214200"/>
            <a:ext cx="43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S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59.94 %  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40.06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plomo (violáce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to: foliado, diseminado, mas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1.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livaje: perfecto en lámin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Séct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gr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*graso al ta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eral hidrotermal de alta temperatur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esfarelita (blenda), galena, magnetita, entre otr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de “Molybdos” que significa plomo, metal con el que se confundia el plo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2"/>
          <a:srcRect l="0" t="20446" r="44181" b="18187"/>
          <a:stretch/>
        </p:blipFill>
        <p:spPr>
          <a:xfrm>
            <a:off x="250920" y="1628640"/>
            <a:ext cx="2016000" cy="1944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molybdenita1"/>
          <p:cNvPicPr/>
          <p:nvPr/>
        </p:nvPicPr>
        <p:blipFill>
          <a:blip r:embed="rId3"/>
          <a:stretch/>
        </p:blipFill>
        <p:spPr>
          <a:xfrm>
            <a:off x="2330280" y="1843200"/>
            <a:ext cx="2017800" cy="1528560"/>
          </a:xfrm>
          <a:prstGeom prst="rect">
            <a:avLst/>
          </a:prstGeom>
          <a:ln w="0">
            <a:noFill/>
          </a:ln>
        </p:spPr>
      </p:pic>
      <p:sp>
        <p:nvSpPr>
          <p:cNvPr id="444" name="Line 10"/>
          <p:cNvSpPr/>
          <p:nvPr/>
        </p:nvSpPr>
        <p:spPr>
          <a:xfrm>
            <a:off x="5286240" y="207180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11"/>
          <p:cNvSpPr/>
          <p:nvPr/>
        </p:nvSpPr>
        <p:spPr>
          <a:xfrm>
            <a:off x="5357880" y="2714760"/>
            <a:ext cx="574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12"/>
          <p:cNvSpPr/>
          <p:nvPr/>
        </p:nvSpPr>
        <p:spPr>
          <a:xfrm>
            <a:off x="5715000" y="3429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4929120" y="43578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Tetrahedrita - Tenanti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7" descr="tetrahedrita"/>
          <p:cNvPicPr/>
          <p:nvPr/>
        </p:nvPicPr>
        <p:blipFill>
          <a:blip r:embed="rId1"/>
          <a:stretch/>
        </p:blipFill>
        <p:spPr>
          <a:xfrm>
            <a:off x="425520" y="981000"/>
            <a:ext cx="2425680" cy="26053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3640" y="3715920"/>
            <a:ext cx="3600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Cu,Fe)12Sb 4S1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10.20 %  Fe 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3300"/>
                </a:solidFill>
                <a:latin typeface="Tahoma"/>
              </a:rPr>
              <a:t>34.80 %  Cu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666699"/>
                </a:solidFill>
                <a:latin typeface="Tahoma"/>
              </a:rPr>
              <a:t>29.64 %  Sb (antimonio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25.37 %  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acero, neg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 3.5 –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ágil, fractura subconcoid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café a rojo oscuro, neg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9" descr="Tennantite"/>
          <p:cNvPicPr/>
          <p:nvPr/>
        </p:nvPicPr>
        <p:blipFill>
          <a:blip r:embed="rId2"/>
          <a:stretch/>
        </p:blipFill>
        <p:spPr>
          <a:xfrm>
            <a:off x="6072120" y="1143000"/>
            <a:ext cx="2809800" cy="29224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1"/>
          <p:cNvSpPr/>
          <p:nvPr/>
        </p:nvSpPr>
        <p:spPr>
          <a:xfrm>
            <a:off x="2843280" y="836640"/>
            <a:ext cx="35290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Cu,Fe)12(Sb, As)4S13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3857760" y="3571920"/>
            <a:ext cx="5113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Cu,Fe)12As4S13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3.80 %  F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Tahoma"/>
              </a:rPr>
              <a:t>47.51 %  Cu 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b0f0"/>
                </a:solidFill>
                <a:latin typeface="Tahoma"/>
              </a:rPr>
              <a:t>20.37 %  As (Arsenico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28.33 %  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acero a neg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.5 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ágil, fractura subconcoid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gris rojizo, negro, café rojiz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7 CuadroTexto"/>
          <p:cNvSpPr/>
          <p:nvPr/>
        </p:nvSpPr>
        <p:spPr>
          <a:xfrm>
            <a:off x="0" y="6286680"/>
            <a:ext cx="81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Etimología: Tetrahedrita por su forma cristalina y por el químico inglé S. Tenna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Enarg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10" descr="enargita"/>
          <p:cNvPicPr/>
          <p:nvPr/>
        </p:nvPicPr>
        <p:blipFill>
          <a:blip r:embed="rId1"/>
          <a:stretch/>
        </p:blipFill>
        <p:spPr>
          <a:xfrm>
            <a:off x="971640" y="1197000"/>
            <a:ext cx="2415960" cy="272088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40000" y="549360"/>
            <a:ext cx="4701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e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48.41 %  C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ahoma"/>
              </a:rPr>
              <a:t>19.02 %  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2.57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acero, gris negro, violeta oscu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to: Masivo, euhedral, prismático, gran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neg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tri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Tennantita, molibdenita, pirita, covellita, calcopirita, bornita, esfarelita, galena, calcosita, arsenopiri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Del griego enarges = evid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11" descr="enarg2"/>
          <p:cNvPicPr/>
          <p:nvPr/>
        </p:nvPicPr>
        <p:blipFill>
          <a:blip r:embed="rId2"/>
          <a:stretch/>
        </p:blipFill>
        <p:spPr>
          <a:xfrm>
            <a:off x="826920" y="4292640"/>
            <a:ext cx="2940120" cy="1958760"/>
          </a:xfrm>
          <a:prstGeom prst="rect">
            <a:avLst/>
          </a:prstGeom>
          <a:ln w="0">
            <a:noFill/>
          </a:ln>
        </p:spPr>
      </p:pic>
      <p:sp>
        <p:nvSpPr>
          <p:cNvPr id="459" name="Line 13"/>
          <p:cNvSpPr/>
          <p:nvPr/>
        </p:nvSpPr>
        <p:spPr>
          <a:xfrm>
            <a:off x="4211640" y="4076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4211640" y="148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aragéne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4000" y="999720"/>
            <a:ext cx="84960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 ocurrir estos cambios físicos y químico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inerales de mena y ganga se aproximan a sus respectiva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constantes de equilibrio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depositados en cierta secuenci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istro de l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evolución en tiempo y espacio de una solución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ineralizador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orden cronológico de depositación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ineral se conoce como l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secuencia paragenética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aragénesis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un depósito min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sentido petrogenético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asociación de varias fases minerales estables en un mismo intervalo de presión y tempera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37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Born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19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5FeS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11.13 %  Fe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63.31 %  Cu</a:t>
            </a: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25.56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fresc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bronce-pard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l exponerse al aire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átina jaspeada púrpura y azul (“pecho paloma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granular en matriz a masiva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ran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gris neg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Calcopirita, calcosita (a menudo en fracturas), covellina, tetraedrita / tennantita, esfarelit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suele darse diseminada o en vetil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Del mineralogista Von B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87240" y="1600200"/>
            <a:ext cx="3421080" cy="4498920"/>
          </a:xfrm>
          <a:prstGeom prst="rect">
            <a:avLst/>
          </a:prstGeom>
          <a:ln w="0">
            <a:noFill/>
          </a:ln>
        </p:spPr>
      </p:pic>
      <p:sp>
        <p:nvSpPr>
          <p:cNvPr id="398" name="Line 8"/>
          <p:cNvSpPr/>
          <p:nvPr/>
        </p:nvSpPr>
        <p:spPr>
          <a:xfrm>
            <a:off x="7451640" y="2708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5076720" y="292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5364000" y="436572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0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Pir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0" y="259920"/>
            <a:ext cx="427032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e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46.55 %  F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Tahoma"/>
              </a:rPr>
              <a:t>53.45 %  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lor: Amarillo Pál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ábito: Cristalino en formas cúb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ureza: 6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aya: verdosa a pardo neg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currencia: suele darse diseminada, en vetillas o cúm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ragénesis: Galena, esfarelita, pirrotita, calcopirita, arsenopirit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el sulfuro mas común de la corte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del griego “fuego” por su capacidad de prender chispas al golpearse con un eslab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7"/>
          <p:cNvSpPr/>
          <p:nvPr/>
        </p:nvSpPr>
        <p:spPr>
          <a:xfrm>
            <a:off x="5364000" y="198900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5214960" y="26431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Line 9"/>
          <p:cNvSpPr/>
          <p:nvPr/>
        </p:nvSpPr>
        <p:spPr>
          <a:xfrm>
            <a:off x="7072200" y="2286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4084920" cy="4757760"/>
          </a:xfrm>
          <a:prstGeom prst="rect">
            <a:avLst/>
          </a:prstGeom>
          <a:ln w="0">
            <a:noFill/>
          </a:ln>
        </p:spPr>
      </p:pic>
      <p:sp>
        <p:nvSpPr>
          <p:cNvPr id="407" name="Line 12"/>
          <p:cNvSpPr/>
          <p:nvPr/>
        </p:nvSpPr>
        <p:spPr>
          <a:xfrm>
            <a:off x="5500800" y="3714840"/>
            <a:ext cx="242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Calcopir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FeS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0.43 %  Fe 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34.63 %  Cu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  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4.94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Amarillo Lat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Mayormente masivo, puede ser en drusas o crist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,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Negro verdo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Se presenta generalmente diseminada y en vet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Pirita, bornita, esfalerita, gal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l oxidarse presenta una capa iridiscente o bronce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Del griego jalkos = cobre y pir = fu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473040" y="1600200"/>
            <a:ext cx="3514680" cy="4637160"/>
          </a:xfrm>
          <a:prstGeom prst="rect">
            <a:avLst/>
          </a:prstGeom>
          <a:ln w="0">
            <a:noFill/>
          </a:ln>
        </p:spPr>
      </p:pic>
      <p:sp>
        <p:nvSpPr>
          <p:cNvPr id="411" name="Line 8"/>
          <p:cNvSpPr/>
          <p:nvPr/>
        </p:nvSpPr>
        <p:spPr>
          <a:xfrm>
            <a:off x="5508720" y="2133720"/>
            <a:ext cx="14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5508720" y="292428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5076720" y="6093000"/>
            <a:ext cx="2374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11"/>
          <p:cNvSpPr/>
          <p:nvPr/>
        </p:nvSpPr>
        <p:spPr>
          <a:xfrm>
            <a:off x="6732720" y="2421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irrotin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7" descr="pyrrh2"/>
          <p:cNvPicPr/>
          <p:nvPr/>
        </p:nvPicPr>
        <p:blipFill>
          <a:blip r:embed="rId1"/>
          <a:stretch/>
        </p:blipFill>
        <p:spPr>
          <a:xfrm>
            <a:off x="755640" y="134316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40000" y="549360"/>
            <a:ext cx="4546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e2+0.95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62.33 %  Fe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7.67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Bronce, café oscuro, amarillo br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to: tabular, mas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actura: mas irregular, no solo por el cliv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3.5 -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gris oscu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gnetismo: variable (disminuye con mayor contenido de F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erales asociados: Pirita, magnetita, calcopirita, galena, arsenopirita, Hemati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Del griego purros = amarillo roji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9" descr="Pyrrhotite"/>
          <p:cNvPicPr/>
          <p:nvPr/>
        </p:nvPicPr>
        <p:blipFill>
          <a:blip r:embed="rId2"/>
          <a:stretch/>
        </p:blipFill>
        <p:spPr>
          <a:xfrm>
            <a:off x="468360" y="3938760"/>
            <a:ext cx="3468600" cy="2597040"/>
          </a:xfrm>
          <a:prstGeom prst="rect">
            <a:avLst/>
          </a:prstGeom>
          <a:ln w="0">
            <a:noFill/>
          </a:ln>
        </p:spPr>
      </p:pic>
      <p:sp>
        <p:nvSpPr>
          <p:cNvPr id="419" name="Line 11"/>
          <p:cNvSpPr/>
          <p:nvPr/>
        </p:nvSpPr>
        <p:spPr>
          <a:xfrm>
            <a:off x="550872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04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Arsenopir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e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4.30 %  Fe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46.01 %  A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 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19.69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Blanco plateado a gris plat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stema cristalino: Monoclín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Masivo, diseminado, algunas veces en crist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Neg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Galena, esfarelita, casiterita, tetraedrita, covellita, calcosita, entre ot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Diseminada, algunas veces en ve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ecuentemente muestra reemplazamiento por galena, calcopirita o esfarel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de su composi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2"/>
          <a:stretch/>
        </p:blipFill>
        <p:spPr>
          <a:xfrm>
            <a:off x="1476360" y="43657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424" name="Line 6"/>
          <p:cNvSpPr/>
          <p:nvPr/>
        </p:nvSpPr>
        <p:spPr>
          <a:xfrm>
            <a:off x="5435640" y="2133720"/>
            <a:ext cx="309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71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Galen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4191120" cy="4498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47960" y="259920"/>
            <a:ext cx="42447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86.60 %  Pb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   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13.40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claro a oscu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stema Cristalino: Cúb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Cristalino en formas cúb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6,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negra verdo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nsidad: 7.2 - 7.6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Masiva o en vetil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Blenda, pir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ele presentar un hábito en escaler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termino griego usado en un principio para todas las menas de plo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5435640" y="1844640"/>
            <a:ext cx="180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5580000" y="2852640"/>
            <a:ext cx="50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5364000" y="350028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7740720" y="5516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71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Ble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571920" y="142560"/>
            <a:ext cx="5572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Zn,Fe)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Tahoma"/>
              </a:rPr>
              <a:t>67 %  Zn  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 30,5 % Zn    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e    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6,5% Fe 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3 %  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3%   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Negro , gris, amarilla, roja (esfalerita rubi),  anaranjada (acaramelada) hasta ver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*impurezas comunes: manganeso y cadm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to: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stales son generalmente dodecaédricos y cub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afanidad: opaco a traslucido según cantidad de F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Euhedral, granular, puede presentarse fracturado con caras plan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,5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No metálico y resinoso a submetálico; también adamant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castaño – rojiz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nsidad: 3.9 – 4.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Vetillas, disemi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alena, calcopirita, pirita, arsenopirita, pirrotita, magnet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difícil diferenciarla de la gal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(falsa galena. Etimologia </a:t>
            </a:r>
            <a:r>
              <a:rPr b="0" i="1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del griego “traidor”, del alemán blende “ofuscar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3313080" cy="305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Blenda acaramelada (Cantabria)"/>
          <p:cNvPicPr/>
          <p:nvPr/>
        </p:nvPicPr>
        <p:blipFill>
          <a:blip r:embed="rId2"/>
          <a:stretch/>
        </p:blipFill>
        <p:spPr>
          <a:xfrm>
            <a:off x="142920" y="4071960"/>
            <a:ext cx="3276720" cy="2556000"/>
          </a:xfrm>
          <a:prstGeom prst="rect">
            <a:avLst/>
          </a:prstGeom>
          <a:ln w="0">
            <a:noFill/>
          </a:ln>
        </p:spPr>
      </p:pic>
      <p:sp>
        <p:nvSpPr>
          <p:cNvPr id="436" name="Line 6"/>
          <p:cNvSpPr/>
          <p:nvPr/>
        </p:nvSpPr>
        <p:spPr>
          <a:xfrm>
            <a:off x="4929120" y="2857680"/>
            <a:ext cx="1727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4214880" y="4714920"/>
            <a:ext cx="1582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3500280" y="421488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6:00:51Z</dcterms:created>
  <dc:creator>Magister4</dc:creator>
  <dc:description/>
  <dc:language>en-US</dc:language>
  <cp:lastModifiedBy>user</cp:lastModifiedBy>
  <dcterms:modified xsi:type="dcterms:W3CDTF">2010-04-05T21:02:21Z</dcterms:modified>
  <cp:revision>19</cp:revision>
  <dc:subject/>
  <dc:title>Clase 2: Sulfuros hipógenos</dc:title>
</cp:coreProperties>
</file>