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8.png" ContentType="image/png"/>
  <Override PartName="/ppt/media/image13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95000" y="9600840"/>
            <a:ext cx="1728468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5000" y="12242880"/>
            <a:ext cx="1728468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352080" y="113536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9500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352080" y="12242880"/>
            <a:ext cx="84348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3924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183480" y="113536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500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633924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2183480" y="12242880"/>
            <a:ext cx="5565600" cy="8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882520"/>
            <a:ext cx="17284680" cy="455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7416720"/>
            <a:ext cx="1728468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99680" y="4482720"/>
            <a:ext cx="829296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24084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marL="50148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marL="802440" indent="-24048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marL="110340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95000" y="4482720"/>
            <a:ext cx="1728468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25884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marL="53964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marL="863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marL="1187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95360" y="4482720"/>
            <a:ext cx="829296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24084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marL="50148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marL="802440" indent="-24048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marL="110340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95360" y="4482720"/>
            <a:ext cx="829296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24084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marL="50148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marL="802440" indent="-24048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marL="110340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marL="1404360" indent="-240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495000" y="367920"/>
            <a:ext cx="17284680" cy="1299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1942920"/>
            <a:ext cx="829296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95360" y="6858000"/>
            <a:ext cx="829296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1942920"/>
            <a:ext cx="829296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360" y="6858000"/>
            <a:ext cx="829296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4533840"/>
            <a:ext cx="1728468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0438920"/>
            <a:ext cx="17284680" cy="181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0438920"/>
            <a:ext cx="17284680" cy="181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367920"/>
            <a:ext cx="1728468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000" y="4482720"/>
            <a:ext cx="1728468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marL="53964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marL="863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marL="1187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marL="1511280" indent="-258840">
              <a:spcBef>
                <a:spcPts val="5400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95000" y="2882520"/>
            <a:ext cx="17284680" cy="455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CinEmática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5000" y="7416720"/>
            <a:ext cx="1728468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Introducción y algunos ejemplos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495360" y="1695600"/>
            <a:ext cx="17284680" cy="1005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495360" y="1695600"/>
            <a:ext cx="17284680" cy="1005192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11366640" y="6197760"/>
            <a:ext cx="5257800" cy="1790640"/>
            <a:chOff x="11366640" y="6197760"/>
            <a:chExt cx="5257800" cy="1790640"/>
          </a:xfrm>
        </p:grpSpPr>
        <p:sp>
          <p:nvSpPr>
            <p:cNvPr id="732" name=""/>
            <p:cNvSpPr/>
            <p:nvPr/>
          </p:nvSpPr>
          <p:spPr>
            <a:xfrm>
              <a:off x="11366640" y="6197760"/>
              <a:ext cx="5257800" cy="1790640"/>
            </a:xfrm>
            <a:prstGeom prst="wedgeEllipseCallout">
              <a:avLst>
                <a:gd name="adj1" fmla="val -92754"/>
                <a:gd name="adj2" fmla="val 20212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461400" y="6666120"/>
              <a:ext cx="29847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¡Choque!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2"/>
          <a:srcRect l="0" t="6781" r="0" b="0"/>
          <a:stretch/>
        </p:blipFill>
        <p:spPr>
          <a:xfrm>
            <a:off x="4238640" y="0"/>
            <a:ext cx="9809280" cy="942192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Velocidad Instantanea 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el concepto de derivada para el hombre común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05040" y="2806560"/>
            <a:ext cx="10998360" cy="5854680"/>
          </a:xfrm>
          <a:prstGeom prst="rect">
            <a:avLst/>
          </a:prstGeom>
          <a:solidFill>
            <a:srgbClr val="5b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Velocidad: tasa De cambio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unidades: [v]=[L / T]=m/s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0" name=""/>
          <p:cNvSpPr/>
          <p:nvPr/>
        </p:nvSpPr>
        <p:spPr>
          <a:xfrm>
            <a:off x="4540320" y="3503520"/>
            <a:ext cx="1440" cy="309744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1" name=""/>
          <p:cNvSpPr/>
          <p:nvPr/>
        </p:nvSpPr>
        <p:spPr>
          <a:xfrm>
            <a:off x="4253040" y="6456240"/>
            <a:ext cx="3887640" cy="18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2" name=""/>
          <p:cNvSpPr/>
          <p:nvPr/>
        </p:nvSpPr>
        <p:spPr>
          <a:xfrm>
            <a:off x="8324640" y="6311880"/>
            <a:ext cx="236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3" name=""/>
          <p:cNvSpPr/>
          <p:nvPr/>
        </p:nvSpPr>
        <p:spPr>
          <a:xfrm>
            <a:off x="4513680" y="3071880"/>
            <a:ext cx="334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X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"/>
          <p:cNvSpPr/>
          <p:nvPr/>
        </p:nvSpPr>
        <p:spPr>
          <a:xfrm>
            <a:off x="4113360" y="4152960"/>
            <a:ext cx="3744720" cy="20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665" y="21328"/>
                  <a:pt x="5329" y="21073"/>
                  <a:pt x="7893" y="18505"/>
                </a:cubicBezTo>
                <a:cubicBezTo>
                  <a:pt x="10457" y="15936"/>
                  <a:pt x="13423" y="8742"/>
                  <a:pt x="15364" y="6174"/>
                </a:cubicBezTo>
                <a:cubicBezTo>
                  <a:pt x="17306" y="3606"/>
                  <a:pt x="18478" y="4116"/>
                  <a:pt x="19521" y="3078"/>
                </a:cubicBezTo>
                <a:cubicBezTo>
                  <a:pt x="20565" y="2041"/>
                  <a:pt x="21078" y="1020"/>
                  <a:pt x="2160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5" name=""/>
          <p:cNvSpPr/>
          <p:nvPr/>
        </p:nvSpPr>
        <p:spPr>
          <a:xfrm>
            <a:off x="5908680" y="6384960"/>
            <a:ext cx="14436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6" name=""/>
          <p:cNvSpPr/>
          <p:nvPr/>
        </p:nvSpPr>
        <p:spPr>
          <a:xfrm>
            <a:off x="5896080" y="5423040"/>
            <a:ext cx="14436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"/>
          <p:cNvSpPr/>
          <p:nvPr/>
        </p:nvSpPr>
        <p:spPr>
          <a:xfrm>
            <a:off x="4467240" y="5423040"/>
            <a:ext cx="14436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"/>
          <p:cNvSpPr/>
          <p:nvPr/>
        </p:nvSpPr>
        <p:spPr>
          <a:xfrm>
            <a:off x="5908680" y="63849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"/>
          <p:cNvSpPr/>
          <p:nvPr/>
        </p:nvSpPr>
        <p:spPr>
          <a:xfrm>
            <a:off x="4468680" y="54338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"/>
          <p:cNvSpPr/>
          <p:nvPr/>
        </p:nvSpPr>
        <p:spPr>
          <a:xfrm>
            <a:off x="5908680" y="54482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6163920" y="6529320"/>
            <a:ext cx="45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δ</a:t>
            </a: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5979960" y="5521320"/>
            <a:ext cx="1800" cy="9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540320" y="5521320"/>
            <a:ext cx="14396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4" name=""/>
          <p:cNvSpPr/>
          <p:nvPr/>
        </p:nvSpPr>
        <p:spPr>
          <a:xfrm>
            <a:off x="3891600" y="4805280"/>
            <a:ext cx="5475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δ</a:t>
            </a: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X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"/>
          <p:cNvSpPr/>
          <p:nvPr/>
        </p:nvSpPr>
        <p:spPr>
          <a:xfrm>
            <a:off x="6700680" y="4800600"/>
            <a:ext cx="1800" cy="1584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"/>
          <p:cNvSpPr/>
          <p:nvPr/>
        </p:nvSpPr>
        <p:spPr>
          <a:xfrm>
            <a:off x="4540320" y="4800600"/>
            <a:ext cx="21603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819840" y="2895480"/>
            <a:ext cx="6769080" cy="16509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9271080" y="6845400"/>
            <a:ext cx="439416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349360" y="2184480"/>
            <a:ext cx="11493720" cy="6807240"/>
          </a:xfrm>
          <a:prstGeom prst="rect">
            <a:avLst/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Velocidad Pendiente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¡Geometría a su servicio!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"/>
          <p:cNvSpPr/>
          <p:nvPr/>
        </p:nvSpPr>
        <p:spPr>
          <a:xfrm>
            <a:off x="223560" y="714240"/>
            <a:ext cx="285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erivada como pendiente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503520" y="2928960"/>
            <a:ext cx="4680000" cy="3095640"/>
            <a:chOff x="3503520" y="2928960"/>
            <a:chExt cx="4680000" cy="3095640"/>
          </a:xfrm>
        </p:grpSpPr>
        <p:sp>
          <p:nvSpPr>
            <p:cNvPr id="764" name=""/>
            <p:cNvSpPr/>
            <p:nvPr/>
          </p:nvSpPr>
          <p:spPr>
            <a:xfrm>
              <a:off x="4006800" y="2928960"/>
              <a:ext cx="1440" cy="3095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3520" y="5592960"/>
              <a:ext cx="4680000" cy="14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11520" y="3360600"/>
            <a:ext cx="3240360" cy="1803600"/>
          </a:xfrm>
          <a:custGeom>
            <a:avLst/>
            <a:gdLst/>
            <a:ahLst/>
            <a:rect l="l" t="t" r="r" b="b"/>
            <a:pathLst>
              <a:path w="21600" h="20951">
                <a:moveTo>
                  <a:pt x="0" y="20070"/>
                </a:moveTo>
                <a:cubicBezTo>
                  <a:pt x="4191" y="20826"/>
                  <a:pt x="8392" y="21600"/>
                  <a:pt x="11514" y="20070"/>
                </a:cubicBezTo>
                <a:cubicBezTo>
                  <a:pt x="14636" y="18541"/>
                  <a:pt x="17039" y="14210"/>
                  <a:pt x="18721" y="10874"/>
                </a:cubicBezTo>
                <a:cubicBezTo>
                  <a:pt x="20404" y="7538"/>
                  <a:pt x="20997" y="3760"/>
                  <a:pt x="2160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7" name=""/>
          <p:cNvSpPr/>
          <p:nvPr/>
        </p:nvSpPr>
        <p:spPr>
          <a:xfrm>
            <a:off x="6022800" y="5045040"/>
            <a:ext cx="14472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8" name=""/>
          <p:cNvSpPr/>
          <p:nvPr/>
        </p:nvSpPr>
        <p:spPr>
          <a:xfrm>
            <a:off x="7564320" y="3648240"/>
            <a:ext cx="14472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735520" y="3288960"/>
            <a:ext cx="2376720" cy="2158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908320" y="5160960"/>
            <a:ext cx="370440" cy="856800"/>
            <a:chOff x="5908320" y="5160960"/>
            <a:chExt cx="370440" cy="856800"/>
          </a:xfrm>
        </p:grpSpPr>
        <p:sp>
          <p:nvSpPr>
            <p:cNvPr id="771" name=""/>
            <p:cNvSpPr/>
            <p:nvPr/>
          </p:nvSpPr>
          <p:spPr>
            <a:xfrm>
              <a:off x="5908320" y="5483160"/>
              <a:ext cx="3704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t</a:t>
              </a:r>
              <a:r>
                <a:rPr b="0" lang="en-US" sz="3300" spc="-1" strike="noStrike" baseline="-16000">
                  <a:solidFill>
                    <a:srgbClr val="ffffff"/>
                  </a:solidFill>
                  <a:latin typeface="Lucida Grande"/>
                  <a:ea typeface="Lucida Grande"/>
                </a:rPr>
                <a:t>1</a:t>
              </a:r>
              <a:endParaRPr b="0" lang="en-US" sz="33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96240" y="5160960"/>
              <a:ext cx="1440" cy="36036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611480" y="3720960"/>
            <a:ext cx="370440" cy="2339640"/>
            <a:chOff x="7611480" y="3720960"/>
            <a:chExt cx="370440" cy="2339640"/>
          </a:xfrm>
        </p:grpSpPr>
        <p:sp>
          <p:nvSpPr>
            <p:cNvPr id="774" name=""/>
            <p:cNvSpPr/>
            <p:nvPr/>
          </p:nvSpPr>
          <p:spPr>
            <a:xfrm>
              <a:off x="7611480" y="5526000"/>
              <a:ext cx="3704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t</a:t>
              </a:r>
              <a:r>
                <a:rPr b="0" lang="en-US" sz="3300" spc="-1" strike="noStrike" baseline="-16000">
                  <a:solidFill>
                    <a:srgbClr val="ffffff"/>
                  </a:solidFill>
                  <a:latin typeface="Lucida Grande"/>
                  <a:ea typeface="Lucida Grande"/>
                </a:rPr>
                <a:t>2</a:t>
              </a:r>
              <a:endParaRPr b="0" lang="en-US" sz="33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50000" y="3720960"/>
              <a:ext cx="1440" cy="180036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435840" y="4906800"/>
            <a:ext cx="2629800" cy="534600"/>
            <a:chOff x="3435840" y="4906800"/>
            <a:chExt cx="2629800" cy="534600"/>
          </a:xfrm>
        </p:grpSpPr>
        <p:sp>
          <p:nvSpPr>
            <p:cNvPr id="777" name=""/>
            <p:cNvSpPr/>
            <p:nvPr/>
          </p:nvSpPr>
          <p:spPr>
            <a:xfrm>
              <a:off x="3435840" y="4906800"/>
              <a:ext cx="46512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X</a:t>
              </a:r>
              <a:r>
                <a:rPr b="0" lang="en-US" sz="3300" spc="-1" strike="noStrike" baseline="-16000">
                  <a:solidFill>
                    <a:srgbClr val="ffffff"/>
                  </a:solidFill>
                  <a:latin typeface="Lucida Grande"/>
                  <a:ea typeface="Lucida Grande"/>
                </a:rPr>
                <a:t>1</a:t>
              </a:r>
              <a:endParaRPr b="0" lang="en-US" sz="33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3978360" y="5132160"/>
              <a:ext cx="2087280" cy="180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507480" y="3467160"/>
            <a:ext cx="4098960" cy="534600"/>
            <a:chOff x="3507480" y="3467160"/>
            <a:chExt cx="4098960" cy="534600"/>
          </a:xfrm>
        </p:grpSpPr>
        <p:sp>
          <p:nvSpPr>
            <p:cNvPr id="780" name=""/>
            <p:cNvSpPr/>
            <p:nvPr/>
          </p:nvSpPr>
          <p:spPr>
            <a:xfrm>
              <a:off x="3507480" y="3467160"/>
              <a:ext cx="46512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X</a:t>
              </a:r>
              <a:r>
                <a:rPr b="0" lang="en-US" sz="3300" spc="-1" strike="noStrike" baseline="-16000">
                  <a:solidFill>
                    <a:srgbClr val="ffffff"/>
                  </a:solidFill>
                  <a:latin typeface="Lucida Grande"/>
                  <a:ea typeface="Lucida Grande"/>
                </a:rPr>
                <a:t>2</a:t>
              </a:r>
              <a:endParaRPr b="0" lang="en-US" sz="33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006080" y="3721320"/>
              <a:ext cx="360036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197760" y="4462560"/>
            <a:ext cx="1150920" cy="769320"/>
            <a:chOff x="6197760" y="4462560"/>
            <a:chExt cx="1150920" cy="769320"/>
          </a:xfrm>
        </p:grpSpPr>
        <p:sp>
          <p:nvSpPr>
            <p:cNvPr id="783" name=""/>
            <p:cNvSpPr/>
            <p:nvPr/>
          </p:nvSpPr>
          <p:spPr>
            <a:xfrm>
              <a:off x="6701040" y="4749480"/>
              <a:ext cx="34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θ</a:t>
              </a:r>
              <a:endParaRPr b="0" lang="en-US" sz="30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97760" y="5109840"/>
              <a:ext cx="1150920" cy="14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45400" y="4462560"/>
              <a:ext cx="314280" cy="647280"/>
            </a:xfrm>
            <a:custGeom>
              <a:avLst/>
              <a:gdLst/>
              <a:ahLst/>
              <a:rect l="l" t="t" r="r" b="b"/>
              <a:pathLst>
                <a:path w="20302" h="21600">
                  <a:moveTo>
                    <a:pt x="18529" y="21600"/>
                  </a:moveTo>
                  <a:cubicBezTo>
                    <a:pt x="20064" y="18582"/>
                    <a:pt x="21600" y="15565"/>
                    <a:pt x="18529" y="11965"/>
                  </a:cubicBezTo>
                  <a:cubicBezTo>
                    <a:pt x="15458" y="8365"/>
                    <a:pt x="7678" y="4182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950800" y="3749760"/>
            <a:ext cx="2087640" cy="180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8381880" y="2577960"/>
            <a:ext cx="5118120" cy="15494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"/>
          <a:stretch/>
        </p:blipFill>
        <p:spPr>
          <a:xfrm>
            <a:off x="7556400" y="7213680"/>
            <a:ext cx="623592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Aquiles y la tortuga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Usando gráficos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628360" y="3619080"/>
            <a:ext cx="7886520" cy="1600200"/>
          </a:xfrm>
          <a:prstGeom prst="line">
            <a:avLst/>
          </a:prstGeom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590920" y="2766960"/>
            <a:ext cx="7516800" cy="5727600"/>
          </a:xfrm>
          <a:prstGeom prst="line">
            <a:avLst/>
          </a:prstGeom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3" name=""/>
          <p:cNvSpPr/>
          <p:nvPr/>
        </p:nvSpPr>
        <p:spPr>
          <a:xfrm>
            <a:off x="2654280" y="4051440"/>
            <a:ext cx="5778360" cy="44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5851"/>
                </a:lnTo>
                <a:lnTo>
                  <a:pt x="21600" y="0"/>
                </a:lnTo>
                <a:lnTo>
                  <a:pt x="522" y="2104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gradFill rotWithShape="0">
            <a:gsLst>
              <a:gs pos="0">
                <a:srgbClr val="c4c3f7"/>
              </a:gs>
              <a:gs pos="100000">
                <a:srgbClr val="5b5c64"/>
              </a:gs>
            </a:gsLst>
            <a:lin ang="15660000"/>
          </a:gradFill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66760" y="393840"/>
            <a:ext cx="10845720" cy="1663560"/>
            <a:chOff x="266760" y="393840"/>
            <a:chExt cx="10845720" cy="1663560"/>
          </a:xfrm>
        </p:grpSpPr>
        <p:sp>
          <p:nvSpPr>
            <p:cNvPr id="795" name=""/>
            <p:cNvSpPr/>
            <p:nvPr/>
          </p:nvSpPr>
          <p:spPr>
            <a:xfrm>
              <a:off x="8966160" y="787320"/>
              <a:ext cx="2146320" cy="1270080"/>
            </a:xfrm>
            <a:prstGeom prst="wedgeEllipseCallout">
              <a:avLst>
                <a:gd name="adj1" fmla="val -72486"/>
                <a:gd name="adj2" fmla="val 204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2"/>
            <a:srcRect l="52835" t="70965" r="38692" b="19967"/>
            <a:stretch/>
          </p:blipFill>
          <p:spPr>
            <a:xfrm>
              <a:off x="266760" y="393840"/>
              <a:ext cx="166356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9118440" y="1143000"/>
              <a:ext cx="1803600" cy="595080"/>
            </a:xfrm>
            <a:prstGeom prst="line">
              <a:avLst/>
            </a:prstGeom>
            <a:ln w="63360">
              <a:solidFill>
                <a:srgbClr val="ff1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9258120" y="1117080"/>
              <a:ext cx="1702080" cy="698760"/>
            </a:xfrm>
            <a:prstGeom prst="line">
              <a:avLst/>
            </a:prstGeom>
            <a:ln w="50760">
              <a:solidFill>
                <a:srgbClr val="ff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986120" y="4013280"/>
            <a:ext cx="6590520" cy="5437080"/>
            <a:chOff x="1986120" y="4013280"/>
            <a:chExt cx="6590520" cy="5437080"/>
          </a:xfrm>
        </p:grpSpPr>
        <p:sp>
          <p:nvSpPr>
            <p:cNvPr id="800" name=""/>
            <p:cNvSpPr/>
            <p:nvPr/>
          </p:nvSpPr>
          <p:spPr>
            <a:xfrm>
              <a:off x="8318520" y="8596440"/>
              <a:ext cx="2581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t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86120" y="6145200"/>
              <a:ext cx="3740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L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457840" y="4013280"/>
              <a:ext cx="12960" cy="4444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78000" y="2344680"/>
            <a:ext cx="12418920" cy="6559200"/>
            <a:chOff x="378000" y="2344680"/>
            <a:chExt cx="12418920" cy="6559200"/>
          </a:xfrm>
        </p:grpSpPr>
        <p:sp>
          <p:nvSpPr>
            <p:cNvPr id="804" name=""/>
            <p:cNvSpPr/>
            <p:nvPr/>
          </p:nvSpPr>
          <p:spPr>
            <a:xfrm>
              <a:off x="2640240" y="3924360"/>
              <a:ext cx="25200" cy="4584600"/>
            </a:xfrm>
            <a:prstGeom prst="line">
              <a:avLst/>
            </a:prstGeom>
            <a:ln w="127080">
              <a:solidFill>
                <a:srgbClr val="414141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14320" y="8470800"/>
              <a:ext cx="7836120" cy="0"/>
            </a:xfrm>
            <a:prstGeom prst="line">
              <a:avLst/>
            </a:prstGeom>
            <a:ln w="127080">
              <a:solidFill>
                <a:srgbClr val="414141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pic>
          <p:nvPicPr>
            <p:cNvPr id="806" name="" descr=""/>
            <p:cNvPicPr/>
            <p:nvPr/>
          </p:nvPicPr>
          <p:blipFill>
            <a:blip r:embed="rId3"/>
            <a:srcRect l="188" t="4952" r="75976" b="21490"/>
            <a:stretch/>
          </p:blipFill>
          <p:spPr>
            <a:xfrm>
              <a:off x="378000" y="5376960"/>
              <a:ext cx="83808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4"/>
            <a:srcRect l="52835" t="70965" r="38692" b="19967"/>
            <a:stretch/>
          </p:blipFill>
          <p:spPr>
            <a:xfrm>
              <a:off x="378000" y="2344680"/>
              <a:ext cx="83808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10420200" y="8049960"/>
              <a:ext cx="237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tiempo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57320" y="2690640"/>
              <a:ext cx="27896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posición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Geometría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usando lo aprendid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2" name=""/>
          <p:cNvSpPr/>
          <p:nvPr/>
        </p:nvSpPr>
        <p:spPr>
          <a:xfrm>
            <a:off x="6235560" y="2654280"/>
            <a:ext cx="5778720" cy="44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5851"/>
                </a:lnTo>
                <a:lnTo>
                  <a:pt x="21600" y="0"/>
                </a:lnTo>
                <a:lnTo>
                  <a:pt x="522" y="2104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gradFill rotWithShape="0">
            <a:gsLst>
              <a:gs pos="0">
                <a:srgbClr val="c4c3f7"/>
              </a:gs>
              <a:gs pos="100000">
                <a:srgbClr val="5b5c64"/>
              </a:gs>
            </a:gsLst>
            <a:lin ang="15660000"/>
          </a:gradFill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3" name=""/>
          <p:cNvSpPr/>
          <p:nvPr/>
        </p:nvSpPr>
        <p:spPr>
          <a:xfrm>
            <a:off x="5808960" y="4798800"/>
            <a:ext cx="374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222960" y="2654280"/>
            <a:ext cx="5791320" cy="1244520"/>
            <a:chOff x="6222960" y="2654280"/>
            <a:chExt cx="5791320" cy="1244520"/>
          </a:xfrm>
        </p:grpSpPr>
        <p:sp>
          <p:nvSpPr>
            <p:cNvPr id="815" name=""/>
            <p:cNvSpPr/>
            <p:nvPr/>
          </p:nvSpPr>
          <p:spPr>
            <a:xfrm>
              <a:off x="6222960" y="2654280"/>
              <a:ext cx="5791320" cy="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235560" y="2666880"/>
              <a:ext cx="12960" cy="1231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261120" y="3860640"/>
            <a:ext cx="6438960" cy="0"/>
          </a:xfrm>
          <a:prstGeom prst="line">
            <a:avLst/>
          </a:prstGeom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8" name=""/>
          <p:cNvSpPr/>
          <p:nvPr/>
        </p:nvSpPr>
        <p:spPr>
          <a:xfrm>
            <a:off x="6235560" y="7048440"/>
            <a:ext cx="6438960" cy="0"/>
          </a:xfrm>
          <a:prstGeom prst="line">
            <a:avLst/>
          </a:prstGeom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6845400" y="6546960"/>
            <a:ext cx="253800" cy="39996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8724960" y="3308400"/>
            <a:ext cx="342720" cy="5652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8775360" y="1751040"/>
            <a:ext cx="25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04640" y="9563040"/>
            <a:ext cx="5640480" cy="0"/>
          </a:xfrm>
          <a:prstGeom prst="line">
            <a:avLst/>
          </a:prstGeom>
          <a:ln w="152280">
            <a:solidFill>
              <a:srgbClr val="da16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"/>
          <p:cNvSpPr/>
          <p:nvPr/>
        </p:nvSpPr>
        <p:spPr>
          <a:xfrm>
            <a:off x="6032520" y="9563040"/>
            <a:ext cx="2324160" cy="0"/>
          </a:xfrm>
          <a:prstGeom prst="line">
            <a:avLst/>
          </a:prstGeom>
          <a:ln w="152280">
            <a:solidFill>
              <a:srgbClr val="4650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"/>
          <p:cNvSpPr/>
          <p:nvPr/>
        </p:nvSpPr>
        <p:spPr>
          <a:xfrm>
            <a:off x="8229600" y="9563040"/>
            <a:ext cx="1701720" cy="12600"/>
          </a:xfrm>
          <a:prstGeom prst="line">
            <a:avLst/>
          </a:prstGeom>
          <a:ln w="152280">
            <a:solidFill>
              <a:srgbClr val="28d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"/>
          <p:cNvSpPr/>
          <p:nvPr/>
        </p:nvSpPr>
        <p:spPr>
          <a:xfrm>
            <a:off x="9766440" y="9574200"/>
            <a:ext cx="939600" cy="0"/>
          </a:xfrm>
          <a:prstGeom prst="line">
            <a:avLst/>
          </a:prstGeom>
          <a:ln w="152280">
            <a:solidFill>
              <a:srgbClr val="eee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"/>
          <p:cNvSpPr/>
          <p:nvPr/>
        </p:nvSpPr>
        <p:spPr>
          <a:xfrm>
            <a:off x="10718640" y="9575640"/>
            <a:ext cx="406440" cy="0"/>
          </a:xfrm>
          <a:prstGeom prst="line">
            <a:avLst/>
          </a:prstGeom>
          <a:ln w="152280">
            <a:solidFill>
              <a:srgbClr val="da5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"/>
          <p:cNvSpPr/>
          <p:nvPr/>
        </p:nvSpPr>
        <p:spPr>
          <a:xfrm>
            <a:off x="11125080" y="9575640"/>
            <a:ext cx="177840" cy="0"/>
          </a:xfrm>
          <a:prstGeom prst="line">
            <a:avLst/>
          </a:prstGeom>
          <a:ln w="152280">
            <a:solidFill>
              <a:srgbClr val="48f5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rcRect l="52835" t="70965" r="38692" b="19967"/>
          <a:stretch/>
        </p:blipFill>
        <p:spPr>
          <a:xfrm>
            <a:off x="5511960" y="8636040"/>
            <a:ext cx="1069920" cy="3938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rcRect l="188" t="4952" r="75976" b="21490"/>
          <a:stretch/>
        </p:blipFill>
        <p:spPr>
          <a:xfrm>
            <a:off x="0" y="7670880"/>
            <a:ext cx="1282680" cy="1359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 flipV="1">
            <a:off x="11880" y="9016920"/>
            <a:ext cx="18212040" cy="12960"/>
          </a:xfrm>
          <a:prstGeom prst="line">
            <a:avLst/>
          </a:prstGeom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4"/>
          <a:stretch/>
        </p:blipFill>
        <p:spPr>
          <a:xfrm>
            <a:off x="15732000" y="12600"/>
            <a:ext cx="2556000" cy="43941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-34920" y="12600"/>
            <a:ext cx="8609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radoja de Zenon de Elea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13528440" cy="3255840"/>
            <a:chOff x="0" y="0"/>
            <a:chExt cx="13528440" cy="3255840"/>
          </a:xfrm>
        </p:grpSpPr>
        <p:pic>
          <p:nvPicPr>
            <p:cNvPr id="688" name="" descr=""/>
            <p:cNvPicPr/>
            <p:nvPr/>
          </p:nvPicPr>
          <p:blipFill>
            <a:blip r:embed="rId5"/>
            <a:srcRect l="188" t="4952" r="75976" b="21490"/>
            <a:stretch/>
          </p:blipFill>
          <p:spPr>
            <a:xfrm>
              <a:off x="0" y="0"/>
              <a:ext cx="30733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908440" y="1927440"/>
              <a:ext cx="106200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Aquiles: el más rápido de grecia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0" y="0"/>
            <a:ext cx="14050080" cy="6643440"/>
            <a:chOff x="0" y="0"/>
            <a:chExt cx="14050080" cy="6643440"/>
          </a:xfrm>
        </p:grpSpPr>
        <p:pic>
          <p:nvPicPr>
            <p:cNvPr id="691" name="" descr=""/>
            <p:cNvPicPr/>
            <p:nvPr/>
          </p:nvPicPr>
          <p:blipFill>
            <a:blip r:embed="rId6"/>
            <a:srcRect l="52835" t="70965" r="38692" b="19967"/>
            <a:stretch/>
          </p:blipFill>
          <p:spPr>
            <a:xfrm>
              <a:off x="0" y="0"/>
              <a:ext cx="25560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035840" y="5789520"/>
              <a:ext cx="70142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Tortuga: una tortuga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1440" y="10179000"/>
            <a:ext cx="525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quiles necesita infinitos pasos para llegar a la tortuga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4" name=""/>
          <p:cNvSpPr/>
          <p:nvPr/>
        </p:nvSpPr>
        <p:spPr>
          <a:xfrm>
            <a:off x="8851320" y="10976400"/>
            <a:ext cx="101138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rgo, el movimiento no existe,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s una ilusión</a:t>
            </a:r>
            <a:endParaRPr b="0" lang="en-US" sz="5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rcRect l="0" t="205" r="0" b="144"/>
          <a:stretch/>
        </p:blipFill>
        <p:spPr>
          <a:xfrm>
            <a:off x="3670200" y="2273400"/>
            <a:ext cx="10953720" cy="618156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Idea loca pero...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11340720"/>
            <a:ext cx="1728468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incorrecta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00" name="intro-cinematica.ppt_media/Animexample-1.mov" descr=""/>
          <p:cNvPicPr/>
          <p:nvPr/>
        </p:nvPicPr>
        <p:blipFill>
          <a:blip r:embed="rId2"/>
          <a:stretch/>
        </p:blipFill>
        <p:spPr>
          <a:xfrm>
            <a:off x="4991040" y="3263760"/>
            <a:ext cx="2108160" cy="2108520"/>
          </a:xfrm>
          <a:prstGeom prst="rect">
            <a:avLst/>
          </a:prstGeom>
          <a:ln w="0">
            <a:noFill/>
          </a:ln>
        </p:spPr>
      </p:pic>
      <p:pic>
        <p:nvPicPr>
          <p:cNvPr id="701" name="intro-cinematica.ppt_media/Animhorse-1.mov" descr=""/>
          <p:cNvPicPr/>
          <p:nvPr/>
        </p:nvPicPr>
        <p:blipFill>
          <a:blip r:embed="rId3"/>
          <a:stretch/>
        </p:blipFill>
        <p:spPr>
          <a:xfrm>
            <a:off x="14084280" y="4546440"/>
            <a:ext cx="3898800" cy="2921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266760" y="2959200"/>
            <a:ext cx="330192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241200" y="127080"/>
            <a:ext cx="7023240" cy="22352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11252160" y="914400"/>
            <a:ext cx="3251160" cy="660240"/>
          </a:xfrm>
          <a:prstGeom prst="rect">
            <a:avLst/>
          </a:prstGeom>
          <a:ln w="0">
            <a:noFill/>
          </a:ln>
        </p:spPr>
      </p:pic>
      <p:grpSp>
        <p:nvGrpSpPr>
          <p:cNvPr id="705" name=""/>
          <p:cNvGrpSpPr/>
          <p:nvPr/>
        </p:nvGrpSpPr>
        <p:grpSpPr>
          <a:xfrm>
            <a:off x="-187920" y="190440"/>
            <a:ext cx="10284840" cy="3786120"/>
            <a:chOff x="-187920" y="190440"/>
            <a:chExt cx="10284840" cy="3786120"/>
          </a:xfrm>
        </p:grpSpPr>
        <p:sp>
          <p:nvSpPr>
            <p:cNvPr id="706" name=""/>
            <p:cNvSpPr/>
            <p:nvPr/>
          </p:nvSpPr>
          <p:spPr>
            <a:xfrm>
              <a:off x="-187920" y="3122640"/>
              <a:ext cx="102848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414141"/>
                  </a:solidFill>
                  <a:latin typeface="Gill Sans Light"/>
                  <a:ea typeface="Gill Sans Light"/>
                </a:rPr>
                <a:t>Si estan a una distancia inicial: </a:t>
              </a:r>
              <a:endParaRPr b="0" lang="en-US" sz="5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8632800" y="190440"/>
              <a:ext cx="5079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927000" y="4267080"/>
            <a:ext cx="2730600" cy="168912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6"/>
          <a:stretch/>
        </p:blipFill>
        <p:spPr>
          <a:xfrm>
            <a:off x="7797960" y="3746520"/>
            <a:ext cx="9397800" cy="16891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7"/>
          <a:stretch/>
        </p:blipFill>
        <p:spPr>
          <a:xfrm>
            <a:off x="266760" y="6388200"/>
            <a:ext cx="6121440" cy="16891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8"/>
          <a:stretch/>
        </p:blipFill>
        <p:spPr>
          <a:xfrm>
            <a:off x="8115480" y="5702400"/>
            <a:ext cx="3408120" cy="90144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9"/>
          <a:stretch/>
        </p:blipFill>
        <p:spPr>
          <a:xfrm>
            <a:off x="8242200" y="7149960"/>
            <a:ext cx="3073680" cy="8002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10"/>
          <a:stretch/>
        </p:blipFill>
        <p:spPr>
          <a:xfrm>
            <a:off x="8242200" y="8305920"/>
            <a:ext cx="2933640" cy="774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11"/>
          <a:stretch/>
        </p:blipFill>
        <p:spPr>
          <a:xfrm>
            <a:off x="3263760" y="10147320"/>
            <a:ext cx="1201428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2781360" y="101520"/>
            <a:ext cx="13296960" cy="8762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1714680" y="3251160"/>
            <a:ext cx="547344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Gráficos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Representación del movimient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469800" y="1828800"/>
          <a:ext cx="7010280" cy="7543800"/>
        </p:xfrm>
        <a:graphic>
          <a:graphicData uri="http://schemas.openxmlformats.org/drawingml/2006/table">
            <a:tbl>
              <a:tblPr/>
              <a:tblGrid>
                <a:gridCol w="3505320"/>
                <a:gridCol w="350496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tiempo [s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posición [m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5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6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7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4724280" y="1009800"/>
            <a:ext cx="17284680" cy="87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Gráficos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Representación del movimient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69800" y="1828800"/>
          <a:ext cx="7010280" cy="7543800"/>
        </p:xfrm>
        <a:graphic>
          <a:graphicData uri="http://schemas.openxmlformats.org/drawingml/2006/table">
            <a:tbl>
              <a:tblPr/>
              <a:tblGrid>
                <a:gridCol w="3505320"/>
                <a:gridCol w="350496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tiempo [s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posición [m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5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6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7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4724280" y="1009800"/>
            <a:ext cx="17284680" cy="87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9600840"/>
            <a:ext cx="172846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414141"/>
                </a:solidFill>
                <a:latin typeface="Gill Sans Light"/>
              </a:rPr>
              <a:t>Gráficos</a:t>
            </a:r>
            <a:endParaRPr b="0" lang="en-US" sz="9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000" y="11353680"/>
            <a:ext cx="172846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</a:rPr>
              <a:t>Representación del movimient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03040" y="1943280"/>
          <a:ext cx="7010280" cy="7543800"/>
        </p:xfrm>
        <a:graphic>
          <a:graphicData uri="http://schemas.openxmlformats.org/drawingml/2006/table">
            <a:tbl>
              <a:tblPr/>
              <a:tblGrid>
                <a:gridCol w="3505320"/>
                <a:gridCol w="350496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tiempo [s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posición [m]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0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5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4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6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7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4d6165"/>
                          </a:solidFill>
                          <a:latin typeface="Gill Sans Light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470480" y="1123920"/>
            <a:ext cx="17284680" cy="883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