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3AB3-5F8B-4A83-A1FD-43140E92D7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5703-FD0F-4A29-B14D-1903E06737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784A-AFA9-4485-945A-29060C708A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D67C-7247-40CA-8D8D-0ED57EA601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1DB-36E8-441B-8E9C-1C707D4C76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3B9C-22F2-49A4-A222-C1EAC36487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EE50-B83C-4F08-B4F1-F78091B538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3DB8-59F2-4561-929B-FB963A2146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FCB-555F-4E95-8506-6754DC6F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A47-7BC2-41DE-86A4-445BACC6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2C1-3E99-4FAB-BE1B-E483272C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B71-72F2-40BB-81D1-AECD9773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A14-A146-42A8-BA4E-9F5B230F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C14-33AD-4A41-B76C-FA9B52E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FD5-861E-477D-9EF5-10D6CEA4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006-EFA4-4C84-BAD8-D9161A7C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F56-4A28-4E8B-AA08-B359D13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911-36C6-406A-BD4E-0F79A9E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8A3-1163-463D-B0B1-AC314AA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ED9-BE26-4F40-83FD-448D86E1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13AE-6F91-45CF-88BE-21BF36422D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4942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9 CuadroTexto"/>
          <p:cNvSpPr/>
          <p:nvPr/>
        </p:nvSpPr>
        <p:spPr>
          <a:xfrm>
            <a:off x="4572000" y="1143000"/>
            <a:ext cx="157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 del Problema 1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l control 3 –Julio10- 2010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 rot="4686000">
            <a:off x="4252680" y="3247920"/>
            <a:ext cx="563868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12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4675320" y="428616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4818240" y="578628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57" name="16 Conector recto de flecha"/>
          <p:cNvCxnSpPr>
            <a:stCxn id="54" idx="1"/>
          </p:cNvCxnSpPr>
          <p:nvPr/>
        </p:nvCxnSpPr>
        <p:spPr>
          <a:xfrm flipH="1" flipV="1">
            <a:off x="4285440" y="3499560"/>
            <a:ext cx="533160" cy="11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" name="18 Conector recto de flecha"/>
          <p:cNvCxnSpPr>
            <a:stCxn id="55" idx="1"/>
          </p:cNvCxnSpPr>
          <p:nvPr/>
        </p:nvCxnSpPr>
        <p:spPr>
          <a:xfrm flipH="1" flipV="1">
            <a:off x="3928680" y="4428360"/>
            <a:ext cx="747000" cy="11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" name="20 Conector recto de flecha"/>
          <p:cNvCxnSpPr>
            <a:stCxn id="56" idx="1"/>
          </p:cNvCxnSpPr>
          <p:nvPr/>
        </p:nvCxnSpPr>
        <p:spPr>
          <a:xfrm flipH="1" flipV="1">
            <a:off x="3928320" y="5714640"/>
            <a:ext cx="890280" cy="225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60" name="Picture 15" descr=""/>
          <p:cNvPicPr/>
          <p:nvPr/>
        </p:nvPicPr>
        <p:blipFill>
          <a:blip r:embed="rId3"/>
          <a:stretch/>
        </p:blipFill>
        <p:spPr>
          <a:xfrm>
            <a:off x="333360" y="1071720"/>
            <a:ext cx="4048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7440480" cy="173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913040" y="2962440"/>
            <a:ext cx="37447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Nelson Zamorano\Escritorio\2.JPG"/>
          <p:cNvPicPr/>
          <p:nvPr/>
        </p:nvPicPr>
        <p:blipFill>
          <a:blip r:embed="rId2"/>
          <a:stretch/>
        </p:blipFill>
        <p:spPr>
          <a:xfrm>
            <a:off x="0" y="928800"/>
            <a:ext cx="4356000" cy="5857920"/>
          </a:xfrm>
          <a:prstGeom prst="rect">
            <a:avLst/>
          </a:prstGeom>
          <a:ln w="0">
            <a:noFill/>
          </a:ln>
        </p:spPr>
      </p:pic>
      <p:sp>
        <p:nvSpPr>
          <p:cNvPr id="71" name="8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72" name="10 Conector recto de flecha"/>
          <p:cNvCxnSpPr>
            <a:stCxn id="71" idx="1"/>
          </p:cNvCxnSpPr>
          <p:nvPr/>
        </p:nvCxnSpPr>
        <p:spPr>
          <a:xfrm flipH="1" flipV="1">
            <a:off x="4214160" y="3428280"/>
            <a:ext cx="57204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7150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10" descr="C:\Documents and Settings\Nelson Zamorano\Escritorio\pautaP-2.JPG"/>
          <p:cNvPicPr/>
          <p:nvPr/>
        </p:nvPicPr>
        <p:blipFill>
          <a:blip r:embed="rId2"/>
          <a:stretch/>
        </p:blipFill>
        <p:spPr>
          <a:xfrm>
            <a:off x="285840" y="1071720"/>
            <a:ext cx="4133880" cy="5610240"/>
          </a:xfrm>
          <a:prstGeom prst="rect">
            <a:avLst/>
          </a:prstGeom>
          <a:ln w="0">
            <a:noFill/>
          </a:ln>
        </p:spPr>
      </p:pic>
      <p:sp>
        <p:nvSpPr>
          <p:cNvPr id="79" name="11 CuadroTexto"/>
          <p:cNvSpPr/>
          <p:nvPr/>
        </p:nvSpPr>
        <p:spPr>
          <a:xfrm>
            <a:off x="4826520" y="3357720"/>
            <a:ext cx="138168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uatro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133200" y="1643040"/>
            <a:ext cx="8867880" cy="131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14760" y="3095640"/>
            <a:ext cx="4357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Nelson Zamorano\Escritorio\4.JPG"/>
          <p:cNvPicPr/>
          <p:nvPr/>
        </p:nvPicPr>
        <p:blipFill>
          <a:blip r:embed="rId2"/>
          <a:stretch/>
        </p:blipFill>
        <p:spPr>
          <a:xfrm>
            <a:off x="57240" y="1000080"/>
            <a:ext cx="4514760" cy="58374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4815720" y="3357720"/>
            <a:ext cx="117144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Tre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10 CuadroTexto"/>
          <p:cNvSpPr/>
          <p:nvPr/>
        </p:nvSpPr>
        <p:spPr>
          <a:xfrm>
            <a:off x="4950360" y="1428840"/>
            <a:ext cx="9687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 punt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Nelson Zamorano\Escritorio\5.JPG"/>
          <p:cNvPicPr/>
          <p:nvPr/>
        </p:nvPicPr>
        <p:blipFill>
          <a:blip r:embed="rId2"/>
          <a:stretch/>
        </p:blipFill>
        <p:spPr>
          <a:xfrm>
            <a:off x="285840" y="1143000"/>
            <a:ext cx="4186080" cy="5357880"/>
          </a:xfrm>
          <a:prstGeom prst="rect">
            <a:avLst/>
          </a:prstGeom>
          <a:ln w="0">
            <a:noFill/>
          </a:ln>
        </p:spPr>
      </p:pic>
      <p:sp>
        <p:nvSpPr>
          <p:cNvPr id="97" name="7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7-12T20:08:31Z</dcterms:modified>
  <cp:revision>110</cp:revision>
  <dc:subject/>
  <dc:title>Introducción a la Física Newtoniana </dc:title>
</cp:coreProperties>
</file>