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678-5EB8-40F3-8FF4-96DCF9F144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540-051F-4E6D-BA6D-86C41E7049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278-2C1D-4AA5-85DB-83F3C80657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E9D-FD2E-4C27-9F9E-6AAEF0800F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0230-6AD3-4462-91C9-306A55C02D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EDE-E628-4FEB-B2BA-188F37BA77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5A2-0716-48E4-9965-194FA4F57C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BE34-E92F-4AC5-8E58-CF67743DC0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60F-C75F-41D0-A045-411DDE8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B20-968F-4272-BC5F-C3D903D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D84-7A83-49CC-B133-BBF777A2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7E8-123B-4CF7-B34A-1F36B595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41A-4DC6-4235-863F-2225D606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511-D42D-4F31-9A9B-E49BBBD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725-9832-46C5-8776-1CD4EA6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BD9-0398-4C2B-9A78-DB80C186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E01-3C80-465A-885E-00B7583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83A-05FC-4A4C-9A0B-9C7434D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038-9B6D-498F-813A-64B9B6C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A02-862D-442C-B999-824A918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64B-3A6E-4B3C-885D-EB3BFA9716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494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9 CuadroTexto"/>
          <p:cNvSpPr/>
          <p:nvPr/>
        </p:nvSpPr>
        <p:spPr>
          <a:xfrm>
            <a:off x="4572000" y="114300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3 –Julio10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 rot="4686000">
            <a:off x="4252680" y="3247920"/>
            <a:ext cx="563868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12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4675320" y="428616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4818240" y="578628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57" name="16 Conector recto de flecha"/>
          <p:cNvCxnSpPr>
            <a:stCxn id="54" idx="1"/>
          </p:cNvCxnSpPr>
          <p:nvPr/>
        </p:nvCxnSpPr>
        <p:spPr>
          <a:xfrm flipH="1" flipV="1">
            <a:off x="4285440" y="3499560"/>
            <a:ext cx="533160" cy="11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" name="18 Conector recto de flecha"/>
          <p:cNvCxnSpPr>
            <a:stCxn id="55" idx="1"/>
          </p:cNvCxnSpPr>
          <p:nvPr/>
        </p:nvCxnSpPr>
        <p:spPr>
          <a:xfrm flipH="1" flipV="1">
            <a:off x="3928680" y="4428360"/>
            <a:ext cx="747000" cy="11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" name="20 Conector recto de flecha"/>
          <p:cNvCxnSpPr>
            <a:stCxn id="56" idx="1"/>
          </p:cNvCxnSpPr>
          <p:nvPr/>
        </p:nvCxnSpPr>
        <p:spPr>
          <a:xfrm flipH="1" flipV="1">
            <a:off x="3928320" y="5714640"/>
            <a:ext cx="890280" cy="225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60" name="Picture 15" descr=""/>
          <p:cNvPicPr/>
          <p:nvPr/>
        </p:nvPicPr>
        <p:blipFill>
          <a:blip r:embed="rId3"/>
          <a:stretch/>
        </p:blipFill>
        <p:spPr>
          <a:xfrm>
            <a:off x="333360" y="1071720"/>
            <a:ext cx="4048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7440480" cy="173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913040" y="2962440"/>
            <a:ext cx="3744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Nelson Zamorano\Escritorio\2.JPG"/>
          <p:cNvPicPr/>
          <p:nvPr/>
        </p:nvPicPr>
        <p:blipFill>
          <a:blip r:embed="rId2"/>
          <a:stretch/>
        </p:blipFill>
        <p:spPr>
          <a:xfrm>
            <a:off x="0" y="928800"/>
            <a:ext cx="435600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8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72" name="10 Conector recto de flecha"/>
          <p:cNvCxnSpPr>
            <a:stCxn id="71" idx="1"/>
          </p:cNvCxnSpPr>
          <p:nvPr/>
        </p:nvCxnSpPr>
        <p:spPr>
          <a:xfrm flipH="1" flipV="1">
            <a:off x="4214160" y="3428280"/>
            <a:ext cx="57204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10" descr="C:\Documents and Settings\Nelson Zamorano\Escritorio\pautaP-2.JPG"/>
          <p:cNvPicPr/>
          <p:nvPr/>
        </p:nvPicPr>
        <p:blipFill>
          <a:blip r:embed="rId2"/>
          <a:stretch/>
        </p:blipFill>
        <p:spPr>
          <a:xfrm>
            <a:off x="285840" y="1071720"/>
            <a:ext cx="413388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11 CuadroTexto"/>
          <p:cNvSpPr/>
          <p:nvPr/>
        </p:nvSpPr>
        <p:spPr>
          <a:xfrm>
            <a:off x="4826520" y="3357720"/>
            <a:ext cx="138168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uatro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133200" y="1643040"/>
            <a:ext cx="8867880" cy="13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14760" y="3095640"/>
            <a:ext cx="4357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Nelson Zamorano\Escritorio\4.JPG"/>
          <p:cNvPicPr/>
          <p:nvPr/>
        </p:nvPicPr>
        <p:blipFill>
          <a:blip r:embed="rId2"/>
          <a:stretch/>
        </p:blipFill>
        <p:spPr>
          <a:xfrm>
            <a:off x="57240" y="1000080"/>
            <a:ext cx="4514760" cy="5837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4815720" y="3357720"/>
            <a:ext cx="117144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re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10 CuadroTexto"/>
          <p:cNvSpPr/>
          <p:nvPr/>
        </p:nvSpPr>
        <p:spPr>
          <a:xfrm>
            <a:off x="4950360" y="1428840"/>
            <a:ext cx="9687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 pun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Nelson Zamorano\Escritorio\5.JPG"/>
          <p:cNvPicPr/>
          <p:nvPr/>
        </p:nvPicPr>
        <p:blipFill>
          <a:blip r:embed="rId2"/>
          <a:stretch/>
        </p:blipFill>
        <p:spPr>
          <a:xfrm>
            <a:off x="285840" y="1143000"/>
            <a:ext cx="4186080" cy="5357880"/>
          </a:xfrm>
          <a:prstGeom prst="rect">
            <a:avLst/>
          </a:prstGeom>
          <a:ln w="0">
            <a:noFill/>
          </a:ln>
        </p:spPr>
      </p:pic>
      <p:sp>
        <p:nvSpPr>
          <p:cNvPr id="97" name="7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12T20:08:31Z</dcterms:modified>
  <cp:revision>110</cp:revision>
  <dc:subject/>
  <dc:title>Introducción a la Física Newtoniana </dc:title>
</cp:coreProperties>
</file>