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9A8-2501-42BF-81B4-8FDB502C45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C28-1D36-42EF-8624-30DF572C05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873-CA7A-4C9E-B817-C422437464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0D11-B3FD-4D34-BE7F-232537152A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003-AEBC-46A8-81E4-A394E8B871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5C41-AFB5-4C12-BAAA-E7FDBD9163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635-1AEC-4BF9-9A0F-07FDF9AD53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7D2B-EF41-4C6C-A818-E35EA7BC2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672A-D527-47AE-BC41-7E0A4B955A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1FDD-D5F4-4149-BF04-29EA56966C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A6C7-DC0F-4174-A835-720F014070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FD6-BEF6-4295-80D3-8959996B2D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D15-F93F-4BC3-87A4-AF76B44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B6E-23C3-4CCC-914C-8463DF6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7AD-D81D-468D-9478-F5C7A21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90C-834F-47ED-9CDD-2288F62F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7D7-4345-48DE-8A99-60B114C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BCF-9770-4AC3-84DF-4CECBD5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C02-96C5-4AC3-94A2-BC5EEEB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7DE-53E6-4026-848C-0DF7815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453-1D87-4071-A879-1CAC668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F6D-26A7-4E67-9DF1-3B87E4DA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A7F-BF51-4407-ADA4-722C0E0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771-E579-4074-B180-346C195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3A9A-C14E-4E94-A8A4-D70C9D4906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59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4784760" y="2409840"/>
            <a:ext cx="428616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4857840" y="3490920"/>
            <a:ext cx="4143240" cy="2938320"/>
          </a:xfrm>
          <a:prstGeom prst="rect">
            <a:avLst/>
          </a:prstGeom>
          <a:ln w="0">
            <a:noFill/>
          </a:ln>
        </p:spPr>
      </p:pic>
      <p:sp>
        <p:nvSpPr>
          <p:cNvPr id="56" name="9 CuadroTexto"/>
          <p:cNvSpPr/>
          <p:nvPr/>
        </p:nvSpPr>
        <p:spPr>
          <a:xfrm>
            <a:off x="5091480" y="1785960"/>
            <a:ext cx="224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 del Problema 1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l control 2 -- 2010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136440" y="976320"/>
            <a:ext cx="42926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08080" y="1106640"/>
            <a:ext cx="4292640" cy="5608440"/>
          </a:xfrm>
          <a:prstGeom prst="rect">
            <a:avLst/>
          </a:prstGeom>
          <a:ln w="0">
            <a:noFill/>
          </a:ln>
        </p:spPr>
      </p:pic>
      <p:sp>
        <p:nvSpPr>
          <p:cNvPr id="63" name="7 CuadroTexto"/>
          <p:cNvSpPr/>
          <p:nvPr/>
        </p:nvSpPr>
        <p:spPr>
          <a:xfrm>
            <a:off x="5242320" y="2357280"/>
            <a:ext cx="3443760" cy="179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e es un problema de choques co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asa variable mas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e sugiere una variante al final de es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Otra variante de este problema es 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adena que aparece en la Guía 8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5357880" y="4429080"/>
            <a:ext cx="3000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7150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20908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04760" y="3643200"/>
            <a:ext cx="689616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9 CuadroTexto"/>
          <p:cNvSpPr/>
          <p:nvPr/>
        </p:nvSpPr>
        <p:spPr>
          <a:xfrm>
            <a:off x="7072200" y="4071960"/>
            <a:ext cx="185760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roblema que incluye conservación de energía y momentum,  concepto de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entro de masa y roce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08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500880" y="7142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1280" y="1357200"/>
            <a:ext cx="892980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4927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6927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36440" y="949320"/>
            <a:ext cx="45687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814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7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147600" y="1047600"/>
            <a:ext cx="428148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7-07T01:49:12Z</dcterms:modified>
  <cp:revision>105</cp:revision>
  <dc:subject/>
  <dc:title>Introducción a la Física Newtoniana </dc:title>
</cp:coreProperties>
</file>