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5BAE-089B-4454-AC1A-156E4B70AF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DEB7-9CA3-43B4-8010-817E80679B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5588-EC8F-47E4-8EB5-8AD96C9706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9DE-F437-4652-85A7-A54DAA3889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8D31-6D12-4480-B39D-8069ECEFE2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533D-78C6-4751-A8A7-9161FD6BF9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F22-DF54-4158-B162-EC1EA157A5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7CD-4E48-4A07-BA89-A9DADE5FF0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77BD-A807-497C-83CB-580AFD4DCB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B4E3-1ED4-4206-96BC-8147F8934D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E783-A9B3-4314-8B5E-4C90B32E63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7056-DFA7-462D-8AB9-09980C5B3C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239-19B7-4F55-85E1-2BEC2877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817-B67B-4098-8133-0A9C508B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177-1D36-4C5C-B5D4-A45CFC36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829-4230-4C18-A96F-2E612FD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D3E-E160-4899-9AD6-1975AEA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F52-1AFD-49F8-8D4A-0B53E65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94D-F1C2-44FC-B281-02E4373D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8FC-C119-4320-AFE0-3BBCDD02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4F1-79E5-4790-93C3-BD31C1D6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620-BE84-4324-AF73-F5E08EE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057-2F68-4F97-8346-BFE9615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21F-F2D2-4426-8EC4-27DFE4B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624-1D11-4267-9B39-1A365C926B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59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4784760" y="2409840"/>
            <a:ext cx="4286160" cy="87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4857840" y="3490920"/>
            <a:ext cx="4143240" cy="2938320"/>
          </a:xfrm>
          <a:prstGeom prst="rect">
            <a:avLst/>
          </a:prstGeom>
          <a:ln w="0">
            <a:noFill/>
          </a:ln>
        </p:spPr>
      </p:pic>
      <p:sp>
        <p:nvSpPr>
          <p:cNvPr id="56" name="9 CuadroTexto"/>
          <p:cNvSpPr/>
          <p:nvPr/>
        </p:nvSpPr>
        <p:spPr>
          <a:xfrm>
            <a:off x="5091480" y="1785960"/>
            <a:ext cx="224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2 -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136440" y="976320"/>
            <a:ext cx="42926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08080" y="1106640"/>
            <a:ext cx="4292640" cy="5608440"/>
          </a:xfrm>
          <a:prstGeom prst="rect">
            <a:avLst/>
          </a:prstGeom>
          <a:ln w="0">
            <a:noFill/>
          </a:ln>
        </p:spPr>
      </p:pic>
      <p:sp>
        <p:nvSpPr>
          <p:cNvPr id="63" name="7 CuadroTexto"/>
          <p:cNvSpPr/>
          <p:nvPr/>
        </p:nvSpPr>
        <p:spPr>
          <a:xfrm>
            <a:off x="5242320" y="2357280"/>
            <a:ext cx="3443760" cy="179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ste es un problema de choques co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asa variable mas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e sugiere una variante al final de es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tra variante de este problema es 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adena que aparece en la Guía 8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5357880" y="4429080"/>
            <a:ext cx="3000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820908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104760" y="3643200"/>
            <a:ext cx="689616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9 CuadroTexto"/>
          <p:cNvSpPr/>
          <p:nvPr/>
        </p:nvSpPr>
        <p:spPr>
          <a:xfrm>
            <a:off x="7072200" y="4071960"/>
            <a:ext cx="185760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roblema que incluye conservación de energía y momentum,  concepto de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entro de masa y roce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5008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1280" y="1357200"/>
            <a:ext cx="892980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71680" y="3071880"/>
            <a:ext cx="49273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6927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36440" y="949320"/>
            <a:ext cx="456876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8148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147600" y="1047600"/>
            <a:ext cx="428148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07T01:49:12Z</dcterms:modified>
  <cp:revision>105</cp:revision>
  <dc:subject/>
  <dc:title>Introducción a la Física Newtoniana </dc:title>
</cp:coreProperties>
</file>