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1F5-ED77-437E-AE5E-2024DB2A7E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9C74-B1DF-4E87-976A-3CFE1A29F3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316-BF30-44AB-BC6B-7FC0E43BE3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ED23-D6BD-4EE2-B4C7-992419AF83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84F-DD3A-449A-BE1C-C4EC29D00C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B8B-77CF-44E0-808B-EAE79C56EF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922D-EDBD-4144-A79E-FBC21D042B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FD7-C178-42E9-A8E2-980A0A6601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EDF7-A7BE-4382-A169-8550BB7FB8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F703-1F32-43C1-9F6D-4AB37AB3FF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9E1-D921-453F-A4A3-0F45973FF2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6B1-9360-40BC-8CEA-B981BD53F0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128-52AB-4795-AF36-4E62127C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335-0707-4640-9B71-404837CB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40A-7BC7-4F1B-9D21-DFEA5E1A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6F8-E89B-4158-AA6B-6B9FC891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969-221A-430B-9A47-7EB8E3F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603-3AC8-4409-9285-453AB318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121-17D2-4B05-AF3B-3EED758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418-A270-47E4-8E9C-4E0E15C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B56-5DA6-4882-AA20-7394159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CF9-2D23-4557-BBC5-8E32D06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E0E-453E-492F-81A6-D60C210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29B-4383-4218-8F1B-A27C82A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8852-CD5D-4C1E-B233-2E30BA7FC0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4784760" y="2409840"/>
            <a:ext cx="428616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4857840" y="3490920"/>
            <a:ext cx="4143240" cy="2938320"/>
          </a:xfrm>
          <a:prstGeom prst="rect">
            <a:avLst/>
          </a:prstGeom>
          <a:ln w="0">
            <a:noFill/>
          </a:ln>
        </p:spPr>
      </p:pic>
      <p:sp>
        <p:nvSpPr>
          <p:cNvPr id="56" name="9 CuadroTexto"/>
          <p:cNvSpPr/>
          <p:nvPr/>
        </p:nvSpPr>
        <p:spPr>
          <a:xfrm>
            <a:off x="5091480" y="1785960"/>
            <a:ext cx="224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2 -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136440" y="976320"/>
            <a:ext cx="42926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08080" y="1106640"/>
            <a:ext cx="4292640" cy="560844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5242320" y="2357280"/>
            <a:ext cx="3443760" cy="179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e es un problema de choques co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asa variable mas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e sugiere una variante al final de es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tra variante de este problema es 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adena que aparece en la Guía 8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5357880" y="4429080"/>
            <a:ext cx="3000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2090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04760" y="3643200"/>
            <a:ext cx="689616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9 CuadroTexto"/>
          <p:cNvSpPr/>
          <p:nvPr/>
        </p:nvSpPr>
        <p:spPr>
          <a:xfrm>
            <a:off x="7072200" y="4071960"/>
            <a:ext cx="185760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roblema que incluye conservación de energía y momentum,  concepto de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entro de masa y roce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5008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280" y="1357200"/>
            <a:ext cx="892980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4927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6927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36440" y="949320"/>
            <a:ext cx="45687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814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147600" y="1047600"/>
            <a:ext cx="428148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07T01:49:12Z</dcterms:modified>
  <cp:revision>105</cp:revision>
  <dc:subject/>
  <dc:title>Introducción a la Física Newtoniana </dc:title>
</cp:coreProperties>
</file>