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8C7-CAB5-413E-A74F-54D93C2E06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B76-00A0-4E53-B147-E41733F2CE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2D89-3171-4FD9-97E6-B0FCCDCC66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149A-B070-4935-AD7D-0239953849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BE4F-C214-403D-B473-B87CE274A2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A295-BA0D-4954-98C7-B56DB6CF6D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CF4-28BE-4805-A1AE-3AD1F388AC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D8C-CE3C-49D3-A95D-BEE853910F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3BB-5418-40D1-B705-1371CC8777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6943-0AC5-43DA-AE9C-103A289C6B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89C-0AA8-4B74-BE50-B034FB6723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980-CE64-4C7D-9EFE-E64C240E14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33A-D69F-442B-BBC0-8475ECA8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004-D835-49EF-BE22-654B36F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5A7-0CEB-4B17-9505-7F3455B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46C-C3D4-4A0D-A4D6-13948C94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43B-720F-4B98-9E7D-D4F5F6E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122-C57C-4EF6-959A-563E1B21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FD9-4685-4632-BAAF-FBA78C9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7D-EADF-4B00-931D-C622FDC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3AF-FD63-4DA7-96AD-14ADCEE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523-CF7E-4F91-82F5-E57951C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1C5-8770-4E04-B74B-1D93309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F1F-6B16-4964-87A6-9FD487B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2E4-200E-46CF-AB4B-35C692B8EB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4784760" y="2409840"/>
            <a:ext cx="428616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4857840" y="3490920"/>
            <a:ext cx="4143240" cy="2938320"/>
          </a:xfrm>
          <a:prstGeom prst="rect">
            <a:avLst/>
          </a:prstGeom>
          <a:ln w="0">
            <a:noFill/>
          </a:ln>
        </p:spPr>
      </p:pic>
      <p:sp>
        <p:nvSpPr>
          <p:cNvPr id="56" name="9 CuadroTexto"/>
          <p:cNvSpPr/>
          <p:nvPr/>
        </p:nvSpPr>
        <p:spPr>
          <a:xfrm>
            <a:off x="5091480" y="1785960"/>
            <a:ext cx="224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2 -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136440" y="976320"/>
            <a:ext cx="42926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08080" y="1106640"/>
            <a:ext cx="4292640" cy="560844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5242320" y="2357280"/>
            <a:ext cx="3443760" cy="179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e es un problema de choques co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asa variable mas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e sugiere una variante al final de es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tra variante de este problema es 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adena que aparece en la Guía 8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5357880" y="4429080"/>
            <a:ext cx="3000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2090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04760" y="3643200"/>
            <a:ext cx="689616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9 CuadroTexto"/>
          <p:cNvSpPr/>
          <p:nvPr/>
        </p:nvSpPr>
        <p:spPr>
          <a:xfrm>
            <a:off x="7072200" y="4071960"/>
            <a:ext cx="185760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roblema que incluye conservación de energía y momentum,  concepto de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entro de masa y roce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5008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280" y="1357200"/>
            <a:ext cx="892980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4927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6927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36440" y="949320"/>
            <a:ext cx="45687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814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147600" y="1047600"/>
            <a:ext cx="428148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07T01:49:12Z</dcterms:modified>
  <cp:revision>105</cp:revision>
  <dc:subject/>
  <dc:title>Introducción a la Física Newtoniana </dc:title>
</cp:coreProperties>
</file>