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70C5-7E79-45FE-9A9F-ADA26FFF0C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72A8-8987-496E-A027-B5AA0092B3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37D9-349C-4586-90BF-D9B16C7941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3164-8BD4-4D91-B6B8-1743BE5B7C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0374-B3EC-4443-8446-7E7204CC537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0E85-4518-41AC-AA4D-5C8656872F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DDE3-3B6E-4F45-A6C4-0C943890AB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5404-FFFB-4D52-A3FF-4CFF16F280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DA72-5190-4117-9900-F2B915D9975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71CB-968C-445A-8E02-9D57B03E0F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882A-51EF-4B27-AA01-FD044F5D9E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7166-8539-48F0-BE23-94915B166C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CB07-43C6-4EAD-B423-6F169F3B8F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43C6-15B0-4852-9749-1484CBDD44A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6A6F-B952-4DCC-8472-58E2211DFE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7400-A3E7-43F3-8698-A689590513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EB83-2EB8-41E8-A0F6-0C002F7DCE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6B30-CE3F-488B-A608-5689B20F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9D7-799B-4BBD-A945-9AD17706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C803-2374-4AF7-8AE4-1435D832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7131-3C58-41A8-B98F-574BDCE4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2822-D711-45D0-BAD2-0CF4FBDC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3CE-0F56-419C-8CF7-E251EDE9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C68-CD9F-4A25-A5CD-9EEC940F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6DBC-F3C1-4A48-9CD2-4AF85374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CE2E-BFB9-48E3-8D50-C556B914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3C9-17B3-4908-9761-2BD5C979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CFD-A5BD-428A-8AF3-15DEE5DF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8BA-C5F6-4522-BAE2-FEE079C0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5023-1ADB-4782-8B1A-9B46D22851A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85880" y="1714680"/>
            <a:ext cx="7772400" cy="2112840"/>
          </a:xfrm>
          <a:prstGeom prst="rect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Choque de una masa con un resorte horizontal con dos masas en sus extremos.</a:t>
            </a:r>
            <a:endParaRPr b="0" lang="en-US" sz="3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3920" y="4142880"/>
            <a:ext cx="6551640" cy="173700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Osci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65160" y="1073160"/>
            <a:ext cx="42926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2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76320" y="1119240"/>
            <a:ext cx="428148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00080" y="1062000"/>
            <a:ext cx="429408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4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429264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0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65160" y="1020600"/>
            <a:ext cx="4292640" cy="576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6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65160" y="1050840"/>
            <a:ext cx="429264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2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71280" y="1000080"/>
            <a:ext cx="429264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8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36440" y="1108080"/>
            <a:ext cx="429264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85716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4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88920" y="1000080"/>
            <a:ext cx="4268880" cy="58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0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136440" y="1036800"/>
            <a:ext cx="4292640" cy="55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6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47600" y="1136520"/>
            <a:ext cx="428148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2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160" y="1050840"/>
            <a:ext cx="429264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8" name="10 Conector recto"/>
          <p:cNvSpPr/>
          <p:nvPr/>
        </p:nvSpPr>
        <p:spPr>
          <a:xfrm flipH="1">
            <a:off x="4642920" y="1000080"/>
            <a:ext cx="1800" cy="514368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36440" y="1006560"/>
            <a:ext cx="429264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4" name="7 CuadroTexto"/>
          <p:cNvSpPr/>
          <p:nvPr/>
        </p:nvSpPr>
        <p:spPr>
          <a:xfrm>
            <a:off x="1795680" y="1785960"/>
            <a:ext cx="4971600" cy="33858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Ejercicio acerca de: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Conservación del momentum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7030a0"/>
                </a:solidFill>
                <a:latin typeface="Verdana"/>
              </a:rPr>
              <a:t>Conservación de la energía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Centro de masa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7030a0"/>
                </a:solidFill>
                <a:latin typeface="Verdana"/>
              </a:rPr>
              <a:t>Velocidades relativas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5" name="8 CuadroTexto"/>
          <p:cNvSpPr/>
          <p:nvPr/>
        </p:nvSpPr>
        <p:spPr>
          <a:xfrm>
            <a:off x="1491840" y="5857920"/>
            <a:ext cx="6299640" cy="733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NOTA: Este ejercicio es complejo  porque reúne varios conceptos en un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misma situación. Creo que es útil trabajar para entender cada uno de lo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pasos que llevan a la solución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0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65160" y="1071720"/>
            <a:ext cx="4292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27T01:07:59Z</dcterms:modified>
  <cp:revision>133</cp:revision>
  <dc:subject/>
  <dc:title>Introducción a la Física Newtoniana </dc:title>
</cp:coreProperties>
</file>