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DF94-804A-4231-9AFC-E850BC2809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F8F3-6378-4BDE-A47E-0094F77109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B1A8-063B-4F67-A3CC-18C8461E06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40B9-7900-4C54-A634-48BD8D2D0B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1597-5E54-4083-A430-4D063DAF7C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DC4-0710-46F6-A80C-F00A467B84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85AF-8884-4FAC-BA4C-4E98AE994A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6FA-08BC-48C1-A175-FAB6DE325F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7FD-AEE0-4CC4-9E3A-82FB070A9F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E39C-0F37-4741-A769-1170429116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3903-6EAA-42A1-AE25-2EF89CFE59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6E1-92AC-41D7-A0E0-808CFD9244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419-EE58-472B-B7A2-B543F77FD4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C535-0962-4A23-B5E3-F47F93374B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F3D6-2248-4875-936C-599448B9A1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55F-ECE8-4A98-912F-70264FD216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FCC8-C764-4702-B749-040F9D00AA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9A1-6C45-4BF5-B61F-04994AAD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5DA-4432-4066-9986-A687A348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9D1-6E3E-4559-B041-104C21A2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D72-7076-4274-9DC6-00CF6B81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440-4359-43D6-9BD2-7EDF15FA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F02-C4A4-4049-A43B-5680692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98D-022A-4FCF-8534-53075CF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A9F-2BA6-42BD-9016-E6C6BB7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F4E-8B69-481D-B938-10432EC3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86B-599F-499F-B54B-9FABB29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2E8-7C4C-48FA-AFF4-B9757CC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FF0-F588-43DA-A4F7-E7AFAB8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32FF-111A-4037-AEF9-99FD9BD6BC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85880" y="1714680"/>
            <a:ext cx="7772400" cy="21128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horizontal con dos masas en sus extremos.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4142880"/>
            <a:ext cx="6551640" cy="17370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6516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6320" y="1119240"/>
            <a:ext cx="42814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0080" y="1062000"/>
            <a:ext cx="4294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5160" y="1020600"/>
            <a:ext cx="429264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29264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6440" y="1108080"/>
            <a:ext cx="42926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8920" y="1000080"/>
            <a:ext cx="426888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36440" y="1036800"/>
            <a:ext cx="42926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7600" y="1136520"/>
            <a:ext cx="42814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10 Conector recto"/>
          <p:cNvSpPr/>
          <p:nvPr/>
        </p:nvSpPr>
        <p:spPr>
          <a:xfrm flipH="1">
            <a:off x="4642920" y="1000080"/>
            <a:ext cx="1800" cy="51436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795680" y="1785960"/>
            <a:ext cx="4971600" cy="3385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rcicio acerca de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ción del momentum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entro de mas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Velocidades relativa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1491840" y="5857920"/>
            <a:ext cx="629964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TA: Este ejercicio es complejo  porque reúne varios conceptos en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isma situación. Creo que es útil trabajar para entender cada uno de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sos que llevan a la 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5160" y="1071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07:59Z</dcterms:modified>
  <cp:revision>133</cp:revision>
  <dc:subject/>
  <dc:title>Introducción a la Física Newtoniana </dc:title>
</cp:coreProperties>
</file>