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E69-2AC0-4DA1-9CB4-7FDFFBEC43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DD51-FCE3-401C-973E-54D67B3940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848A-130F-474B-ADCA-936E12C667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118D-AE31-4BD3-BA07-DCCA4AD4A1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6D5D-B5BF-48D5-9224-93FF8CFEBA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44FA-3638-40C8-97EF-5ADE847A23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B6F-5E0E-48A3-9B8C-ED8818A9C2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0649-C162-4F0C-951A-ECC34314CA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AD94-8DD4-4E34-B894-27D52E3229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5895-2CE8-4034-94F2-BE28336072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9E6B-FE3F-48FA-9ADD-C5AA9E64B7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7DEE-525B-4837-ADD7-C7A8B2F220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D46-131A-4D67-9056-458C15E902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103B-ACD7-41E9-ACC5-328C7C5503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E79A-576B-48CB-B7F0-715E4EED24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20C-8AC5-4758-AF06-DE86FF955C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6E3C-9A65-4203-B6B1-F7B050EE26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1F1-A8AC-4B71-8625-D3898035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B8A-A249-473B-B7A4-0042EA48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7ED-9483-490D-A4AA-DAD00FBE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672-94E2-43B8-B3A7-01077CBA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714-B38E-4EC8-901F-4DD2C280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6FF-32AC-42A3-ABF6-A5D072CE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F59-F01B-475C-A25A-384DFAA5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FDB-E3E7-44B9-B877-B1D07D47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FA3-E747-4E10-8A37-20817FB7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45E-2EC3-457A-B355-4B465AC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CFF-D2B8-41DB-A38F-44E655D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678-C88B-4738-BEFD-DAF9538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02B5-C793-416E-8636-ADEFAC2CD6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85880" y="1714680"/>
            <a:ext cx="7772400" cy="211284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horizontal con dos masas en sus extremos.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4142880"/>
            <a:ext cx="6551640" cy="17370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6516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6320" y="1119240"/>
            <a:ext cx="42814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0080" y="1062000"/>
            <a:ext cx="4294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5160" y="1020600"/>
            <a:ext cx="4292640" cy="57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65160" y="1050840"/>
            <a:ext cx="42926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1280" y="1000080"/>
            <a:ext cx="429264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36440" y="1108080"/>
            <a:ext cx="42926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8920" y="1000080"/>
            <a:ext cx="426888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36440" y="1036800"/>
            <a:ext cx="429264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47600" y="1136520"/>
            <a:ext cx="42814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160" y="1050840"/>
            <a:ext cx="42926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10 Conector recto"/>
          <p:cNvSpPr/>
          <p:nvPr/>
        </p:nvSpPr>
        <p:spPr>
          <a:xfrm flipH="1">
            <a:off x="4642920" y="1000080"/>
            <a:ext cx="1800" cy="51436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36440" y="1006560"/>
            <a:ext cx="429264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1795680" y="1785960"/>
            <a:ext cx="4971600" cy="3385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Ejercicio acerca de: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onservación del momentum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7030a0"/>
                </a:solidFill>
                <a:latin typeface="Verdana"/>
              </a:rPr>
              <a:t>Conservación de la energ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entro de mas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7030a0"/>
                </a:solidFill>
                <a:latin typeface="Verdana"/>
              </a:rPr>
              <a:t>Velocidades relativas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1491840" y="5857920"/>
            <a:ext cx="6299640" cy="73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NOTA: Este ejercicio es complejo  porque reúne varios conceptos en un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isma situación. Creo que es útil trabajar para entender cada uno de l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sos que llevan a la solución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5160" y="107172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07:59Z</dcterms:modified>
  <cp:revision>133</cp:revision>
  <dc:subject/>
  <dc:title>Introducción a la Física Newtoniana </dc:title>
</cp:coreProperties>
</file>