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BF1E-2F64-4FB8-AD71-C668011072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9B26-D99E-4749-A728-972573BA9F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6B46-B74F-4941-8D57-0F135790B2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162A-1698-4902-96B9-B0D4EC134A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8C17-D4F2-42E1-8CAA-32AA0A45BB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7CD1-AD15-4575-9EB3-58659D85BC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1A6E-2C5D-444A-85FB-2CD88F06679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D0F7-AE9A-4D92-8FF2-76C4ED0EE6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D45E-8BD1-4A58-8A92-CEF42EA357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1126-441C-471A-9B8B-BD99C4328D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528D-2D16-49DF-9571-2D8FD9373E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334A-3061-4FC4-A5BC-83C66D3D54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BB83-296A-4B5B-92AF-633F31CED0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F0FD-B548-4764-AB7C-4E0773BA4FA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A0C9-3982-4357-8F19-47AA6AD019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BCE7-D0AF-42C0-B2B0-1A6823ED2E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30FA-73CA-45B7-8C00-0304750344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03B-C458-4A64-85CF-3CAE139F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9A6-DFF4-4BB4-B9DF-1E44138B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409-C96D-47E9-A399-9E546499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1B3-C949-4069-B87B-CCAEC8BE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7FB-19DF-45E3-AF52-54CE6DBC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3DC-BBBF-4CAF-B871-E3A07D56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2F5-459F-47AA-9CF9-B4B9F771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B9B-5513-4051-BFBD-230CE0D0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01B-6404-49DE-9179-39FDC51A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D65-9B62-4601-A787-0EDE9B76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9D0-481E-444F-B9DD-279B299C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219-98CD-413A-BAC1-31E78426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3A66-F31E-442D-9C79-8905A02DBA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85880" y="1714680"/>
            <a:ext cx="7772400" cy="211284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horizontal con dos masas en sus extremos.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3920" y="4142880"/>
            <a:ext cx="6551640" cy="173700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65160" y="1073160"/>
            <a:ext cx="42926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2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76320" y="1119240"/>
            <a:ext cx="428148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00080" y="1062000"/>
            <a:ext cx="4294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4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429264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0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65160" y="1020600"/>
            <a:ext cx="4292640" cy="576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6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65160" y="1050840"/>
            <a:ext cx="429264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2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71280" y="1000080"/>
            <a:ext cx="429264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36440" y="1108080"/>
            <a:ext cx="429264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73080" y="85716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4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8920" y="1000080"/>
            <a:ext cx="426888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36440" y="1036800"/>
            <a:ext cx="429264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6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47600" y="1136520"/>
            <a:ext cx="428148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2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5160" y="1050840"/>
            <a:ext cx="429264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8" name="10 Conector recto"/>
          <p:cNvSpPr/>
          <p:nvPr/>
        </p:nvSpPr>
        <p:spPr>
          <a:xfrm flipH="1">
            <a:off x="4642920" y="1000080"/>
            <a:ext cx="1800" cy="514368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36440" y="1006560"/>
            <a:ext cx="429264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4" name="7 CuadroTexto"/>
          <p:cNvSpPr/>
          <p:nvPr/>
        </p:nvSpPr>
        <p:spPr>
          <a:xfrm>
            <a:off x="1795680" y="1785960"/>
            <a:ext cx="4971600" cy="338580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Ejercicio acerca de: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Conservación del momentum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7030a0"/>
                </a:solidFill>
                <a:latin typeface="Verdana"/>
              </a:rPr>
              <a:t>Conservación de la energía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Centro de masa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7030a0"/>
                </a:solidFill>
                <a:latin typeface="Verdana"/>
              </a:rPr>
              <a:t>Velocidades relativas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8 CuadroTexto"/>
          <p:cNvSpPr/>
          <p:nvPr/>
        </p:nvSpPr>
        <p:spPr>
          <a:xfrm>
            <a:off x="1491840" y="5857920"/>
            <a:ext cx="6299640" cy="733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NOTA: Este ejercicio es complejo  porque reúne varios conceptos en un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misma situación. Creo que es útil trabajar para entender cada uno de los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Verdana"/>
              </a:rPr>
              <a:t>pasos que llevan a la solución.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429680" y="1357200"/>
            <a:ext cx="171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Ejplo-resuelto-24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0" name="10 Conector recto"/>
          <p:cNvSpPr/>
          <p:nvPr/>
        </p:nvSpPr>
        <p:spPr>
          <a:xfrm flipH="1">
            <a:off x="4498560" y="1000080"/>
            <a:ext cx="1800" cy="51451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65160" y="1071720"/>
            <a:ext cx="4292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7T01:07:59Z</dcterms:modified>
  <cp:revision>133</cp:revision>
  <dc:subject/>
  <dc:title>Introducción a la Física Newtoniana </dc:title>
</cp:coreProperties>
</file>