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212B-6647-4FC5-BA59-1DA9BF47CA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2EFE-9287-4683-82A5-354A5ECA83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B7DC-F70A-4603-B249-47E4B5D8984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9E81-0760-4225-A8BC-C2D701ED989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366A-ED37-4991-87AA-133BF4F0386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E323-0FB3-4872-AA19-C6D9825A5D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E073-B2AE-412E-BE16-45662D24186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4058-DA05-4731-8319-D11EA01DF0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C88B-6F29-4289-AB46-3AC018B23CF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BD10-71ED-42B8-96C6-A31B11C6604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D05-AC8A-450A-A0E2-DECDCC0D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1C14-20D3-484D-9BA5-DD545022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9972-8D8E-4D42-96E3-694D8CF5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32D6-1289-4B8A-A1B9-F5D8E388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096-6D86-47D6-A7A0-52A2A37A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4B5F-1FE6-44A5-91CC-EC1DCBD1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3A8-E8A0-4CF7-9A1F-0485E133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61A-040A-4B9E-866C-460719E4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0B27-A1E7-4450-8DF2-E6D99727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8795-432F-46B1-AD60-89B9D804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DCC-5A30-41BA-B346-D2F3345B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B71-A8AC-4767-A4FF-9AD2D6B6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EDDA-484A-48C1-9903-E91B1314553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642960" y="1643040"/>
            <a:ext cx="7772400" cy="14698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Choque de una masa con un resorte vertical</a:t>
            </a:r>
            <a:endParaRPr b="0" lang="en-US" sz="3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85560" y="3499920"/>
            <a:ext cx="6551640" cy="28083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onservación de la energ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hoque In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Osci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espegue de l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572000" y="117144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5" descr="NZ001"/>
          <p:cNvPicPr/>
          <p:nvPr/>
        </p:nvPicPr>
        <p:blipFill>
          <a:blip r:embed="rId2"/>
          <a:stretch/>
        </p:blipFill>
        <p:spPr>
          <a:xfrm>
            <a:off x="138240" y="1214280"/>
            <a:ext cx="4290840" cy="5286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5248080" y="1846440"/>
            <a:ext cx="2859840" cy="13726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deja caer una masa m desd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una altura H. Choca en form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Inelástica (e=0) con M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scribir el comportamient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 este sistem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6" name="Picture 6" descr="NZ002"/>
          <p:cNvPicPr/>
          <p:nvPr/>
        </p:nvPicPr>
        <p:blipFill>
          <a:blip r:embed="rId2"/>
          <a:stretch/>
        </p:blipFill>
        <p:spPr>
          <a:xfrm>
            <a:off x="214200" y="1071720"/>
            <a:ext cx="4338720" cy="5643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220000" y="1785960"/>
            <a:ext cx="3382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emos usado aquí el eje x apuntand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acia abajo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sto cambia la convención anterior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                 </a:t>
            </a:r>
            <a:r>
              <a:rPr b="0" lang="es-CL" sz="1400" spc="-1" strike="noStrike">
                <a:solidFill>
                  <a:srgbClr val="ff6600"/>
                </a:solidFill>
                <a:latin typeface="Comic Sans MS"/>
              </a:rPr>
              <a:t>V(x) = -m g H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68" name="AutoShape 7"/>
          <p:cNvCxnSpPr/>
          <p:nvPr/>
        </p:nvCxnSpPr>
        <p:spPr>
          <a:xfrm flipH="1" flipV="1" rot="5400000">
            <a:off x="3127680" y="2665800"/>
            <a:ext cx="2248560" cy="2068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5" descr="NZ003"/>
          <p:cNvPicPr/>
          <p:nvPr/>
        </p:nvPicPr>
        <p:blipFill>
          <a:blip r:embed="rId2"/>
          <a:stretch/>
        </p:blipFill>
        <p:spPr>
          <a:xfrm>
            <a:off x="324000" y="1036800"/>
            <a:ext cx="4033800" cy="54813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6"/>
          <p:cNvSpPr/>
          <p:nvPr/>
        </p:nvSpPr>
        <p:spPr>
          <a:xfrm>
            <a:off x="4857840" y="1643040"/>
            <a:ext cx="3960720" cy="2409840"/>
          </a:xfrm>
          <a:prstGeom prst="cloudCallout">
            <a:avLst>
              <a:gd name="adj1" fmla="val -74810"/>
              <a:gd name="adj2" fmla="val -26615"/>
            </a:avLst>
          </a:pr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e2f0b6">
                  <a:alpha val="0"/>
                </a:srgbClr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4929120" y="4357800"/>
            <a:ext cx="3672000" cy="1761840"/>
          </a:xfrm>
          <a:prstGeom prst="cloudCallout">
            <a:avLst>
              <a:gd name="adj1" fmla="val -73606"/>
              <a:gd name="adj2" fmla="val 55314"/>
            </a:avLst>
          </a:prstGeom>
          <a:gradFill rotWithShape="0">
            <a:gsLst>
              <a:gs pos="0">
                <a:srgbClr val="99cc00"/>
              </a:gs>
              <a:gs pos="100000">
                <a:srgbClr val="f9fc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357880" y="4786200"/>
            <a:ext cx="278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Usamos la velocidad calculad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a partir del choque inelástico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284800" y="2286000"/>
            <a:ext cx="3404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NOTE que, a pesar que no se dice,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tomó como origen de coordenada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l largo natural del resorte L</a:t>
            </a:r>
            <a:r>
              <a:rPr b="0" lang="es-CL" sz="1400" spc="-1" strike="noStrike" baseline="-25000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1" name="Line 4"/>
          <p:cNvSpPr/>
          <p:nvPr/>
        </p:nvSpPr>
        <p:spPr>
          <a:xfrm>
            <a:off x="4714920" y="117144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4" name="Picture 5" descr="NZ004"/>
          <p:cNvPicPr/>
          <p:nvPr/>
        </p:nvPicPr>
        <p:blipFill>
          <a:blip r:embed="rId2"/>
          <a:stretch/>
        </p:blipFill>
        <p:spPr>
          <a:xfrm>
            <a:off x="128520" y="1071720"/>
            <a:ext cx="4300560" cy="5500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003640" y="1916280"/>
            <a:ext cx="37576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6600"/>
                </a:solidFill>
                <a:latin typeface="Verdana"/>
              </a:rPr>
              <a:t>NOTA:</a:t>
            </a: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ff6600"/>
                </a:solidFill>
                <a:latin typeface="Verdana"/>
              </a:rPr>
              <a:t>Muestre que E</a:t>
            </a:r>
            <a:r>
              <a:rPr b="0" lang="es-CL" sz="1400" spc="-1" strike="noStrike" baseline="-25000">
                <a:solidFill>
                  <a:srgbClr val="ff6600"/>
                </a:solidFill>
                <a:latin typeface="Verdana"/>
              </a:rPr>
              <a:t>i</a:t>
            </a:r>
            <a:r>
              <a:rPr b="0" lang="es-CL" sz="1400" spc="-1" strike="noStrike">
                <a:solidFill>
                  <a:srgbClr val="ff6600"/>
                </a:solidFill>
                <a:latin typeface="Verdana"/>
              </a:rPr>
              <a:t>  se pued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6600"/>
                </a:solidFill>
                <a:latin typeface="Verdana"/>
              </a:rPr>
              <a:t>escribir como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</a:t>
            </a:r>
            <a:r>
              <a:rPr b="0" lang="es-CL" sz="1400" spc="-1" strike="noStrike" baseline="-25000">
                <a:solidFill>
                  <a:srgbClr val="0000ff"/>
                </a:solidFill>
                <a:latin typeface="Verdana"/>
              </a:rPr>
              <a:t>i </a:t>
            </a: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=</a:t>
            </a:r>
            <a:r>
              <a:rPr b="0" lang="es-CL" sz="14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86" name="Object 8"/>
          <p:cNvGraphicFramePr/>
          <p:nvPr/>
        </p:nvGraphicFramePr>
        <p:xfrm>
          <a:off x="5429160" y="2428920"/>
          <a:ext cx="2808360" cy="6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9160" y="2428920"/>
                    <a:ext cx="28083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10"/>
          <p:cNvSpPr/>
          <p:nvPr/>
        </p:nvSpPr>
        <p:spPr>
          <a:xfrm>
            <a:off x="5887800" y="3357720"/>
            <a:ext cx="22320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Si E</a:t>
            </a:r>
            <a:r>
              <a:rPr b="0" lang="es-CL" sz="1400" spc="-1" strike="noStrike" baseline="-25000">
                <a:solidFill>
                  <a:srgbClr val="0033cc"/>
                </a:solidFill>
                <a:latin typeface="Verdana"/>
              </a:rPr>
              <a:t>i</a:t>
            </a: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 = 0, se obtiene el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resultado indicado en l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última págin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5724360" y="4869000"/>
            <a:ext cx="2016360" cy="12747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100000">
                <a:srgbClr val="f9fc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005160" y="5013360"/>
            <a:ext cx="144396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Si m = 0,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E</a:t>
            </a:r>
            <a:r>
              <a:rPr b="0" lang="es-CL" sz="1400" spc="-1" strike="noStrike" baseline="-25000">
                <a:solidFill>
                  <a:srgbClr val="0033cc"/>
                </a:solidFill>
                <a:latin typeface="Verdana"/>
              </a:rPr>
              <a:t>i</a:t>
            </a: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 = g</a:t>
            </a:r>
            <a:r>
              <a:rPr b="0" lang="es-CL" sz="1400" spc="-1" strike="noStrike" baseline="30000">
                <a:solidFill>
                  <a:srgbClr val="0033cc"/>
                </a:solidFill>
                <a:latin typeface="Verdana"/>
              </a:rPr>
              <a:t>2</a:t>
            </a: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M</a:t>
            </a:r>
            <a:r>
              <a:rPr b="0" lang="es-CL" sz="1400" spc="-1" strike="noStrike" baseline="30000">
                <a:solidFill>
                  <a:srgbClr val="0033cc"/>
                </a:solidFill>
                <a:latin typeface="Verdana"/>
              </a:rPr>
              <a:t>2</a:t>
            </a: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 / (2 k)</a:t>
            </a: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3" name="Line 4"/>
          <p:cNvSpPr/>
          <p:nvPr/>
        </p:nvSpPr>
        <p:spPr>
          <a:xfrm>
            <a:off x="500076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6" name="Picture 5" descr="NZ005"/>
          <p:cNvPicPr/>
          <p:nvPr/>
        </p:nvPicPr>
        <p:blipFill>
          <a:blip r:embed="rId2"/>
          <a:stretch/>
        </p:blipFill>
        <p:spPr>
          <a:xfrm>
            <a:off x="285840" y="1009800"/>
            <a:ext cx="450036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2" name="Picture 7" descr="C:\Documents and Settings\Nelson Zamorano\Escritorio\Torque\3.jpg"/>
          <p:cNvPicPr/>
          <p:nvPr/>
        </p:nvPicPr>
        <p:blipFill>
          <a:blip r:embed="rId2"/>
          <a:stretch/>
        </p:blipFill>
        <p:spPr>
          <a:xfrm>
            <a:off x="-7353360" y="-11904840"/>
            <a:ext cx="4292640" cy="5618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NZ006"/>
          <p:cNvPicPr/>
          <p:nvPr/>
        </p:nvPicPr>
        <p:blipFill>
          <a:blip r:embed="rId3"/>
          <a:stretch/>
        </p:blipFill>
        <p:spPr>
          <a:xfrm>
            <a:off x="285840" y="1071720"/>
            <a:ext cx="4105080" cy="526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Object 9"/>
          <p:cNvGraphicFramePr/>
          <p:nvPr/>
        </p:nvGraphicFramePr>
        <p:xfrm>
          <a:off x="357120" y="5286240"/>
          <a:ext cx="800280" cy="152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120" y="5286240"/>
                    <a:ext cx="80028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5" descr="NZ008"/>
          <p:cNvPicPr/>
          <p:nvPr/>
        </p:nvPicPr>
        <p:blipFill>
          <a:blip r:embed="rId2"/>
          <a:stretch/>
        </p:blipFill>
        <p:spPr>
          <a:xfrm>
            <a:off x="214200" y="1022400"/>
            <a:ext cx="431964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7" name="Picture 5" descr="NZ007"/>
          <p:cNvPicPr/>
          <p:nvPr/>
        </p:nvPicPr>
        <p:blipFill>
          <a:blip r:embed="rId2"/>
          <a:stretch/>
        </p:blipFill>
        <p:spPr>
          <a:xfrm>
            <a:off x="214200" y="1046160"/>
            <a:ext cx="417672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26T02:03:01Z</dcterms:modified>
  <cp:revision>98</cp:revision>
  <dc:subject/>
  <dc:title>Introducción a la Física Newtoniana </dc:title>
</cp:coreProperties>
</file>