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6714-158B-4EF6-9ED4-3520C31D9B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DA83-911D-4CAF-962D-553BA45302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7B71-098C-4474-8405-77DA6E2F3A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48D2-8E25-4B79-9460-A7067BCBE0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F757-99C4-4152-B665-54CBACE4AB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F584-0F1F-4679-B358-B6DF9D5471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9B12-E7C5-4B5A-9154-3462274059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53A1-898F-4403-9A0E-5EEC52DAF4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D554-992B-4F4C-B3CC-9CFD73FBE4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F2A0-B6D4-4BC0-9D66-CD3832595B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BA28-EDFF-4F64-9D11-A16B433E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28C-57B5-482F-AE77-ABECF79E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4EA-4235-4E29-98FA-25F7343D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E83-66CC-4A9A-A82E-62FE690B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1AB-5D8A-4230-93CC-3387AAC4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BED-C3E7-4D67-B3E3-2E2990E7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476-91BF-4234-8404-E073519A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8D6C-CCA7-4890-8174-CBB493D3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6A8-B575-496D-A0B3-BC4A440E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E41-7E70-4C69-88C5-50F31D43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047-04B6-423C-B322-9FEA1C81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B2A-71A7-4DC4-B8CF-4550F796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5C72-1B3F-42A3-8159-DB5CEF68996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642960" y="1643040"/>
            <a:ext cx="7772400" cy="14698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vertical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85560" y="3499920"/>
            <a:ext cx="6551640" cy="2808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117144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5" descr="NZ001"/>
          <p:cNvPicPr/>
          <p:nvPr/>
        </p:nvPicPr>
        <p:blipFill>
          <a:blip r:embed="rId2"/>
          <a:stretch/>
        </p:blipFill>
        <p:spPr>
          <a:xfrm>
            <a:off x="138240" y="1214280"/>
            <a:ext cx="4290840" cy="5286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5248080" y="1846440"/>
            <a:ext cx="2859840" cy="13726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deja caer una masa m desd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na altura H. Choca en form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Inelástica (e=0) con M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scribir el comportamient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NZ002"/>
          <p:cNvPicPr/>
          <p:nvPr/>
        </p:nvPicPr>
        <p:blipFill>
          <a:blip r:embed="rId2"/>
          <a:stretch/>
        </p:blipFill>
        <p:spPr>
          <a:xfrm>
            <a:off x="214200" y="1071720"/>
            <a:ext cx="4338720" cy="5643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220000" y="1785960"/>
            <a:ext cx="3382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emos usado aquí el eje x apuntand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acia abaj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sto cambia la convención anterior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                 </a:t>
            </a:r>
            <a:r>
              <a:rPr b="0" lang="es-CL" sz="1400" spc="-1" strike="noStrike">
                <a:solidFill>
                  <a:srgbClr val="ff6600"/>
                </a:solidFill>
                <a:latin typeface="Comic Sans MS"/>
              </a:rPr>
              <a:t>V(x) = -m g H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68" name="AutoShape 7"/>
          <p:cNvCxnSpPr/>
          <p:nvPr/>
        </p:nvCxnSpPr>
        <p:spPr>
          <a:xfrm flipH="1" flipV="1" rot="5400000">
            <a:off x="3127680" y="2665800"/>
            <a:ext cx="2248560" cy="2068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5" descr="NZ003"/>
          <p:cNvPicPr/>
          <p:nvPr/>
        </p:nvPicPr>
        <p:blipFill>
          <a:blip r:embed="rId2"/>
          <a:stretch/>
        </p:blipFill>
        <p:spPr>
          <a:xfrm>
            <a:off x="324000" y="1036800"/>
            <a:ext cx="4033800" cy="5481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6"/>
          <p:cNvSpPr/>
          <p:nvPr/>
        </p:nvSpPr>
        <p:spPr>
          <a:xfrm>
            <a:off x="4857840" y="1643040"/>
            <a:ext cx="3960720" cy="2409840"/>
          </a:xfrm>
          <a:prstGeom prst="cloudCallout">
            <a:avLst>
              <a:gd name="adj1" fmla="val -74810"/>
              <a:gd name="adj2" fmla="val -26615"/>
            </a:avLst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e2f0b6">
                  <a:alpha val="0"/>
                </a:srgbClr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4929120" y="4357800"/>
            <a:ext cx="3672000" cy="1761840"/>
          </a:xfrm>
          <a:prstGeom prst="cloudCallout">
            <a:avLst>
              <a:gd name="adj1" fmla="val -73606"/>
              <a:gd name="adj2" fmla="val 55314"/>
            </a:avLst>
          </a:prstGeom>
          <a:gradFill rotWithShape="0">
            <a:gsLst>
              <a:gs pos="0">
                <a:srgbClr val="99cc00"/>
              </a:gs>
              <a:gs pos="100000">
                <a:srgbClr val="f9fc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357880" y="4786200"/>
            <a:ext cx="278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samos la velocidad calculad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a partir del choque inelástic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284800" y="2286000"/>
            <a:ext cx="3404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NOTE que, a pesar que no se dice,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tomó como origen de coordenada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l largo natural del resorte L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714920" y="117144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4" name="Picture 5" descr="NZ004"/>
          <p:cNvPicPr/>
          <p:nvPr/>
        </p:nvPicPr>
        <p:blipFill>
          <a:blip r:embed="rId2"/>
          <a:stretch/>
        </p:blipFill>
        <p:spPr>
          <a:xfrm>
            <a:off x="128520" y="1071720"/>
            <a:ext cx="4300560" cy="5500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003640" y="1916280"/>
            <a:ext cx="37576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NOTA: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Muestre que E</a:t>
            </a:r>
            <a:r>
              <a:rPr b="0" lang="es-CL" sz="1400" spc="-1" strike="noStrike" baseline="-25000">
                <a:solidFill>
                  <a:srgbClr val="ff6600"/>
                </a:solidFill>
                <a:latin typeface="Verdana"/>
              </a:rPr>
              <a:t>i</a:t>
            </a: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  se pued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escribir como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</a:t>
            </a:r>
            <a:r>
              <a:rPr b="0" lang="es-CL" sz="1400" spc="-1" strike="noStrike" baseline="-25000">
                <a:solidFill>
                  <a:srgbClr val="0000ff"/>
                </a:solidFill>
                <a:latin typeface="Verdana"/>
              </a:rPr>
              <a:t>i 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=</a:t>
            </a: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86" name="Object 8"/>
          <p:cNvGraphicFramePr/>
          <p:nvPr/>
        </p:nvGraphicFramePr>
        <p:xfrm>
          <a:off x="5429160" y="2428920"/>
          <a:ext cx="280836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2428920"/>
                    <a:ext cx="28083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10"/>
          <p:cNvSpPr/>
          <p:nvPr/>
        </p:nvSpPr>
        <p:spPr>
          <a:xfrm>
            <a:off x="5887800" y="3357720"/>
            <a:ext cx="22320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Si E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Verdana"/>
              </a:rPr>
              <a:t>i</a:t>
            </a: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 = 0, se obtiene el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resultado indicado en l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última págin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5724360" y="4869000"/>
            <a:ext cx="2016360" cy="1274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100000">
                <a:srgbClr val="f9fc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005160" y="5013360"/>
            <a:ext cx="14439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Si m = 0,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E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Verdana"/>
              </a:rPr>
              <a:t>i</a:t>
            </a: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 = g</a:t>
            </a:r>
            <a:r>
              <a:rPr b="0" lang="es-CL" sz="1400" spc="-1" strike="noStrike" baseline="30000">
                <a:solidFill>
                  <a:srgbClr val="0033cc"/>
                </a:solidFill>
                <a:latin typeface="Verdana"/>
              </a:rPr>
              <a:t>2</a:t>
            </a: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M</a:t>
            </a:r>
            <a:r>
              <a:rPr b="0" lang="es-CL" sz="1400" spc="-1" strike="noStrike" baseline="30000">
                <a:solidFill>
                  <a:srgbClr val="0033cc"/>
                </a:solidFill>
                <a:latin typeface="Verdana"/>
              </a:rPr>
              <a:t>2</a:t>
            </a: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 / (2 k)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3" name="Line 4"/>
          <p:cNvSpPr/>
          <p:nvPr/>
        </p:nvSpPr>
        <p:spPr>
          <a:xfrm>
            <a:off x="500076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6" name="Picture 5" descr="NZ005"/>
          <p:cNvPicPr/>
          <p:nvPr/>
        </p:nvPicPr>
        <p:blipFill>
          <a:blip r:embed="rId2"/>
          <a:stretch/>
        </p:blipFill>
        <p:spPr>
          <a:xfrm>
            <a:off x="285840" y="1009800"/>
            <a:ext cx="450036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2" name="Picture 7" descr="C:\Documents and Settings\Nelson Zamorano\Escritorio\Torque\3.jpg"/>
          <p:cNvPicPr/>
          <p:nvPr/>
        </p:nvPicPr>
        <p:blipFill>
          <a:blip r:embed="rId2"/>
          <a:stretch/>
        </p:blipFill>
        <p:spPr>
          <a:xfrm>
            <a:off x="-7353360" y="-11904840"/>
            <a:ext cx="4292640" cy="5618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NZ006"/>
          <p:cNvPicPr/>
          <p:nvPr/>
        </p:nvPicPr>
        <p:blipFill>
          <a:blip r:embed="rId3"/>
          <a:stretch/>
        </p:blipFill>
        <p:spPr>
          <a:xfrm>
            <a:off x="285840" y="1071720"/>
            <a:ext cx="4105080" cy="526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9"/>
          <p:cNvGraphicFramePr/>
          <p:nvPr/>
        </p:nvGraphicFramePr>
        <p:xfrm>
          <a:off x="357120" y="5286240"/>
          <a:ext cx="800280" cy="152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20" y="5286240"/>
                    <a:ext cx="8002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5" descr="NZ008"/>
          <p:cNvPicPr/>
          <p:nvPr/>
        </p:nvPicPr>
        <p:blipFill>
          <a:blip r:embed="rId2"/>
          <a:stretch/>
        </p:blipFill>
        <p:spPr>
          <a:xfrm>
            <a:off x="214200" y="1022400"/>
            <a:ext cx="43196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5" descr="NZ007"/>
          <p:cNvPicPr/>
          <p:nvPr/>
        </p:nvPicPr>
        <p:blipFill>
          <a:blip r:embed="rId2"/>
          <a:stretch/>
        </p:blipFill>
        <p:spPr>
          <a:xfrm>
            <a:off x="214200" y="1046160"/>
            <a:ext cx="417672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6T02:03:01Z</dcterms:modified>
  <cp:revision>98</cp:revision>
  <dc:subject/>
  <dc:title>Introducción a la Física Newtoniana </dc:title>
</cp:coreProperties>
</file>