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A0C-C45B-4AB6-AC05-DED8F781A7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09E9-B172-4D82-B1B3-0FF773AA8A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76AE-21A6-4B31-A87A-0735B9B3ED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16C1-CA0A-4AFE-BF0D-2C14DF8BCF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8C55-B124-4ACD-815E-883D2190E6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D2FE-A2C5-495D-88A7-A89632F4DF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029-39D8-4D70-8129-9F7CA9CA28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A83-B1BB-47A6-9382-AF9026B3DDF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B533-6208-460A-9D5E-A5F791E297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B0F4-5CED-4E55-AB2B-8E11D4AE867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032-B003-4635-95DC-A8264E4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AA7-5DC9-4F43-A082-0DB3D0A8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8D0-5125-4A5E-86B2-BD94935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D9D-FA6A-4637-9492-6BCF311C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A5F-39C6-4794-AA93-D224A42C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8B0-72C6-469D-8060-97D57FC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6E5A-94B1-49A4-A1CC-C1C556F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BEB-1F31-41C3-827D-F4D1B49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AEE-6065-4465-A260-9438B079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982-3F0A-41A5-81CA-D299301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990-AA16-4C5A-95E1-83D09CF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5D5-5F50-4452-9BBF-992AB16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ED1F-DFF4-4FB6-823E-C38AC04696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642960" y="1643040"/>
            <a:ext cx="7772400" cy="1469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85560" y="3499920"/>
            <a:ext cx="6551640" cy="28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5" descr="NZ001"/>
          <p:cNvPicPr/>
          <p:nvPr/>
        </p:nvPicPr>
        <p:blipFill>
          <a:blip r:embed="rId2"/>
          <a:stretch/>
        </p:blipFill>
        <p:spPr>
          <a:xfrm>
            <a:off x="138240" y="1214280"/>
            <a:ext cx="4290840" cy="5286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NZ002"/>
          <p:cNvPicPr/>
          <p:nvPr/>
        </p:nvPicPr>
        <p:blipFill>
          <a:blip r:embed="rId2"/>
          <a:stretch/>
        </p:blipFill>
        <p:spPr>
          <a:xfrm>
            <a:off x="214200" y="1071720"/>
            <a:ext cx="4338720" cy="5643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220000" y="178596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cxnSp>
        <p:nvCxnSpPr>
          <p:cNvPr id="68" name="AutoShape 7"/>
          <p:cNvCxnSpPr/>
          <p:nvPr/>
        </p:nvCxnSpPr>
        <p:spPr>
          <a:xfrm flipH="1" flipV="1" rot="5400000">
            <a:off x="3127680" y="2665800"/>
            <a:ext cx="2248560" cy="2068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5" descr="NZ003"/>
          <p:cNvPicPr/>
          <p:nvPr/>
        </p:nvPicPr>
        <p:blipFill>
          <a:blip r:embed="rId2"/>
          <a:stretch/>
        </p:blipFill>
        <p:spPr>
          <a:xfrm>
            <a:off x="324000" y="1036800"/>
            <a:ext cx="4033800" cy="5481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4857840" y="164304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2f0b6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4929120" y="4357800"/>
            <a:ext cx="3672000" cy="176184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57880" y="4786200"/>
            <a:ext cx="27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84800" y="228600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714920" y="117144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4" name="Picture 5" descr="NZ004"/>
          <p:cNvPicPr/>
          <p:nvPr/>
        </p:nvPicPr>
        <p:blipFill>
          <a:blip r:embed="rId2"/>
          <a:stretch/>
        </p:blipFill>
        <p:spPr>
          <a:xfrm>
            <a:off x="128520" y="1071720"/>
            <a:ext cx="4300560" cy="5500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003640" y="1916280"/>
            <a:ext cx="3757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NOTA: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Muestre que E</a:t>
            </a:r>
            <a:r>
              <a:rPr b="0" lang="es-CL" sz="1400" spc="-1" strike="noStrike" baseline="-25000">
                <a:solidFill>
                  <a:srgbClr val="ff6600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 se puede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escribir como: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00ff"/>
                </a:solidFill>
                <a:latin typeface="Verdana"/>
              </a:rPr>
              <a:t>i 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=</a:t>
            </a:r>
            <a:r>
              <a:rPr b="0" lang="es-CL" sz="14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86" name="Object 8"/>
          <p:cNvGraphicFramePr/>
          <p:nvPr/>
        </p:nvGraphicFramePr>
        <p:xfrm>
          <a:off x="5429160" y="2428920"/>
          <a:ext cx="280836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42892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0"/>
          <p:cNvSpPr/>
          <p:nvPr/>
        </p:nvSpPr>
        <p:spPr>
          <a:xfrm>
            <a:off x="5887800" y="3357720"/>
            <a:ext cx="22320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0, se obtiene el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resultado indicado en la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última págin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9fce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005160" y="5013360"/>
            <a:ext cx="14439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Si m = 0,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E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Verdana"/>
              </a:rPr>
              <a:t>i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= g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M</a:t>
            </a:r>
            <a:r>
              <a:rPr b="0" lang="es-CL" sz="1400" spc="-1" strike="noStrike" baseline="30000">
                <a:solidFill>
                  <a:srgbClr val="0033cc"/>
                </a:solidFill>
                <a:latin typeface="Verdana"/>
              </a:rPr>
              <a:t>2</a:t>
            </a:r>
            <a:r>
              <a:rPr b="0" lang="es-CL" sz="1400" spc="-1" strike="noStrike">
                <a:solidFill>
                  <a:srgbClr val="0033cc"/>
                </a:solidFill>
                <a:latin typeface="Verdana"/>
              </a:rPr>
              <a:t> / (2 k)</a:t>
            </a:r>
            <a:r>
              <a:rPr b="0" lang="es-CL" sz="1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50007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6" name="Picture 5" descr="NZ005"/>
          <p:cNvPicPr/>
          <p:nvPr/>
        </p:nvPicPr>
        <p:blipFill>
          <a:blip r:embed="rId2"/>
          <a:stretch/>
        </p:blipFill>
        <p:spPr>
          <a:xfrm>
            <a:off x="285840" y="1009800"/>
            <a:ext cx="45003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2" name="Picture 7" descr="C:\Documents and Settings\Nelson Zamorano\Escritorio\Torque\3.jpg"/>
          <p:cNvPicPr/>
          <p:nvPr/>
        </p:nvPicPr>
        <p:blipFill>
          <a:blip r:embed="rId2"/>
          <a:stretch/>
        </p:blipFill>
        <p:spPr>
          <a:xfrm>
            <a:off x="-7353360" y="-11904840"/>
            <a:ext cx="4292640" cy="561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NZ006"/>
          <p:cNvPicPr/>
          <p:nvPr/>
        </p:nvPicPr>
        <p:blipFill>
          <a:blip r:embed="rId3"/>
          <a:stretch/>
        </p:blipFill>
        <p:spPr>
          <a:xfrm>
            <a:off x="285840" y="1071720"/>
            <a:ext cx="4105080" cy="526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9"/>
          <p:cNvGraphicFramePr/>
          <p:nvPr/>
        </p:nvGraphicFramePr>
        <p:xfrm>
          <a:off x="357120" y="5286240"/>
          <a:ext cx="800280" cy="15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5286240"/>
                    <a:ext cx="8002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1" name="Picture 5" descr="NZ008"/>
          <p:cNvPicPr/>
          <p:nvPr/>
        </p:nvPicPr>
        <p:blipFill>
          <a:blip r:embed="rId2"/>
          <a:stretch/>
        </p:blipFill>
        <p:spPr>
          <a:xfrm>
            <a:off x="214200" y="1022400"/>
            <a:ext cx="43196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3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7" name="Picture 5" descr="NZ007"/>
          <p:cNvPicPr/>
          <p:nvPr/>
        </p:nvPicPr>
        <p:blipFill>
          <a:blip r:embed="rId2"/>
          <a:stretch/>
        </p:blipFill>
        <p:spPr>
          <a:xfrm>
            <a:off x="214200" y="1046160"/>
            <a:ext cx="417672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Nelson Zamorano</cp:lastModifiedBy>
  <dcterms:modified xsi:type="dcterms:W3CDTF">2010-06-26T02:03:01Z</dcterms:modified>
  <cp:revision>98</cp:revision>
  <dc:subject/>
  <dc:title>Introducción a la Física Newtoniana </dc:title>
</cp:coreProperties>
</file>