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2189-A41C-4CAC-9D7E-3034A8B32CC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61A3-15E2-4E95-995E-DAD7DE3DA25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387F-94E5-4CA3-A0D9-C03C9E99516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72BA-D1B6-4B68-B38B-EABC0080156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A798-7789-467C-90CF-7C5D16D9DA6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B8BD-D72F-4D77-B084-4AD3D8AF23D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A7A8-6DB1-4874-82EB-F0817CDCB89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90D5-59A6-448B-8192-ABF560B44FC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5EEE-CEE7-4ADE-84D6-D23B2E9DB52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C7F2-E1E9-4239-9FD0-E517376359B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BF94-9325-418F-A1B4-20C56754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9747-ED89-4474-AE33-8911815E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0A95-3630-4C2E-B1AB-8E5CAA62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4156-CA4E-47E6-B35B-B21A48A4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62EA-764C-4567-B951-0F39A7E8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74B5-105B-4567-A7FB-22D8504F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9251-E018-46D3-AA8E-36D6AAD1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1B3B-822A-41BA-AEC1-7A9E0ECC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B55A-8E46-4742-BFE7-61A75A20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BA40-286D-4A81-B5AA-50390D21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FF07-AAC1-4791-9B96-EB43E0AD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2F59-6810-4919-9CF4-E01CECAC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E9C8-DE9C-49D7-8351-B219413AA42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136440" y="1062000"/>
            <a:ext cx="429264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429264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147600" y="1012680"/>
            <a:ext cx="4281480" cy="56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147600" y="1057320"/>
            <a:ext cx="428148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208080" y="1096920"/>
            <a:ext cx="429264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208080" y="1073160"/>
            <a:ext cx="42926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9" name="Picture 7" descr="C:\Documents and Settings\Nelson Zamorano\Escritorio\Torque\3.jpg"/>
          <p:cNvPicPr/>
          <p:nvPr/>
        </p:nvPicPr>
        <p:blipFill>
          <a:blip r:embed="rId2"/>
          <a:stretch/>
        </p:blipFill>
        <p:spPr>
          <a:xfrm>
            <a:off x="-7353360" y="-11904840"/>
            <a:ext cx="4292640" cy="5618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3"/>
          <a:stretch/>
        </p:blipFill>
        <p:spPr>
          <a:xfrm>
            <a:off x="208080" y="1025640"/>
            <a:ext cx="429264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3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2"/>
          <a:stretch/>
        </p:blipFill>
        <p:spPr>
          <a:xfrm>
            <a:off x="142920" y="1071720"/>
            <a:ext cx="429264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27T01:13:07Z</dcterms:modified>
  <cp:revision>95</cp:revision>
  <dc:subject/>
  <dc:title>Introducción a la Física Newtoniana </dc:title>
</cp:coreProperties>
</file>