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0797-9AFE-47CE-951B-90A801B7EF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EE71-4DDC-413F-B4F0-8F2387AAEA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84F2-507F-41ED-8C8F-A2840E29CC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CE81-4D5A-45F5-9DCB-717D621047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6729-A2A4-4B5D-9A39-215E8FFF6D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D67E-80D0-4661-B4B4-8610E1B362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644E-4831-4B0F-8EF9-13A122A4F4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33C-EB27-4819-A557-9E9E731B0D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6366-4778-4927-8429-AD7CC8F628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EBA0-345A-4AC7-92CC-F643F5EC68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D54-AD68-4BE0-BEBB-BF52DAD0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395-B939-47A2-88DE-4AD138AD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CA6-4973-4250-8938-4B9A626F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C55-48AA-4363-83C3-4108ECD0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00D-4CB2-45F4-B1FF-E23F330C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7A6-B37C-499E-B516-6A0BE8C0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58F-A02C-488C-9E8A-A49B6DDD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06B-2694-45F0-8A95-A841EF79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89B-1EBD-43D7-837D-06B81274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05B-FAAE-40BF-8EFA-504E850D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B2B-23BD-43F6-8EDD-6205F1F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3A6-04D1-4F01-A63F-16C7034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DBF-C039-4094-A02E-FB0E57F3FD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147600" y="1012680"/>
            <a:ext cx="428148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147600" y="1057320"/>
            <a:ext cx="4281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08080" y="109692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0808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7" descr="C:\Documents and Settings\Nelson Zamorano\Escritorio\Torque\3.jpg"/>
          <p:cNvPicPr/>
          <p:nvPr/>
        </p:nvPicPr>
        <p:blipFill>
          <a:blip r:embed="rId2"/>
          <a:stretch/>
        </p:blipFill>
        <p:spPr>
          <a:xfrm>
            <a:off x="-7353360" y="-11904840"/>
            <a:ext cx="4292640" cy="5618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20808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142920" y="1071720"/>
            <a:ext cx="429264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13:07Z</dcterms:modified>
  <cp:revision>95</cp:revision>
  <dc:subject/>
  <dc:title>Introducción a la Física Newtoniana </dc:title>
</cp:coreProperties>
</file>