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5172-1944-437F-84EE-8FA837D2533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7D97-B0E8-4D8B-B408-895ACE1089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CC26-50A8-4083-A37D-38764F938CD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4CBE-60A2-4E41-BE00-B5AAE57A4F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CC8C-99C0-4803-AD1A-8412CFDF1F8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D51B-58F7-400E-B573-F1890DC0566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8352-CBD0-4A71-80CB-E871AA91D1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6249-0A94-4B9E-9426-8830D85C1C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2067-522D-4912-B3FD-29B2DF902D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DF33-CA3D-4BDE-82C7-380AC030D2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23A6-BA17-4146-8CF2-498E558E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4058-DB04-4556-ADDE-911FE68E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9FE7-8696-4CAD-84EE-382D18CA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694-43E4-46C5-9C47-F418C1CD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3C94-3605-4D1A-A0FB-1AF38B36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CFC-9B34-4BFE-B834-875FF092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8EBE-05A5-492F-9610-784CF690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00D-C153-4848-9F2E-7803001D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A737-8FB4-4B41-B8E2-31D3AA24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466-7CCC-4010-ACFF-864C03DB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8429-9908-49C7-A97C-F19F3B7A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036-EB0D-468C-A12A-8EE2FBE8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793B-A056-4B35-8115-470B7B13624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136440" y="1062000"/>
            <a:ext cx="4292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429264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147600" y="1012680"/>
            <a:ext cx="4281480" cy="56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147600" y="1057320"/>
            <a:ext cx="42814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08080" y="1096920"/>
            <a:ext cx="429264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08080" y="1073160"/>
            <a:ext cx="42926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7" descr="C:\Documents and Settings\Nelson Zamorano\Escritorio\Torque\3.jpg"/>
          <p:cNvPicPr/>
          <p:nvPr/>
        </p:nvPicPr>
        <p:blipFill>
          <a:blip r:embed="rId2"/>
          <a:stretch/>
        </p:blipFill>
        <p:spPr>
          <a:xfrm>
            <a:off x="-7353360" y="-11904840"/>
            <a:ext cx="4292640" cy="5618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208080" y="1025640"/>
            <a:ext cx="429264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142920" y="1071720"/>
            <a:ext cx="429264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27T01:13:07Z</dcterms:modified>
  <cp:revision>95</cp:revision>
  <dc:subject/>
  <dc:title>Introducción a la Física Newtoniana </dc:title>
</cp:coreProperties>
</file>