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5A3-3243-458F-8677-E770AEAF9F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3F4C-9009-423E-9E87-F8CA5E6DE7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A3D-251D-4DFF-9B39-0BF01B9BFE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C09B-61B2-4EE5-AE33-D2EEC4A66E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FC4F-742B-49AC-B743-0E27BBB739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52F4-56FD-4E15-9528-A9918E9910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1E15-A43B-49B0-94A7-B37D80D92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CD1D-E9AE-45F2-8B01-3BF6CF1008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FD9-8F07-4F7A-917F-A8A3CC663A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D23-C74B-4DC3-9F9E-63BD8CC3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3F6-277A-46B4-9F18-969E95D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E35-C842-456D-8EBF-F276899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5F6-4370-4102-B137-43D7D664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7DE-DA82-4E6F-8B44-B7F372AC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165-BAAB-47BE-9C41-8ECA8A1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B48-9696-4323-94D8-EF73584A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7DB-D88E-4728-8344-465EFEC3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0AB-3CE3-4640-B19A-EE12A98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EFD-7693-44FD-BA96-0D20E12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5B6-8F5C-4CD5-8769-572CC4D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090-950E-4C27-A384-080D718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F9E5-013D-4337-8B94-583CF75911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1162080" y="1928880"/>
            <a:ext cx="6267240" cy="33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Una variación acerca del problema 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a 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Énfasis en lo que se denomina fuerzas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tiva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Teorema del Trabajo y la energía)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mplo de fuerza no conservativa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Fricció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926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219240" y="984240"/>
            <a:ext cx="41385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36440" y="857160"/>
            <a:ext cx="4292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231840" y="1068480"/>
            <a:ext cx="4054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74760" y="1090440"/>
            <a:ext cx="40543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24:17Z</dcterms:modified>
  <cp:revision>94</cp:revision>
  <dc:subject/>
  <dc:title>Introducción a la Física Newtoniana </dc:title>
</cp:coreProperties>
</file>