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56DA-64B4-4529-932E-4FEC9713E2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9AD6-89CF-4113-85DA-B4474B6359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8DB6-E26F-4B78-994F-0A134705DF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39B5-871D-492F-A0E0-7650CDEB78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2768-6463-46B5-A726-39300DE598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1E61-44A8-4EFE-9EBE-054558E023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2452-4B18-401E-9CAB-699730B578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9E7F-E70C-4A8F-913F-E5D61E61BD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25B5-4BB6-439B-A7AC-BDEAC2253F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BFA-3FCE-41CE-ADD6-60D3CF4D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104-0990-4E69-8EB7-4C612C6F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909-B656-4832-9375-3FC81702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DF9-94BC-4EC9-974B-0ADD549C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3E5-2F4B-4E80-81D8-9FFC0BB2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169-DE7C-457B-8788-AFE204A3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B65-2EE4-457C-9D9D-592356FB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3C1-D22C-4D24-A9DE-09FC168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C36-AEE8-4FA0-ACAA-A91A342D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C54-682B-4642-99BB-123F5A8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705-43FD-40BC-9806-8756ACA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B9A-EC7C-4959-A8F3-66179B42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0EC0-F810-4A17-A0E8-622A61DC5C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6 CuadroTexto"/>
          <p:cNvSpPr/>
          <p:nvPr/>
        </p:nvSpPr>
        <p:spPr>
          <a:xfrm>
            <a:off x="1162080" y="1928880"/>
            <a:ext cx="6267240" cy="33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Una variación acerca del problema de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a conservación de la energ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Énfasis en lo que se denomina fuerzas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onservativas.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(Teorema del Trabajo y la energía)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Ejemplo de fuerza no conservativa: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                         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Fricción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14200" y="857160"/>
            <a:ext cx="429264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219240" y="984240"/>
            <a:ext cx="41385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36440" y="857160"/>
            <a:ext cx="42926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231840" y="1068480"/>
            <a:ext cx="40543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374760" y="1090440"/>
            <a:ext cx="40543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24:17Z</dcterms:modified>
  <cp:revision>94</cp:revision>
  <dc:subject/>
  <dc:title>Introducción a la Física Newtoniana </dc:title>
</cp:coreProperties>
</file>