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0C0E-6D98-4A1E-879D-0C13536C12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A68F-CFC6-4460-80C8-7A7CD8AE43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E4B9-5BEE-45A3-B45D-0B3458DE313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CACE-178E-42F0-B759-EB3BC3BB95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30C-40EE-4230-BC01-2FFC32D5B7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FC42-7745-46B2-BF3A-44D20AC6EF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1927-A2AD-4BF7-B933-A377CF399CB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640F-CF6B-4F1F-A593-16651681C6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5853-3810-4AE7-A9E9-654D32DA25B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46D-115A-4889-9536-D7AEDD68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92C-C4C4-49F3-BB2B-982F9056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69D-EBCA-4F02-AA95-5CB7604E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9A1-B502-4E8A-942C-06C8FDA2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C08-3500-4524-870E-ECE3F028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50F-0528-47C1-808C-189D1AA4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6DD-2C57-4051-B3AD-398FC93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8AA-3892-4F19-A6A2-A4BBF6B6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EE8-94AD-4549-A3D2-709A13B3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A4AD-13D6-4E27-B915-8FF8E52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5C5-7F5F-42E8-972E-894B8F6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91C-0DA2-4EB6-B7DC-995475C8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8F8-0CB3-40CA-86ED-94663FD7429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1162080" y="1928880"/>
            <a:ext cx="6267240" cy="33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Una variación acerca del problema de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a 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Énfasis en lo que se denomina fuerzas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tivas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(Teorema del Trabajo y la energía)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mplo de fuerza no conservativa: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                       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Fricción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429264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219240" y="984240"/>
            <a:ext cx="41385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36440" y="857160"/>
            <a:ext cx="42926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231840" y="1068480"/>
            <a:ext cx="4054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374760" y="1090440"/>
            <a:ext cx="40543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24:17Z</dcterms:modified>
  <cp:revision>94</cp:revision>
  <dc:subject/>
  <dc:title>Introducción a la Física Newtoniana </dc:title>
</cp:coreProperties>
</file>