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01D4-59C1-4495-9D98-5EAA99DC8C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36CA-DCE3-4804-BEA1-42E4462EB30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E24A-C527-4E9B-AEEA-6CF02E6F4F1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6674-683F-46F3-AD86-19FE6F4A35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4200-1FD0-4836-857E-55CE920C97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962F-7E29-4230-8D1C-E6EBD7B809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D150-F160-42BB-9F48-385124E1E35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3B1D-1A27-475F-8994-7CB9A08161C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69AC-339B-41A2-A177-C21C9EA3E4F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3E2-3274-4EF6-925F-933A0343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DBC-6E8C-4298-AD42-99E99939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A8C-9BC7-444C-9E3E-E7C73636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1826-A4EB-4A52-94B2-D8C40FE6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C14-1236-48FA-B092-BC32948E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A691-9046-441B-A0E3-779C4A3C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D50-3D4B-4AF8-B798-2840F065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AD1-4978-48E6-AAE0-8BB9B75C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CBA-80AB-462E-9F77-4CE73757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F0C-BEDE-4253-8C7B-E02AA1E5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90B-6E8F-4FF9-9E1C-B7660B80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33C-11E4-4B66-9792-0AFB396B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8138-61EE-4654-B91D-9E1B4507C1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" name="6 CuadroTexto"/>
          <p:cNvSpPr/>
          <p:nvPr/>
        </p:nvSpPr>
        <p:spPr>
          <a:xfrm>
            <a:off x="1162080" y="1928880"/>
            <a:ext cx="6267240" cy="33858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Una variación acerca del problema de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la conservación de la energía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Énfasis en lo que se denomina fuerzas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Conservativas.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(Teorema del Trabajo y la energía)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Ejemplo de fuerza no conservativa: 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                                                  </a:t>
            </a:r>
            <a:r>
              <a:rPr b="1" lang="es-ES" sz="2400" spc="-1" strike="noStrike">
                <a:solidFill>
                  <a:srgbClr val="ff0000"/>
                </a:solidFill>
                <a:latin typeface="Verdana"/>
              </a:rPr>
              <a:t>Fricción</a:t>
            </a:r>
            <a:endParaRPr b="0" lang="en-US" sz="2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3"/>
          <p:cNvSpPr/>
          <p:nvPr/>
        </p:nvSpPr>
        <p:spPr>
          <a:xfrm>
            <a:off x="0" y="78588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214200" y="857160"/>
            <a:ext cx="429264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"/>
          <p:cNvSpPr/>
          <p:nvPr/>
        </p:nvSpPr>
        <p:spPr>
          <a:xfrm>
            <a:off x="0" y="85716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2"/>
          <a:stretch/>
        </p:blipFill>
        <p:spPr>
          <a:xfrm>
            <a:off x="219240" y="984240"/>
            <a:ext cx="41385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78588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136440" y="857160"/>
            <a:ext cx="429264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231840" y="1068480"/>
            <a:ext cx="405432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374760" y="1090440"/>
            <a:ext cx="405432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6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7T01:24:17Z</dcterms:modified>
  <cp:revision>94</cp:revision>
  <dc:subject/>
  <dc:title>Introducción a la Física Newtoniana </dc:title>
</cp:coreProperties>
</file>