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5A7-DB59-4290-8AB6-940F1F1103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D59-46E4-4285-82E0-00D750B204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649-1672-4414-BD1C-178C349591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21BC-76D8-4287-BE57-32B5E8CE23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703-F0DD-46B0-A5D8-C1CDA45DC9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7E2A-C221-4A74-BD19-7F5595C433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45A-E21D-4E21-ADA6-B235F85384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44B2-7F69-4427-87F2-40E86776DA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35B5-CFB7-407F-B30E-B1CD593FE9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C32-EA81-4152-A771-DD8587C409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88C-82B7-4DB5-9804-7EC95152D6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A49-6C02-4660-BB43-6E69E491BB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6407-0DAA-4592-A116-DC3CE6C9EB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77D-A93D-4E5A-AAC3-3E3BE8DE2E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AD3C-C662-4B75-9A02-294C0E0207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6CB-BBFA-420F-A785-1A748BE217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204-08D0-444A-8493-FC81DD5217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9BE-13BE-4823-A632-C7BEE0A26F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8DF-7AF8-4354-8A78-EF54D0383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EFF1-01DC-4F70-A61F-458FE27AB1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CB5-8D7C-4D35-BC8D-E977473D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2D5-C74A-4231-85FE-A0C2B5C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439-0841-4808-A1D4-2BB00D11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9DD-6F3A-4B3B-A5D3-89373AE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29A-FB3E-4E05-A4BC-394848E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0B8-12BE-48C4-8C9B-30DC57C4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886-F2B6-424F-A789-E420196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3E5-5393-4C8D-B162-1313FB7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B73-475B-440D-83AF-448FE4B2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F09-5247-4BD7-8E24-D8D491F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76F-CF45-46DD-AFA9-4C6DBBC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B3C-DF09-48BC-8E50-6B0F0FA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DB2-A8CE-4C6A-9FC2-B5D811E6A3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42920" y="1150920"/>
            <a:ext cx="42926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19240" y="1039680"/>
            <a:ext cx="4281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08080" y="1084320"/>
            <a:ext cx="42926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08080" y="109224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1069920"/>
            <a:ext cx="4292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1432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08080" y="10206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12860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0:38:00Z</dcterms:modified>
  <cp:revision>91</cp:revision>
  <dc:subject/>
  <dc:title>Introducción a la Física Newtoniana </dc:title>
</cp:coreProperties>
</file>