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7B23-7A9F-4653-B008-318A050382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79A3-469F-49FF-86E9-03312D213D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BD08-21C4-4B2A-9DFD-2266D8BB6E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55D8-A481-4F49-BB93-704C18B3D68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FAFF-99E6-4143-B10F-835A04FBA4E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5C22-B97C-4BD9-A86D-BEAD599267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D250-96D8-4ED9-8042-070732567B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81BC-0D15-434D-B75A-B73AF9F0C5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D892-AA73-488C-BB8D-3CA234B7C3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104A-9BF1-4DB5-BA02-A7EDAD481A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1CB0-D63D-4380-82E2-32A7373D024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4B3E-6855-4624-BE3F-5F9D0FD2FC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3F09-E331-49D1-BB8D-33A8AA3F98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1A59-BC27-41AF-A3CE-C1FFECA981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7735-D817-4DA6-BC04-0A2250310B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61B3-2C38-40A0-A6B8-574766FC8A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0178-5DAF-4BEA-AFEB-0BC2F214A0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6773-E77C-45B4-B5DA-3FD9959D96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B2FD-28B9-4F17-B7DA-2738BD79306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5C05-1188-46EB-BCA1-82B02FD2DC2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2118-4495-4CD4-A9A4-62298790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DC48-8C7B-434F-9DCF-F7780D03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F2B4-6D2D-43EF-9CAA-ABEA5B8B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C89B-B837-461C-AAEC-27D61782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4429-A8BD-4D4B-83A0-B3B2B52C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EFA-CEA1-4082-A643-7A92FD07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C80C-D423-4273-A3E9-E269575B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6148-AF0B-4E91-8310-7C269D7B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947-BBB6-485E-AD24-B43DE19F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D881-B087-431B-891A-75DB1CF1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500A-9147-4960-A56C-2DDCFFFE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A0D-48D3-4256-B33A-6E637FF9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819F-770D-4F94-B8CB-9644C7FAA08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142920" y="1150920"/>
            <a:ext cx="429264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219240" y="1039680"/>
            <a:ext cx="4281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36440" y="1006560"/>
            <a:ext cx="429264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208080" y="1084320"/>
            <a:ext cx="429264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208080" y="1092240"/>
            <a:ext cx="429264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208080" y="1143000"/>
            <a:ext cx="429264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136440" y="1069920"/>
            <a:ext cx="429264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208080" y="1143000"/>
            <a:ext cx="429264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285840" y="1000080"/>
            <a:ext cx="414324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2"/>
          <a:stretch/>
        </p:blipFill>
        <p:spPr>
          <a:xfrm>
            <a:off x="136440" y="1073160"/>
            <a:ext cx="42926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208080" y="1020600"/>
            <a:ext cx="429264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08080" y="1128600"/>
            <a:ext cx="429264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136440" y="1047600"/>
            <a:ext cx="429264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136440" y="1062000"/>
            <a:ext cx="4292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36440" y="1025640"/>
            <a:ext cx="429264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36440" y="1073160"/>
            <a:ext cx="42926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26T00:38:00Z</dcterms:modified>
  <cp:revision>91</cp:revision>
  <dc:subject/>
  <dc:title>Introducción a la Física Newtoniana </dc:title>
</cp:coreProperties>
</file>