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7415-2B8A-48F4-8F4A-F0BE810815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59B1-D05B-4EEA-B809-67883109C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36F-AFF9-4098-A0B9-5812590CD1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6D2-549E-488D-818B-1AC242C02B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12D1-9C81-448D-B538-49AF8309B6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62C4-DAF7-4031-9390-40C0BB16B2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160-3500-46D0-97D4-A5F6934DD8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FD4-E3A6-4EDD-A5F3-1E9DCA9576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F3FE-0B1B-4032-8D24-02132AEBAA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70CD-61B3-4219-A01A-755E1609E2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72D-5F80-4E26-920F-8697473374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FE6-5494-4EAA-93D4-83D1181A22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1A68-E210-4BD1-AB85-37C94E82CC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633-7921-4779-BE1B-2BF41C35A8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600-8588-4B53-BB45-164617DC6E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78F8-F738-4435-9B23-02F35161D9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E021-F0F0-4531-85E3-7DA03105DB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230-33A1-4171-B3E2-A197071A01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7E2-5786-48A4-9E3A-B7CA45AE5B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DCF-78E4-4BFA-B374-A2CB96537F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0DF-366F-43F7-B4DF-1439931E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052-A463-4C8D-AAB1-D424400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976-D1F1-409B-8C31-AA3BAC36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DC3-6CE4-4F02-8E0E-9F99934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FB3-0504-4779-B84C-DA4C889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266-CB26-4788-AC24-2A38BB1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514-1885-4BFA-A211-8B8A7C6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347-BCC4-4597-BB84-F0F1709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7A5-A41B-4772-9F1F-040FE23D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ED1-8296-488B-A284-AD03149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2E5-7BC1-4D5B-8C1D-9581304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CC8-8858-4E9A-BDD0-85178D08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09BE-F1B9-4AA7-BBBC-97BF028105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42920" y="1150920"/>
            <a:ext cx="42926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19240" y="1039680"/>
            <a:ext cx="4281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08080" y="1084320"/>
            <a:ext cx="42926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08080" y="109224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1069920"/>
            <a:ext cx="4292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8080" y="11430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1432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08080" y="1020600"/>
            <a:ext cx="42926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08080" y="112860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136440" y="106200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1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3644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0:38:00Z</dcterms:modified>
  <cp:revision>91</cp:revision>
  <dc:subject/>
  <dc:title>Introducción a la Física Newtoniana </dc:title>
</cp:coreProperties>
</file>