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2B1-5299-465F-B778-8893EFBCE3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824-CCB6-4161-89B0-17B624CD34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86C-8472-4760-B4F7-C64F42F67A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2D6-51EC-4637-8E09-4E424E2993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5DFF-4009-4226-A894-7DFC460510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2301-68EF-4136-8251-EE19EC8020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2FB-FD1F-41F5-8207-45C14010D0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CC13-1386-4E29-A4F4-48B1CBAFB9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DE20-8776-4004-B82A-BF98AACDE2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11E-4554-4C82-8E82-241DA3A5C0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2CC-52B4-49A5-BE14-267A25C402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48B-2DE6-4745-89E1-66FB3E52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75F-131D-4F68-B271-347F8A86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64C-729C-4847-B132-1E1EA8AB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FB7-19CB-4873-B6F2-09C2B20B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4AB-DCE8-4591-845B-2FDFA3F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EA3-0657-469F-AEFE-9B6899A9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0AE-357C-4CF8-8E0D-6EFE6EF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1A0-58CF-4E2F-81AF-73C5AF1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5BC-A15C-43F7-B934-B30BE71C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6A0-99E5-49EC-97FC-CC3D0B6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B99-B42F-4E10-965C-7CBBD02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135-47E0-454A-8268-867A853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1C71-757D-4B00-964F-7F09BC851C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772480" cy="14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54" name="8 CuadroTexto"/>
          <p:cNvSpPr/>
          <p:nvPr/>
        </p:nvSpPr>
        <p:spPr>
          <a:xfrm>
            <a:off x="1108440" y="1557360"/>
            <a:ext cx="754308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ebió ser el problema #13 de la Guía #8, donde se repitió el problema #5 por err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9 CuadroTexto"/>
          <p:cNvSpPr/>
          <p:nvPr/>
        </p:nvSpPr>
        <p:spPr>
          <a:xfrm>
            <a:off x="4643280" y="3716280"/>
            <a:ext cx="3673800" cy="52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olución que se incluye a continuación corresponde a este probl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34920" y="968400"/>
            <a:ext cx="44658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7" name="Picture 2" descr="G:\mis documentos-2010\Int. a la Física\2009-FI-100\Clases\Tres Ejplos-dinamica-choques\NZ(18-06-08)\NZ_2.jpg"/>
          <p:cNvPicPr/>
          <p:nvPr/>
        </p:nvPicPr>
        <p:blipFill>
          <a:blip r:embed="rId2"/>
          <a:stretch/>
        </p:blipFill>
        <p:spPr>
          <a:xfrm>
            <a:off x="128520" y="1052640"/>
            <a:ext cx="43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2" descr="G:\mis documentos-2010\Int. a la Física\2009-FI-100\Clases\Tres Ejplos-dinamica-choques\NZ(18-06-08)\NZ_3.jpg"/>
          <p:cNvPicPr/>
          <p:nvPr/>
        </p:nvPicPr>
        <p:blipFill>
          <a:blip r:embed="rId2"/>
          <a:stretch/>
        </p:blipFill>
        <p:spPr>
          <a:xfrm>
            <a:off x="123840" y="1052640"/>
            <a:ext cx="4473720" cy="5668920"/>
          </a:xfrm>
          <a:prstGeom prst="rect">
            <a:avLst/>
          </a:prstGeom>
          <a:ln w="0">
            <a:noFill/>
          </a:ln>
        </p:spPr>
      </p:pic>
      <p:sp>
        <p:nvSpPr>
          <p:cNvPr id="74" name="7 CuadroTexto"/>
          <p:cNvSpPr/>
          <p:nvPr/>
        </p:nvSpPr>
        <p:spPr>
          <a:xfrm>
            <a:off x="5546160" y="1989000"/>
            <a:ext cx="14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Problema #9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Guía 8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5" name="9 Conector recto"/>
          <p:cNvSpPr/>
          <p:nvPr/>
        </p:nvSpPr>
        <p:spPr>
          <a:xfrm>
            <a:off x="250920" y="1197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1 Conector recto"/>
          <p:cNvSpPr/>
          <p:nvPr/>
        </p:nvSpPr>
        <p:spPr>
          <a:xfrm>
            <a:off x="250920" y="126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G:\mis documentos-2010\Int. a la Física\2009-FI-100\Clases\Tres Ejplos-dinamica-choques\NZ(18-06-08)\NZ_4.jpg"/>
          <p:cNvPicPr/>
          <p:nvPr/>
        </p:nvPicPr>
        <p:blipFill>
          <a:blip r:embed="rId2"/>
          <a:stretch/>
        </p:blipFill>
        <p:spPr>
          <a:xfrm>
            <a:off x="108000" y="1125360"/>
            <a:ext cx="445284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85928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2" descr="G:\mis documentos-2010\Int. a la Física\2009-FI-100\Clases\Tres Ejplos-dinamica-choques\NZ(18-06-08)\NZ_5.jpg"/>
          <p:cNvPicPr/>
          <p:nvPr/>
        </p:nvPicPr>
        <p:blipFill>
          <a:blip r:embed="rId2"/>
          <a:stretch/>
        </p:blipFill>
        <p:spPr>
          <a:xfrm>
            <a:off x="82440" y="1125360"/>
            <a:ext cx="4613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G:\mis documentos-2010\Int. a la Física\2009-FI-100\Clases\Tres Ejplos-dinamica-choques\NZ(18-06-08)\NZ_6.jpg"/>
          <p:cNvPicPr/>
          <p:nvPr/>
        </p:nvPicPr>
        <p:blipFill>
          <a:blip r:embed="rId2"/>
          <a:stretch/>
        </p:blipFill>
        <p:spPr>
          <a:xfrm>
            <a:off x="179280" y="981000"/>
            <a:ext cx="4329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3" descr="G:\mis documentos-2010\Int. a la Física\2009-FI-100\Clases\Tres Ejplos-dinamica-choques\NZ(18-06-08)\NZ_7.jpg"/>
          <p:cNvPicPr/>
          <p:nvPr/>
        </p:nvPicPr>
        <p:blipFill>
          <a:blip r:embed="rId2"/>
          <a:stretch/>
        </p:blipFill>
        <p:spPr>
          <a:xfrm>
            <a:off x="179280" y="981000"/>
            <a:ext cx="41767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7640" y="1461960"/>
            <a:ext cx="7823160" cy="218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2709720" cy="119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539640" y="5157720"/>
            <a:ext cx="78994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5"/>
          <a:stretch/>
        </p:blipFill>
        <p:spPr>
          <a:xfrm>
            <a:off x="4564080" y="3429000"/>
            <a:ext cx="2816280" cy="1806480"/>
          </a:xfrm>
          <a:prstGeom prst="rect">
            <a:avLst/>
          </a:prstGeom>
          <a:ln w="0">
            <a:noFill/>
          </a:ln>
        </p:spPr>
      </p:pic>
      <p:sp>
        <p:nvSpPr>
          <p:cNvPr id="109" name="10 CuadroTexto"/>
          <p:cNvSpPr/>
          <p:nvPr/>
        </p:nvSpPr>
        <p:spPr>
          <a:xfrm>
            <a:off x="510840" y="1197000"/>
            <a:ext cx="2100960" cy="30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blema #11, Guía #8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654480" y="4653000"/>
            <a:ext cx="2100960" cy="30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blema #15, Guía #8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6-21T01:00:24Z</dcterms:modified>
  <cp:revision>76</cp:revision>
  <dc:subject/>
  <dc:title>Introducción a la Física Newtoniana </dc:title>
</cp:coreProperties>
</file>